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79C-575E-4773-BFA9-EACB643D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837-5307-4AE1-8BB3-21D8634C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417-B119-4456-A71E-5946C59A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5C8-A1F6-44FF-B163-9091E7AF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444-427F-4594-9179-7CD8700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E22-5105-4219-A650-54F4A1D0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ECA-B9FC-412D-98B6-1F46013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2A2-F4D9-4224-9708-4BA4D81D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F31-658C-4D9B-8EBB-5475021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F43-6F11-4373-AE26-7CE3399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54A-2B77-4879-BCBE-F94BD25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D7A-02B8-4F6F-8F21-6BA1E3D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02E-A857-4D48-B0A3-07FB3ED4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osai.org/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ešojo administravi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os audito speci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ait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ofesorius Stasys Pušk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ateginio valdymo ir politikos fakult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ldymo teorijos kate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703-B7BB-4F9E-911A-E55B09EE45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ų, taikomų atliekant konkrečios institucijos veiklos auditą, atranka ir jų pagrind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2. Teoriniai rizikos veiksnių analizės aspektai atliekant vidaus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3. Teoriniai rizikos veiksnių analizės aspektai atliekant išorės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4. Rizikos veiksnių vertinimai atliekant vidaus auditą konkrečioje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5. Rizikos veiksnių vertinimai atliekant išorės auditą konkrečioje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716-AA15-4057-8E7E-C7E936D9E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6. Konkretaus departamento, skyriaus, viešosios ar privačios įstaigos, savivaldybės ar kitos institucijos darbo organizavimo problemų tyr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7. Konkretaus departamento, skyriaus, viešosios ar privačios įstaigos, savivaldybės ar kitos institucijos atsakomybės paskirstymo tikslingumo vert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8. Konkretaus departamento, skyriaus, viešosios ar privačios įstaigos, savivaldybės ar kitos institucijos funkcijų paskirstymo racionalumo tyr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. Konkretaus departamento, skyriaus, viešosios ar privačios įstaigos, savivaldybės ar kitos institucijos vadovavimo stiliaus vert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95E-D227-4AA1-98EF-92378E29F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0. Konkretaus departamento, skyriaus, viešosios ar privačios įstaigos, savivaldybės ar kitos institucijos kvalifikacijos kėlimo analiz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1. Konkretaus departamento, skyriaus, viešosios ar privačios įstaigos, Konkretaus departamento, skyriaus, viešosios ar privačios įstaigos, savivaldybės ar kitos institucijos darbuotojų karjeros problemų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2. Konkretaus departamento, skyriaus, viešosios ar privačios įstaigos, savivaldybės ar kitos institucijos skatinimo ir nuobaudų taikymo proceso vertin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3. Konkretaus departamento, skyriaus, viešosios ar privačios įstaigos, savivaldybės ar kitos institucijos adekvataus darbuotojų atlyginimų nustatymo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4. Konkretaus departamento, skyriaus, viešosios ar privačios įstaigos, savivaldybės ar kitos institucijos lygių galimybių realizavimo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03B-06B3-473A-BA96-4D4B8E821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uja kontrolės for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ia viešojo sektoriaus institucij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atskirų sistemų ir visos valstybės veiklą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čia plačiąja prasme veiklos auditas yr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004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, ministerijų, departamen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viešojo sektoriaus institucijų valdy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0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inė analizė bei išvadų ir pasiūlym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šiuos kriterijus gerinti, reng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65E-EBE8-4E56-B673-C58EBF35D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nstitu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elyje šalių sukurtos specialios kontrolės instituci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57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uose departamentuose, organizacijo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igose, ministerijose įsteigti struktūriniai padalini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atlieka vidinio audito funkc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5268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kurtos specialios tarptautinės organizaci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anč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343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standart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nčios ir apibendrinančios sukauptą patirt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ekiančios suvienodinti taikomus požiūr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todus, modelius, procedūra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2D3-CE08-4B82-9329-DFC17AF57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ministracinės veiklos ekonomiškumo audit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ų organizacijų žmogiškųjų, finans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resursų analiz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4812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formacinių sistemų tyrinėjimą, veiklos pamatav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monitoringo tvarkymą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6252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os organizacijos veiklos veiksming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i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8A1-4DE1-42A7-BD09-DCA1829CEE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 skirias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niu (finansiniu, ekonominiu, valdymo, teisiniu ir įvairių šių veiksnių kombinacijomi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13372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leksiškumu (neretai veikla vykdoma dalyvauj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eliui organizacijų, atliekančių joms priskirtas funkcijas)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81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ėtingu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sąveikos, valdymo, atsakomybės neapibrėžtumu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384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otarpiu, per kurį šios funkcijos turi būti atlikto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648320"/>
            <a:ext cx="86868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ų įvairove (operatyvinių, taktinių, strategini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ų turiniu, jų struktūra, terminų gau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neretai sunkiai suderinami ir kitomis savybė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F0C-2A81-42FC-9901-258724F632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sa tai reikalauja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sukurti specialūs veiklos audito metod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81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čiai taikoma sisteminė analiz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ėtojama specifinė metodologija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8610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miamasi kokybiniais ir kiekybiniais duomeni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tinkamai apdoro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4340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pasirūpinta išvadų bei rekomendacijų patikimu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tikslumu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90C-6773-403C-BDBA-40838235A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oreikis atlikti audit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ų stagnacijos procesų atsirad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tebima veiklos ekonomiškumo, efektyv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/ar veiksmingumo stoka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718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gnozavimo ir planavimo kla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7339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dymo struktūrų gremėzdišku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unkcijų dubliavima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31F-7883-46A3-A96C-11EE489E86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oreikis atlikti audit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aitomybės ir atsakomybės spra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likimas nuo pasaulinių standart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1952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tyminės bazės neatitikimas šiuolaikiški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alavimam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3392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nkiai suprantamas lėšų panaudoj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č stambiu mas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kštų pareigūnų viešųjų ir privačių interes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erinimo tvarkos pažeidimai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36D-E340-492D-90E5-00BB647C96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audito teorija”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magistro studijų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tema. Veiklos audito kriter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 tema. Audito standar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 tema. Audito proc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 tema. Duomenų atranka ir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 tema. Matematinės statistikos pradme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 tema. Respondentų nuomonės atranka ir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 tema. Tarptautinės veiklos audito patirties apžval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 tema. ES šalių programų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517-6BC0-4B03-8763-F69E5A661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 tema. Veiklos audito kriteri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rindiniai kriterij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3E kriterija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24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as (Econom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7339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as (Efficienc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as (Effectivene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D36-6246-4889-BCA5-AE0E777A6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naudotų ištekl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e reikalin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am nors rezultatui gauti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200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inimizav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191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laikant tam tikrą to rezultato kokybę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E4A-6898-4151-9CF4-6689651F45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pageidautinų veiklos rezulta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panaudotų tiems rezultatams pasie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743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ompleksini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733920"/>
            <a:ext cx="8550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teklių, indėlių, kaštų bei kitų resurs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549-F475-4357-AABC-CF8B140418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fektyvumas verti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rbuotojų , vykdančių konkrečią užduotį, skaiči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26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rbo organizavimo aspekt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9625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ąveik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sursus ir kitus veiks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E33-66D0-491C-8993-6C0050B96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Veiksming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ai nustatytų tiksl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įgyvendinimo laips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733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naudoj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am tikrą išteklių kiek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91C-188C-4EAC-AAEA-5BE43B3F97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hierarc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ing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23520" y="1295280"/>
            <a:ext cx="297180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1295280"/>
            <a:ext cx="312444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5562360"/>
            <a:ext cx="61722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F55-B4F7-42F2-910F-0F10CD75AD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smingumo kriterij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kščiausio lygmens kriterij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133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 kiekvieno efektyvumo kriterijaus įtak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rezultata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ia efektyvumo kriterijų visumą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8098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a nustatytų tikslų pasiekimo laipsnį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767-964D-4E4F-A1E9-24B97E2E0D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rtinant veiksmingum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nustatyti ir kiekybiškai įvertinti rezul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514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iškiai suformuluoti tiks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ngti prieštaraujančių tiksl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339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i tikslus į uždavin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6708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erinti efektyvumo ir veiksmingumo kriterij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113-1CA8-4A6E-BF98-2656885A3C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33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tekliai ir sąnau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8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ersonalo išlaiky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625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Studentų išlaiky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80060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gistik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9132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Infrastruktūros plė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B09-0441-4BEC-93C5-E07DB69D2B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. Veiklos rūš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edagogi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Mokslin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9625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Metodi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483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Ūkinė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33412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Finansin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F7F-8DEA-499D-9770-92D1B06747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jarne Mork-Eiden. The Guidelines for Financial Auditing Office of the Auditor General of Norway. Riksrevision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Guide. Audit Manual. Financial Audit Process and Methods. Volume 1. Office of the Auditor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al of Norway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book in Performance Auditing: Theory and Practice. Second Edition. St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olm, Sweden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E6F-DC21-491D-AEFE-A9022BF40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smingumas. Rezultatai (išeig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arengti special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48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Mokslinė pro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8620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Metodinė pro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2428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Įdiegti moksliniai laimėji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864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Gautas finans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D39-F0A3-4526-B269-F60EF4DF98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 tema. Audito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a standartų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33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5m. Sidnėjuje nuspręsta sukurti atsk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standar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2680"/>
            <a:ext cx="8839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7m. parengti standartų projektai patvirt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TOSAI komiteto  ekspertų posėdyje London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9568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9m. šie standartai paskelbti kaip savarankiš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juo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komenduota taiky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221-895B-404D-A7B4-8A09561FDE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Standartų turin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Baziniai postul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Bendrieji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195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Darbo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5812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Ataskaitų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4BA-9D8E-4742-8359-2006FB7BA7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ėtų rūpintis, kad visais atvejais būtų atsižvelgiama į INTOSAI standart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ėtų atrinkti tik pritaikomus standar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954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remtis tik savo sprendim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8128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reigūnai ir organizacijos turi atsiskaityti u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šųjų resursų panaudoj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F2C-2697-49B2-8278-33F147DCE5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aitomybės procesas turi veikti efektyvi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a informacinės, kontrolės, vertini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ataskaitų sistemų plėtra valstybės mas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24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i atsako už finansinių ataskaitų ir kitos informac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rektiškumą, pakankamumą ir jų turin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8915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ingi pareigūnai turi užtikrinti finansinių ataskai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ndartų, atitinkančių valstybės poreikius, sklaid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tikrinamos organiz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sukurti specifinius ir pamatuojamus tiksl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DA6-0771-425B-B106-65C6B51AF3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3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8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isingas finansinių ir veiklos rezultatų pristatymas turi išplaukti iš nuoseklios tinkamų apskaitos standartų taiky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86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ekvačios vidaus kontrolės sistemos egzist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imizuoja klaidų ir įvairių pažeidimų tikimyb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76720"/>
            <a:ext cx="8839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tymai turi suteikti galimybę pasinaudo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iais duomeni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ais norint atlikti išsamų veiklos įvert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572000"/>
            <a:ext cx="8915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veiksmai neturi peržengti AAI įgaliojim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81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tobulinti veiklos pamatavimų pagrįstumo technik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vengti su tikrinama organizacija interesų konflikt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570-EA29-46AA-863D-1D03212A38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5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0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pildomos priemon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pildomų duomenų atran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atliekant kruopščios jų analiz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0481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formacijos teikimas apie institucijos misijos vykdy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6576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litikų ir kitų išrinktų valdžios atstov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iudžeto lėšų panaudojimo atvej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 administracinė veik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iuterinės inform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dorojimo technologijų analiz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B27-EE95-4A2D-9F13-B783CB3097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išvadų, rekomendacijų ir pasiūlymų pagrįstu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uždavinių analiz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apimties nustaty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sričių atran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procedūrų korektiškuma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o laikotarpio nustatyma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20E-398E-44B0-B329-B296F1DF49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3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I. Bendrieji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ndartų pogrup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etencija,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fesinis apdairu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ti bendrieji standart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52C-EBF9-43A3-A9D6-A5377E6D80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1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umas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varbiausias reikalavi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133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 nuo įstatymų leidžiančios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ykdomosios  valdži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004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 nuo politinės įtak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0384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“ne tik neturi reaguoti, bet ir sudaryti įspūd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reaguoja į tam tikrus politinius pageidavimus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būti aprūpinta reikiamais resursais ir lėšomi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DA4-02BE-4A97-BA6C-3281A27FF4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9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uidelines for Performance Auditing Standards. Draft. Standards and Guidelines for Performance Auditing based on INTOSAI’s Auditing Standards and Practical Experience. The Swedish National Audit Office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rdre O’Neill. Efficiency // International Encyclopedia of Public Policy and Administration Jay M. Shafritz (Editor in Chief).Westviev Press. A Division of Harper Collins Publishers, 1998, Vol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D2D-4BD5-4269-99A0-E6D0EA1FF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um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imtina, kai Seimas nu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imalius ataskaitų reikalav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akant klausimus, kuriuos reikia išnagrinė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ataskaitų parengimo termin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yra išorinis vyriausybės veiklos auditoriu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C49-D888-4B39-A1D1-EAE3EB099A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negali vykdyti kokių nors, priskirtų vyriausybei, funkcijų (64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yriausybė negali varžyti AAI įgaliojimų, įpareigo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ši institucija vykdytų jos direkty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keistų audito išvadas (65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8098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, duodama patarimus vyriausyb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pasirūpinti, kad šis proc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įtakotų jos nepriklausomumo (66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21-45FE-41FD-A043-B76710CC2D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lutinius sprendimus, ką būtent tikrinti atliekant auditą, priima AAI (67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t kokie nepagrįsti vyriausybės reikalavim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pribojimai, panaudojant AAI priskirt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būti skundžiami Seimui (69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73392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turėti pakankamas galias ga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tikrinamų organizacijų informac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esiogiai susijusią su audito tikslais (70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CDD-7EDB-4E20-B463-81684A4347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yriausybė turi leisti aukščiausiajai audito institucij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uti slaptą ar konfidencialią informac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ijusią su audito tikslų įgyvendinimu (71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48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vadovo kadencija neturi priklausy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 vyriausybės sprendimų (72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19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uomenė turi gerai suvo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priklausomumo statusą (74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8C2-956E-40E3-947E-04EA3A919D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3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kant paslaugas, įrangą, valdant priskirtą jai turtą, personalą ir p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turi priklausyti nuo vykdomosios valdžios.(75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privalo būti nepriklauso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 tikrinamos organizacijos (76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8862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turi dalyvauti tikrinamos organizacijos valdy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kitoje veikloje (78str.);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1055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personalas neturi instruktuoti tikrinamos organiz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sonalą, kaip jam reikia vykdyti savo funkcijas (80str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090-1134-4522-8ECF-72C235BB1E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mpetencija (str. 82-8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išvados ir sprendimai išreiškia AAI nuomon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8600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oma metodologija ir prakt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būti aukščiausios kokybė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4290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nustatyti patirties mąst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ą įgyvendinant priskirtus jai įgalioji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6483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išsilavinimas ir praktika turi atiti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imo uždavi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E3F-9218-4BB8-867B-F97FA11ACA7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7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2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AI turi apsirūpint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omis šiuolaikiškomis metodologijo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inėmis technologijomi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alitiniais analizės metod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tomatizuotų informacinių sistemų vertinimo būda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tistiniais duomenų atrankos metod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91B-7C0F-4F16-90E4-97D619CA86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4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ofesinis apdairumas (Due 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reiškia, kad A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valo būti ir atrodyti objekty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būti pasireng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idurti su pavojinga situaci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ntrolės trūkumai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ų ataskaitų nepakankamumu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A8F-C404-411A-B2FC-5DA240CB91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7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AI turi atsklei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gavys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tinkamas ar neteisėtas išlaid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sankcionuotas operacij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ėšų švaistymą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 ar sąžiningumo stok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BDB-87B9-4E81-AC0C-F75CCD9369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rofesinis apdairumas (Due Ca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spertai ar konsultantai taip pat turi būti profesionaliai apdairūs (92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atleidžiama nuo išorinių konsultan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ekspertų klaidų (93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5812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šalies pakviestiems auditoriams taikomi tokie p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ybės reikalavimai (94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87692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laikosi konfidencialumo reikalavim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.y. neatskleidžia gautos atliekant patikrinimą inform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95str.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C8E-8A49-42E0-8864-EEBC49C77B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0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5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0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5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0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5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ting Standards. Issued by the Auditing Standards Committee at the XIV-th Congress of INTOSAI in 1992 in Washington, D.C., United States as amended by the XV-th Congress of INTOSAI in 1995 in Cairo,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  Code of Ethics. Issued by the Auditing Standards Committee at the XVI-th Congress of INTOSAI in 1998 in Montevideo,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  Čekanavičius V. Murauskas G. Statistika ir jos taikymai. Vilnius, TEV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F6F-F561-4BFD-8E26-A460730FD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arbo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ieji darbo reikalavimai (str.13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auditorius turi taip suplanuoti savo darb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užtikrinta, jog bet koks auditas atlikt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9625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iu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181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eiksmingu būd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950-B1CC-4B7B-B89A-DBF8666DA3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o standar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auditorių darbas turi būti tinkamai prižiūr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protokolus turi tikrinti aukštesnis audito pareigū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nustatant audito mąstą ir sritį auditorius turi išnagrinė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įvertinti vidaus kontrolės rezultatų patikimu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80060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atliekant finansinį auditą turi būti įsitikin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laikomasi tinkančių šiam atvejui įstaty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reglament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169-2A16-4697-9F8C-81880AC8B7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7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2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ieji darbo reikalavi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įrodymai turi būti patikimi, kompetentingi ir pagrįsti, kurie remtų auditorių sprendimus ir išv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) būtina nustatyti, ar laikomasi finansinių pažeidi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leidimo standart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7242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) finansinių ataskaitų analizės mastas turi būti tok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galima tvirti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g gauti rezultatai leidžia išreikšti konkrečią nuomon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9F5-4339-458C-9C81-2BD0CA9CED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4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9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iami tokie etap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avi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vimas ir kontrol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itikimo įstatymams ir reglamentams nustatym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įrodymų paieš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inansinių ataskaitų analiz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AA3-35CF-4B2D-BFC6-C4D871AE6B9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1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i reikalavimai, planuojant audit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identifikuoti svarbius aplinkos aspek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išplėtoti atsakomybės santykių suvokim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nustatyti audito formą, turinį ir audito ataskaitų vartotoju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patikslinti audito tikslus ir tyrimus, kuriuos reikia atlikti;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identifikuoti pagrindines valdymo ir kontrolės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atlikti preliminarų tų sistemų funkcionavimo vertini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FA6-E454-4208-BD9F-6F696E5186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9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ndartų reikalavimai audito įrody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č kruopščiai turi būti pasirinkta duomenų atrankos ir jų apdorojimo techni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uomenys turi būti patikimi ir tiesiogiai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audito tikslų realizavim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114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būti puikiai įsisavinę tokius metod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inspekcija, stebėjimas, apklausa, patvirtin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BEC-E87B-479F-9376-35A7B44267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3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ndartų reikalavimai audito įrody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įsitikinti, kad, nustatant visas kiekybinių duomenų paklaidas ir nukryp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udojami metodai yra pakankami efektyvū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rodymai turi būti pagrįsti, kompetenting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esiogiai susiję su audito tiksl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kruopščiai protokoluoti audito įrodym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CA8-0C76-4BD7-8977-53FE60124DB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dokumentai atlieka tokias funkcij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patvirtina ir palaiko auditoriaus nuomonę ir pranešim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gerina audito efektyvumą ir veiksmingum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72428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yra informacijos šaltinis rengiant ataskait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tsakant į įvairius tikrinamos organizacijos užklausimu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851-B100-4E03-AC5A-01D1C63951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7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2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dokumentai atlieka tokias funkcij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parodo, kad auditorius laikosi audito standart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palengvina planavimą ir kontrol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) padeda auditoriams kelti kvalifikacij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267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) padeda įsitikinti, kad pavestas darb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as patenkinama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41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h) suteikia ateityje galimybę panaudoti atlikto darbo patirt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AC7-9645-4271-8911-C6F9BC2B7EC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9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4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irtumai tarp finansų ir veiklos audito ataskaitų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as aprėpia žymiai platesnį ratą klausim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uti rezultatai gali būti skirtingai interpretuoja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2670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atskaitos yra gana įvairi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e pateikiama daug diskutuotinų teig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pagrįstų argument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048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mos ne finansinių metų ataskai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aprėpiančios įvairios trukmės period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8B3-64D9-43DA-B922-BC0EF25B74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2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7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2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7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2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Vaclovas Lakis Audito sistema: raida ir problemos. Monografija, VU leidykla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Chambers A. Effective Internal Audits. Great Britain: Pitman Publishing, 19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 Guidelines for Internal Control Standartsfor the Public Sector: </a:t>
            </a:r>
            <a:r>
              <a:rPr b="0" lang="lt-L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tosai.org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(2006 06 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4B0-317B-4EBE-B0AB-8F3B7440B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išvados</a:t>
            </a: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idina visuomenės pasitikėjimą valdžios institucijo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tina aktyviai dalyvauti valstybės valdy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971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o nepalankias sąlygas korupcijai, kyšininkavim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iems neigiamiems veiksniam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2670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na socialinę aplinką visuomenė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E01-CBEB-4E1B-A734-BA29213521A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4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audito išvad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leidžia egzistuojančia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tina motyvaciją mokytis ir keist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na valstybės valdym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obulina administracinius valstybės tarnautojų gebėjimu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4C8-43E9-42AE-AD0F-D1DF42CD263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1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pamatavimai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nuolatinis monitoringo ir ataskaitų procesas, nukreiptas apibrėžtų tikslų įgyvendinimo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895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pamatavimai turi būti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įvykdytų programos veiksmų tipu ar ly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C7F-9110-42FA-A414-96FA7064C08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reiškia gautų rezultatų atitikimą programos tiksl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reikalavim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išankstinio valdymo, atskaitomybės visuomen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perspėjimo sistem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419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latinius veiklos pamatavimus gali atli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 vidaus auditori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9BE-293B-40BE-BB96-5B36DD24C8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0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0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Darbo organizavimo asp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rūpinimo darbo priemonėmis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o vietų tink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mandinio darbo galimybių realizavi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atsakingų vykdytojų ir pagalbinių darbuotojų optim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636-D132-4169-9423-B574EF82E7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Darbo organizavimo asp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o grafiko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dalinių vadovų ir vykdytojų dalyvavimo priimant sprendimus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dalinių vadovų ir vykdytojų dalyvavimo sudarant įvairius planus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imtų sprendimų įgyvendinimo organizavi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omų organizacijoje ir struktūriniuose padaliniuose kontrolės mechanizmų tiksling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571-3B1F-4C37-95AD-E9280931A3B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s, Jūsų nuomone, yra aprūpinimo reikalingomis darbo priemonėmis lygmuo? (5 bale sis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ų valdymo priemonių trūksta? (pasiūlyti varian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sudarytos tinkamos darbo sąlygos? (5 bale sis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taikomi komandinio darbo elemen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reikėtų keisti, kad komandinis darbas būtų efektyves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tikslingai nustatytas pagalbinių darbuotojų skaiči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reikėtų koreguoti atsakingų ir pagalbinių darbuotojų santyk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C81-E3FD-4268-9A8D-AAA4F8FADA4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5" dur="indefinite" restart="never" nodeType="tmRoot">
          <p:childTnLst>
            <p:seq>
              <p:cTn id="2376" dur="indefinite" nodeType="mainSeq">
                <p:childTnLst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 tikslingai reglamentuotas vadovų ir vykdytojų darbo grafik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reikėtų tą grafiką koreguo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Jūs dalyvaujate priimant sprendim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tsižvelgiama į Jūsų nuomonę priimant sprendim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sprendimų priėmimo procedūr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Jūs dalyvaujate sudarant strateginius (taktinius, operatyvinius) plan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planavimo procedūr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taikomi kontrolės mechanizmai racionalū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kontroliuojant vadovų ir vykdytojų darb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7BF-2E0B-48B3-B702-121FE74789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 tema. Audito proc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o probl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as gali būti  vidaus ir išor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ormuluojant vidaus audito problemas sieki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vardinti visas ar bent jau didžiąją tų problemų dalį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ti kuo daugiau organizacijos veiklos sričių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4864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itelkti kuo platesnį įvairių organizacijos specialis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vadovų ra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0DF-E57D-4E77-B4B7-EA253FFD9F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5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Formuluojant vidaus audito problemas sieki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i išryškintas problemas pagal jų priorite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657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ti vidaus auditorių ir ekspertų galimy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i norimą patikr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334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matyti laiką, lėšas ir kit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us norint atlikti kiekvienos veiklos rūšies audi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484-2471-4B7E-B8D9-670233F6F99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4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9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4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2. Puškorius Stas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: monograf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lnius: LTU L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0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52 p., 17 paveikslų, 32 lente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849-4F0F-4A7D-A447-D21897055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Formuojant išorės audito problemas tiksling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įvairių ministerijų, departamentų, siste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spragų sąraš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00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ti svarbiausias veiklos rūšis, kurios kelia abejonių dė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idr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59764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itelkti nepriklausomus eksper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užsienio specialis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DC8-B659-4A9B-9DB2-CAD0B0FF33D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5" dur="indefinite" restart="never" nodeType="tmRoot">
          <p:childTnLst>
            <p:seq>
              <p:cTn id="2576" dur="indefinite" nodeType="mainSeq">
                <p:childTnLst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1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6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6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iamos ypač aktualios probl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žvelgus į jų svarb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 prestižą, tarptautinius įsipareigoj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ukiamą efek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6576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us išorės auditorių, nepriklausomų ekspe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užsienio šalių specialistų galimy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i pageidaujamą audi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1055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mačius kiekvienos ministerijos, departamento, siste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trukmę, terminus, lėšas, resursu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E00-BF5F-40C9-8922-289EA580D49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aus audito problemų išryšk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inančios aplinkyb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maž apibrėžtas objektas, vykdantis tą ar kitą funkcij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nėtinai aiškios sąsajos tarp įvairių sistemos dali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03848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ai nustatomos atsakomybės, atskaitomybė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funkcijų paskirstymas nagrinėjamoje organizacijo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sistemoj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550-1462-4832-825C-CC94967941E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6" dur="indefinite" restart="never" nodeType="tmRoot">
          <p:childTnLst>
            <p:seq>
              <p:cTn id="2677" dur="indefinite" nodeType="mainSeq">
                <p:childTnLst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7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2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7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2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aus audito problemų išryšk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inančios aplinkyb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žnai žinomi organizacijos ar sistemos veiklos trūkum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9718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i supranta sis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zi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si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rateginio planavi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ą ir stengiasi jais vadovauti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244-A942-4F21-97F4-F12E0D6EB7C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4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4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9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4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slinant preliminariai suformuluotą problemą būt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tos problemos esm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ant ją į dalines problemas ar uždavin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yti sąsajas tarp apibrėžtų dalinių proble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uždavini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skirti funkcijas, atliekant ku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ėtų būti realizuoti norimi tikslai ir uždavini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929-842E-42F7-933C-D8ED168312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5" dur="indefinite" restart="never" nodeType="tmRoot">
          <p:childTnLst>
            <p:seq>
              <p:cTn id="2756" dur="indefinite" nodeType="mainSeq">
                <p:childTnLst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1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6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1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kslinant preliminariai suformuluotą problemą būt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rinkti padalinius ar sistemos dal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os vykdo šias funkcij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formuluoti preliminarias hipot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aiškinančias nepatenkin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mos veiklos rezultat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ibendrinus iškeltas hipotezes apibrėžti audito proble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28D-872A-4F74-934B-200ACCFB4A6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2" dur="indefinite" restart="never" nodeType="tmRoot">
          <p:childTnLst>
            <p:seq>
              <p:cTn id="2793" dur="indefinite" nodeType="mainSeq">
                <p:childTnLst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ių formul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kelti kuo daugiau priežasčių ar hipotezi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akančių veiklos trūkumų šalti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tų hipotezių struktūrinę schem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756-6E8C-497F-AF2C-D32F2ADEB18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9" dur="indefinite" restart="never" nodeType="tmRoot">
          <p:childTnLst>
            <p:seq>
              <p:cTn id="2830" dur="indefinite" nodeType="mainSeq">
                <p:childTnLst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Hipotezių struktūrinė sch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lengvina hipotezių atrank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idžia išbraukti dubliuojanč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rtimas viena kitai hipot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o jas pagal įvairius požymi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lengvina audito problemos formulavimo procedūr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B14-BCC7-434D-B6FF-0DE1B1C8264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7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orės audito problemų formulavim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objektas gali būti labai didelis ir sudėting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tingą reikšmę įgyja tarpusavio ryš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rp įvairių to objekto sudėtinių dalių nustaty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124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lengva išsiaiškinti atsakomybės ir atskaitomyb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mo problem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038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nku nustaty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os funkcijos yra priskirtinos konkreč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ruktūriniam vienetui ar valdymo lygmeniu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s ir kaip turėtų koordinuo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drą struktūrinių padalinių veiklą ir t.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E53-FFA7-4AC0-9400-E6B258BFD5C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3" dur="indefinite" restart="never" nodeType="tmRoot">
          <p:childTnLst>
            <p:seq>
              <p:cTn id="2884" dur="indefinite" nodeType="mainSeq">
                <p:childTnLst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9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4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4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9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4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9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išorės audito problemų formulavimo proces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, ministerijų, departamentų ar kitų svarbių valstybės mastu sistemų veiklos trūkumų identifikav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24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ėtų objektų identifikuotų veiklos trūku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ąrašo sudary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eliminarų kiekvienos nepatenkinamos veik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blemos formulavim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3D3-C822-4AAA-B7D2-D1FCCABC8FA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0" dur="indefinite" restart="never" nodeType="tmRoot">
          <p:childTnLst>
            <p:seq>
              <p:cTn id="2941" dur="indefinite" nodeType="mainSeq">
                <p:childTnLst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1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6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1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krečios apskrities administracijos darbo efektyvum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ų priėmimo procedūrų tyrimas konkrečioje apskrities administra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ų priėmimo procedūrų tyrimas konkrečioje vietos savivaldos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kretaus struktūrinio padalinio valdymo funkcijų pagrind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akomybės paskirstymo teoriniai pagrind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7F4-D461-4050-9B4B-2D7BA1243A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išorės audito problemų formulavimo proces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rinktų problemų prioritetų nustaty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eliminarų būtinų kiekvienai problemai sprę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ėš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resursų įvertini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886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ir kitų institucijų, galinčių dalyva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ekant išorės auditą, galimybių įvert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1814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ės audito veiklos plano kitiems metams ir strateginio plano ilgesniam laikotarpiui sudarymą.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3D3-8972-4773-8EDB-243E1FE5F14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2" dur="indefinite" restart="never" nodeType="tmRoot">
          <p:childTnLst>
            <p:seq>
              <p:cTn id="2973" dur="indefinite" nodeType="mainSeq">
                <p:childTnLst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9" fill="hold">
                      <p:stCondLst>
                        <p:cond delay="indefinite"/>
                      </p:stCondLst>
                      <p:childTnLst>
                        <p:par>
                          <p:cTn id="2990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3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8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dentifikuojant audito problemas reiki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svarbiausius ir patikimus informacijos šaltinius, kuriuose pateiktos išvados dėl valstybės ar kokios nors jos sistemos veik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eiksmingu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panašias situacijas kitose šaly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 toks darbas buvo atlikt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ritiškai įvertinti ten aptikta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9CC-9FE0-4AC7-99E9-A27A97B73C9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9" dur="indefinite" restart="never" nodeType="tmRoot">
          <p:childTnLst>
            <p:seq>
              <p:cTn id="3020" dur="indefinite" nodeType="mainSeq">
                <p:childTnLst>
                  <p:par>
                    <p:cTn id="3021" fill="hold">
                      <p:stCondLst>
                        <p:cond delay="indefinite"/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0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5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5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6" fill="hold">
                      <p:stCondLst>
                        <p:cond delay="indefinite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5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0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dentifikuojant audito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atsižvelgti, į tai, kad veiklo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495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uose šaltiniuose gali būti vertinamas skirting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FF6-D75B-41B8-9BC1-7A5518154B1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1" dur="indefinite" restart="never" nodeType="tmRoot">
          <p:childTnLst>
            <p:seq>
              <p:cTn id="3062" dur="indefinite" nodeType="mainSeq">
                <p:childTnLst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7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Audito išvadų patikimu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o daugiau šaltinių paremia kokią nors išvadą, tuo ši išvada daugiau patik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195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šaltiniai ženkliai skiriasi patikimumo laipsni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vadovautis tik patikimų šaltinių duomenimi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419720"/>
            <a:ext cx="9144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skirtingų šaltinių duomenys maždaug vienodai patvirtina ir paneigia kokią nors išvad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formuluoti dvi hipotezes ir tikrinti jas audito m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FB2-8E7A-4DEA-8518-D786002EC2A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4" dur="indefinite" restart="never" nodeType="tmRoot">
          <p:childTnLst>
            <p:seq>
              <p:cTn id="3095" dur="indefinite" nodeType="mainSeq">
                <p:childTnLst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5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0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0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dentifikuojant audito problemas reiki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preliminarių audito problemų visum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žiūrėti, kaip jos atrodo kar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visų identifikuotų problemų sąrašą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yti tarp jų įvairias sąsaj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46483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vaizduoti jas bendroje schem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606-857B-48C9-B474-E64CAC40957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1" dur="indefinite" restart="never" nodeType="tmRoot">
          <p:childTnLst>
            <p:seq>
              <p:cTn id="3132" dur="indefinite" nodeType="mainSeq">
                <p:childTnLst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8" fill="hold">
                      <p:stCondLst>
                        <p:cond delay="indefinite"/>
                      </p:stCondLst>
                      <p:childTnLst>
                        <p:par>
                          <p:cTn id="3139" fill="hold">
                            <p:stCondLst>
                              <p:cond delay="0"/>
                            </p:stCondLst>
                            <p:childTnLst>
                              <p:par>
                                <p:cTn id="3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2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stomos pagal priorite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ma, kurias iš jų galima pagrįsti patikim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5146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as – tik iš dalie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004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ų reikia atsisakyti, jei joms patvirtinti nera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ikimos informac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1148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išvados ir rekomendacijos turi būti susijus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iškeltomis hipotezė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5029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reikšmingos hipotezės nei patvirtintos, nei paneig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tęsti patikrinimą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49-DEAB-4328-8384-150AB5B8FD3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4" dur="indefinite" restart="never" nodeType="tmRoot">
          <p:childTnLst>
            <p:seq>
              <p:cTn id="3165" dur="indefinite" nodeType="mainSeq">
                <p:childTnLst>
                  <p:par>
                    <p:cTn id="3166" fill="hold">
                      <p:stCondLst>
                        <p:cond delay="indefinite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5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0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5" dur="2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2" dur="1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3" dur="4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4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i išvadai pagrįsti paskiriamas atsakingas auditorius. J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133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uopščiai atrenka visą informacij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9718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rtina jos tikslumą ir patikimu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ngia galimų informacijos apdorojimo trūkum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495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bjektyviz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kompetentingumo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ogancij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rupcinių veiksni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AA9-EE51-409B-AA3E-83505D2E7C1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5" dur="indefinite" restart="never" nodeType="tmRoot">
          <p:childTnLst>
            <p:seq>
              <p:cTn id="3226" dur="indefinite" nodeType="mainSeq">
                <p:childTnLst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6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1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fill="hold">
                      <p:stCondLst>
                        <p:cond delay="indefinite"/>
                      </p:stCondLst>
                      <p:childTnLst>
                        <p:par>
                          <p:cTn id="3265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6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 auditorių išvada yra ta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ismo nuosprend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maksimaliai išvengti nepakankamai pagrįs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ig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vyrauti maksimalus atvirumas ir geranoriškas bendradarbiavimas su tikrinamos organizacijos darbuotoja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DFD-F2F9-4E70-984B-BF3E8C16AD7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7" dur="indefinite" restart="never" nodeType="tmRoot">
          <p:childTnLst>
            <p:seq>
              <p:cTn id="3278" dur="indefinite" nodeType="mainSeq">
                <p:childTnLst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4" fill="hold">
                      <p:stCondLst>
                        <p:cond delay="indefinite"/>
                      </p:stCondLst>
                      <p:childTnLst>
                        <p:par>
                          <p:cTn id="3285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3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8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jos darbuoto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jaustis ne kontroliuojamaisi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kontrolės proceso dalyviai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ekiančiais bendro tiks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erinti organizacijos veikl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au panaudojant turim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iegti įvairias inovacij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367-FA96-4444-8F73-A32227A1F37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9" dur="indefinite" restart="never" nodeType="tmRoot">
          <p:childTnLst>
            <p:seq>
              <p:cTn id="3310" dur="indefinite" nodeType="mainSeq">
                <p:childTnLst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1" fill="hold">
                      <p:stCondLst>
                        <p:cond delay="indefinite"/>
                      </p:stCondLst>
                      <p:childTnLst>
                        <p:par>
                          <p:cTn id="3322" fill="hold">
                            <p:stCondLst>
                              <p:cond delay="0"/>
                            </p:stCondLst>
                            <p:childTnLst>
                              <p:par>
                                <p:cTn id="3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0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5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0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Audito įrodymai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os būtina susieti su preliminariai iškeltomis audito problemo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eidautina, kad audito įrodymai būtų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skirtingų šaltinių duomeni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7180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jie apibūdintų situaciją kokybini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ekybiniais kriterijais,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8862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tie kriterijai būtų tinkamai atrink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419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kriterijų taikymas būtų korektišk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D89-4362-4209-AB99-C8C12DCF8C2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4" dur="indefinite" restart="never" nodeType="tmRoot">
          <p:childTnLst>
            <p:seq>
              <p:cTn id="3355" dur="indefinite" nodeType="mainSeq">
                <p:childTnLst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0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5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0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Atsakomybės paskirstymo konkrečioje sistemoje analizė ir optimiz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Kokio nors struktūrinio padalinio personalo dalyvavimo valdyme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Duomenų apie kokios nors institucijos veiklą atranka atliekant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Metodikų, taikomų atliekant vidaus auditą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Metodikų, taikomų atliekant išorės auditą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C4E-5DAE-43F0-8AE2-45D34FA14D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24:14Z</dcterms:created>
  <dc:creator>Personal</dc:creator>
  <dc:description/>
  <dc:language>en-US</dc:language>
  <cp:lastModifiedBy>-</cp:lastModifiedBy>
  <dcterms:modified xsi:type="dcterms:W3CDTF">2008-09-17T11:19:23Z</dcterms:modified>
  <cp:revision>22</cp:revision>
  <dc:subject/>
  <dc:title>“Veiklos audito teorija” magistro studijų programa</dc:title>
</cp:coreProperties>
</file>