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28.xml.rels" ContentType="application/vnd.openxmlformats-package.relationships+xml"/>
  <Override PartName="/ppt/slides/_rels/slide92.xml.rels" ContentType="application/vnd.openxmlformats-package.relationships+xml"/>
  <Override PartName="/ppt/slides/_rels/slide9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8.xml.rels" ContentType="application/vnd.openxmlformats-package.relationships+xml"/>
  <Override PartName="/ppt/slides/_rels/slide95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96.xml.rels" ContentType="application/vnd.openxmlformats-package.relationships+xml"/>
  <Override PartName="/ppt/slides/_rels/slide94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94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61.xml" ContentType="application/vnd.openxmlformats-officedocument.presentationml.slide+xml"/>
  <Override PartName="/ppt/slides/slide96.xml" ContentType="application/vnd.openxmlformats-officedocument.presentationml.slide+xml"/>
  <Override PartName="/ppt/slides/slide60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3A5B-2EF4-46CD-9B1B-43793D3BE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D151-B069-42B7-AD2C-479E4810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0909-EACF-433B-BB2A-B036B495A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5D77-CD18-4813-881A-AD081C4D0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DFD8-407F-4BF9-980A-6EE695D3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E9DD-07FE-4F86-9681-EB5FC30CF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1B7E-9666-42F5-B7AE-B9BD32C8F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9DAC-E31E-4CAE-99EB-B402F1BB6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E66D-B36F-42A6-9F44-7A53D307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2899-55F0-45BC-9813-1DCB0DA4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100-E724-405B-A322-5D64A8F33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D67F-ECCC-4867-B458-A7B64618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CF01C-B78F-49EB-BAAC-68D176304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294920"/>
            <a:ext cx="7924680" cy="530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lt-LT" sz="3600" spc="-1" strike="noStrike">
                <a:solidFill>
                  <a:srgbClr val="000000"/>
                </a:solidFill>
                <a:latin typeface="Arial"/>
              </a:rPr>
              <a:t>Veiklos audito teorija</a:t>
            </a:r>
            <a:br>
              <a:rPr sz="3600"/>
            </a:br>
            <a:r>
              <a:rPr b="0" lang="lt-LT" sz="3600" spc="-1" strike="noStrike">
                <a:solidFill>
                  <a:srgbClr val="000000"/>
                </a:solidFill>
                <a:latin typeface="Arial"/>
              </a:rPr>
              <a:t>4, 5, 6 temos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Duomenų atranka ir analizė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2. Aprašomoji statistika</a:t>
            </a:r>
            <a:br>
              <a:rPr sz="2400"/>
            </a:b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3. Matematinės statistikos pradmenys</a:t>
            </a:r>
            <a:br>
              <a:rPr sz="4000"/>
            </a:b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4. Imties dydis</a:t>
            </a:r>
            <a:br>
              <a:rPr sz="4000"/>
            </a:b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Hipotezių tikrinimas</a:t>
            </a:r>
            <a:br>
              <a:rPr sz="4000"/>
            </a:b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6. Anketavimas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14040" y="457200"/>
            <a:ext cx="67057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rof. S. Puško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2B5C5-6D7A-4636-9F3F-D0A94F308B6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mčių sudarymo būda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etikimybinės imt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20968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roginė (Parank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Ekspertinė (įvertini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Kvoti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Sniego kamuolio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3875040"/>
            <a:ext cx="9144000" cy="9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I. Tikimybinės imt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495288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prastoji atsitiktinė imt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istemingoj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luoksninė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izdinė imt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3F22-4324-42D2-8A0E-49B8A97549E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Netikimybinės imty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rogine imtimi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vadinama tokia imtis, kuri sudaryta iš atsitiktinai pasirinktų elementų, visiškai nesirūpinant tu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kaip tie elementai susieti su visa populiacija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962520"/>
            <a:ext cx="9144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Ekspertinė imti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– tai tokia imtis - objekta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įtraukiami   į ją kai taip nusprendžia atrinkti eksper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5334120"/>
            <a:ext cx="914400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Kvotinė imtis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sudaroma atsižvelgi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į visos populiacijos sandaros proporcij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E37A-164A-40B0-80FE-6D667B645F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Tikimybinės imty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7848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Paprastoji atsitiktinė imtis -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bet kuris populiacijos elementas pasirenkamas su vienoda tikimyb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59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Sistemingoji imtis (žinomas elementų skaičiu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76720"/>
            <a:ext cx="91440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opuliacijos elementai išrikiuojami į eilę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388620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ustatomas elementų atrankos žingsni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skirstantis populiaciją į dali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94172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5094360"/>
            <a:ext cx="914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4724280"/>
            <a:ext cx="91440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 pirmos dalies atsitiktiniu būdu pasirenka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enas elementa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5619600"/>
            <a:ext cx="914400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si kiti imties elementai gaunami pridedant žingsni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lgio intervalus prie pirmojo ir kitų jau atrinktų elementų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04D5-DC46-4F02-A3AE-C0A4FA611F7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luoksninė im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915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tokia imtis, kuri gauta suskirsčius visą populiaciją į tam tikras dalis (stratus)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urinčias kokių nors išskirtinių požymi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296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opuliacija padalijimu į atitinkamus sluoksniu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64644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lementai viename sluoksnyje turi vienodą tikimybę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tekti į imt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4713120"/>
            <a:ext cx="777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5608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iekviename tos imties sluoksny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os elementai atrenkami prisilaik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prastosios atsitiktinės imties reikalavim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5867280"/>
            <a:ext cx="8991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eno eksperimento metu galima ištirti visą populiacij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00BA-FAC6-447C-9237-B45176FF96D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izdinė im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sa populiacija suskirstoma į panašias kokio nors požymio atžvilgiu grupes arba lizdus (klasterius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51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itiktiniu būdu atrenkama dalis tokių lizdų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3124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 imtį įtraukiami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visi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atrinktų lizdų elementa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37339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opuliacijos elementai suskirstom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 vienalytes (homogeniškas) grup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lementai kiekviename lizde yra nevienalyči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1328-8631-4D0D-9148-7BD47E01ED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2. Aprašomoji statistika</a:t>
            </a: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2.1 Bendra charakteri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Duomenis reikia išdėstyti analizei patogiu būd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Jie grupuojami sudara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variacinę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eilutę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pecialią matricą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vairias lent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1BD5-0899-411C-8306-37F54BAC5D8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antykinių dažnių lente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7200" y="1600200"/>
          <a:ext cx="8229600" cy="4902120"/>
        </p:xfrm>
        <a:graphic>
          <a:graphicData uri="http://schemas.openxmlformats.org/drawingml/2006/table">
            <a:tbl>
              <a:tblPr/>
              <a:tblGrid>
                <a:gridCol w="1828800"/>
                <a:gridCol w="1463760"/>
                <a:gridCol w="1965240"/>
                <a:gridCol w="533520"/>
                <a:gridCol w="2438280"/>
              </a:tblGrid>
              <a:tr h="150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tamojo reikšmė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2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k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tykinis dažni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1 /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2 /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k /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kaup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is santykinis dažnis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1 /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1 + f2 </a:t>
                      </a: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 </a:t>
                      </a: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n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1 + f2 +…+fk</a:t>
                      </a: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r>
                        <a:rPr b="1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n =</a:t>
                      </a: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D66D-6581-4215-89A9-542CFC532F5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Tolydusis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kintama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uomenys reikia paskirstyti į tam tikr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enodo   pločio interval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8954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rinkti jų skaičių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(5 – 1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380988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rba apskaičiuoti pagal Sterdžeso form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 + 3,322 lg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5105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ustatyti kiekvieno intervalo plot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r intervalų rib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479F-65F1-4661-871E-86AABF9FD7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Reikalavimai grupavimo intervalam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ie turi būti vienodo ilgi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2438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sikirsti tarpusavyj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3352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turėti “tarpų” tarp interval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41036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iekviena kintamojo reikšmė priskiri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 vienam intervalu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EA18-61D2-49C4-9870-503F6ABBB5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kaitinės atsitiktinio dydžio charakteristiko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Duomenų padė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2286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durk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mo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medi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809880"/>
            <a:ext cx="88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klai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648320"/>
            <a:ext cx="8931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isper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tandartinis nuokry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99A14-EB48-4975-8461-C70D554B6B5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Kintamiej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okybin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iekybin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43000" y="3200400"/>
            <a:ext cx="7178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iskretiej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olygū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43963-44A1-4CE5-A49E-2FAC2158A67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idurk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pibūdina atsitiktinio dydžio reikšmių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usitelkimo centrą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048120" y="3352680"/>
                <a:ext cx="18288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3048120" y="5181480"/>
                <a:ext cx="198108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0" y="4419720"/>
            <a:ext cx="88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mties vidurkis žymimas raide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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274320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opuliacijos vidurkis –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72AE-928F-4ED3-BBD8-273C821FE5D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ediana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e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uskirsto variacinę eilutę į dvi maždaug vienodas dal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480" y="259092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 reikšmių skaičius yra nelyginis, tai mediana    yra lygi viduriniai variacinės eilutės reikšme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480" y="3657600"/>
            <a:ext cx="908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 variacinės eilutės reikšmių skaičius yra lyginis, tai pasirenkamos dvi viduriniosios jos reikšmės ir apskaičiuojamas jų vidurk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257800"/>
            <a:ext cx="923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Mediana turi svarbią savybę – jos reikšmė nepriklauso nuo ženkliai išsiskiriančių variacinės eilutės reikšmi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9B58-B783-4CFD-A43E-C970DDB57B6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Dispersij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Charakterizuoja atsitiktinio dydžio sklaid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durkio atžvilg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895480" y="3406680"/>
                <a:ext cx="2286000" cy="9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m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2971800" y="5105520"/>
                <a:ext cx="281952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</m:den>
                        </m:f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>
            <a:off x="0" y="2666880"/>
            <a:ext cx="88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opuliacijos disper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mties disper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8986-AB44-485E-969F-9A5FE556023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ormalusis pasiskirstymo dės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abai plačiai paplitęs.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6440" y="265572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o savybės labai svarbi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36440" y="349416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varbiausia yra toki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433224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gu sumuojama daug atsitiktinių dydži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urinčių bet kokius skirstiniu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i šios sumos pasiskirstymo dėsn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ra tuo artimesnis normaliajam dėsniu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uo daugiau atsitiktinių dydžių yra sumuoja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AD44C-C1B7-4D35-AF7E-C272E4ED07D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ormaliojo dėsnio grafi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143000" y="1490760"/>
          <a:ext cx="6858000" cy="474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90760"/>
                    <a:ext cx="6858000" cy="474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F52-68FF-496F-9164-68B0C93DB45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Normaliojo dėsnio savybė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 standartinio pločio rėžius, skaičiuojant juos nuo vidurkio, paten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2760" y="2438280"/>
            <a:ext cx="89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irmąjį – 0,3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480" y="31240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ntrąjį –  0,14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6440" y="365760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rečiąjį –  0,0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343400"/>
            <a:ext cx="89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nkio funkcija yra simetriška vidurkio atžvilgi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480" y="49528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Šiam dėsniui galioja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trijų sigma taisyklė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54849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os šio atsitiktinio dydžio reikšmės telpa šešių standartinių nuokrypių interv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C52B-F560-4986-A7F4-774B7BCF9F8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šskirtinės imties reikšm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 kurie duomenys gali žymiai skirtis nuo visų kit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51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 pažeistos duomenų atrankos sąlyg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7672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ėl kokių nors techninių priežasčių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96252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ėl subjektyvių motyv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4572000"/>
            <a:ext cx="946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 duomenų “koregavimas” nauding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rinamai organizacija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480" y="570384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ėl kitų nenustatytų priežasčių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94995-94FE-4B0F-9D80-C6480E3510B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šskirtinės imties reikšm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 kintamasis paklūsta normaliajam dėsniu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190512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šskirtimi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adinami duomeny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patekę į trijų sigma interval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895480"/>
            <a:ext cx="900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Sąlygine išskirtimi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vadinami duomenys, kurie patenka į trijų sigma intervalą, bet nepatenka į dviejų sigma interval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191120"/>
            <a:ext cx="9236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Jei kintamasis nepaklūsta normaliajam dėsniu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šskirtiniai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vadinami duomenys, nepatek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 intervalą (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QR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3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QR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562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sąlygine išskirtimi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- duomenys, priklausantys intervalui [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– 3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QR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1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– 1,5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QR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) arba (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3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+ 1,5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QR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3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+ 3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QR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]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75C5-15BB-4AA1-9D5E-4C28369D3A7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šskirtinės imties reikšm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696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Grafik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Sąlyginė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Išskirtys išskirt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i="1" lang="lt-LT" sz="2000" spc="-1" strike="noStrike">
                <a:solidFill>
                  <a:srgbClr val="000000"/>
                </a:solidFill>
                <a:latin typeface="Arial"/>
              </a:rPr>
              <a:t>3IQ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343400" y="3276720"/>
                <a:ext cx="3650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838080" y="3886200"/>
            <a:ext cx="7239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809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3809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34120" y="3809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8098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3581280" y="3276720"/>
                <a:ext cx="36684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181480" y="3352680"/>
                <a:ext cx="317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3733920" y="39625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396252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4191120" y="4038480"/>
                <a:ext cx="60948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Q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" name=""/>
          <p:cNvSpPr/>
          <p:nvPr/>
        </p:nvSpPr>
        <p:spPr>
          <a:xfrm>
            <a:off x="3733920" y="4419720"/>
            <a:ext cx="1600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2666880" y="3962520"/>
                <a:ext cx="9399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5</m:t>
                    </m:r>
                    <m:r>
                      <m:rPr>
                        <m:lit/>
                        <m:nor/>
                      </m:rPr>
                      <m:t xml:space="preserve">IQ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2590920" y="34290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590920" y="44197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048120"/>
            <a:ext cx="0" cy="1981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600200" y="3581280"/>
            <a:ext cx="990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4876920"/>
            <a:ext cx="2133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B311-7A76-497E-8FD4-9C59859D268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. Matematinės statistikos pradme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755280" y="1628640"/>
            <a:ext cx="785484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Matematinė statistika nagrinėj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760" y="2503440"/>
            <a:ext cx="89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Eksperimentų rezultatų apdorojimo bū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36440" y="318924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tatistines išv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88620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Matematinės statistikos dal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36440" y="463716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Įverčių teori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36440" y="524664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Hipotezių tikrin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3ECB-E0D3-4922-83C7-26D7853B909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Kintamųjų matavimo skalė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okybiniai kintamiej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2895480"/>
            <a:ext cx="8016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vadinim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ang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9625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iekybiniai kintamiej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4724280"/>
            <a:ext cx="687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nterval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antyki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5995-8B50-4BC9-AB27-C04AEE555F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Matematinės statistikos metodų charakterist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verčių teorijos sritis – metoda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ikant kuriuos nustatom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2666880"/>
            <a:ext cx="982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) Empirinė atsitiktinio dydžio pasiskirstymo funk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35268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) Jo skaitinės charakteristik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4114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Statistinės išvados – hipotezių tikr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0480" y="4800600"/>
            <a:ext cx="908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tatistinė hipotezė – tai priela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pie empirinį atsitiktinio dydžio pasiskirstymo dėsnį ir/arba apie jo empirines skaitines charakteristik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D82-F891-4BCB-A2F5-7C7854D3EB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verčių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Skirtumas tarp tikrosios ir nustatytos iš imties skaitinių charakteristikų reikšmių 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vadinamas imties pakla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Formulė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1. Pasikliautinoji tikimybė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čia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 Q 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– pasikliautinoji tikimybė (confidence level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m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–  empirinis vidurk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– tikrasis, bet tyrėjui nežinomas vidurki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18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– bet koks pakankamai mažas dy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2340000" y="3141720"/>
                <a:ext cx="40384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|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|</m:t>
                    </m:r>
                    <m:r>
                      <m:t xml:space="preserve">&lt;</m:t>
                    </m:r>
                    <m:r>
                      <m:t xml:space="preserve">ε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B49-654C-48E8-AACF-0605D3B21B1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verčių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5280" y="1628280"/>
            <a:ext cx="7758000" cy="9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Reikšmingumo lygmu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3505320" y="2590920"/>
                <a:ext cx="200340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276720" y="5083200"/>
                <a:ext cx="328140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ε</m:t>
                    </m:r>
                    <m:r>
                      <m:t xml:space="preserve">,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+</m:t>
                    </m:r>
                    <m:r>
                      <m:t xml:space="preserve">ε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212760" y="3646440"/>
            <a:ext cx="89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Vidurkio pasikliautinasis interva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(confidence interv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1BE3-EDD1-40D2-B6B3-2EE0CE047AA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verčių teor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4. Nagrinėjamas atsitiktinis dydis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T =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m-m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/ S*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S*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- atsitiktinio dydžio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m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standartinis nuokrypis (mean square err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       –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imties su numeriu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elemento reikšmė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– elementų skaičius imtyj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Atsitiktinis dydis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yra pasiskirstę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pagal Stjudento dėsnį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(Stjudentas – anglų statistiko Gosseto (1876-1937) slapyvardi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3276720" y="2708280"/>
                <a:ext cx="28796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/>
                    </m:sSup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acc>
                                  <m:accPr>
                                    <m:chr m:val="~"/>
                                  </m:accPr>
                                  <m:e>
                                    <m:r>
                                      <m:t xml:space="preserve">m</m:t>
                                    </m:r>
                                  </m:e>
                                </m:acc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0" name=""/>
              <p:cNvSpPr txBox="1"/>
              <p:nvPr/>
            </p:nvSpPr>
            <p:spPr>
              <a:xfrm>
                <a:off x="762120" y="3886200"/>
                <a:ext cx="334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A05C-3206-4728-8FA1-367D18296A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raktiški skaičiavimai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Turime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stebėjimo rezultatų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80" y="242712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Apskaičiuojame tos imties reikšmių  empirinį vidurkį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m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335268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Pasirenkame pageidaujamos pasikliautinosios tikimybės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yd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434340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ia  rasti vidurkio pasikliautinąjį rėžį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titinkantį tą tikimybę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5334120"/>
            <a:ext cx="893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 Randame šio atsitiktinio dydžio standartinį nuokrypį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S*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5FD-56A0-4D76-A538-0F397A3D420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3" dur="indefinite" restart="never" nodeType="tmRoot">
          <p:childTnLst>
            <p:seq>
              <p:cTn id="994" dur="indefinite" nodeType="mainSeq">
                <p:childTnLst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raktiški skaičiavim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5. Pagal stebėjimų skaičių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ir pasikliautinąją tikimybę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randame parametrą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tα (žr. 1 priedą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6668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6.  Padauginame šią reikšme iš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S*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r gauname ε reikšmę, t.y.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ε = tα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S*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4114800"/>
            <a:ext cx="900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7. Ieškomasis vidurkio pasikliautinasis rėž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ra [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m- ε, m+ ε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F1F7-917A-43C2-A082-FAE2AF8055C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sikliautinasis tikimybės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p interv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905120" y="1427040"/>
                <a:ext cx="5257800" cy="9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z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  <m:r>
                      <m:t xml:space="preserve">&lt;</m:t>
                    </m:r>
                    <m:r>
                      <m:t xml:space="preserve">p</m:t>
                    </m:r>
                    <m:r>
                      <m:t xml:space="preserve">&lt;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+</m:t>
                    </m:r>
                    <m:r>
                      <m:t xml:space="preserve">z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p</m:t>
                                </m:r>
                              </m:e>
                            </m:acc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762120" y="3124080"/>
                <a:ext cx="3999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p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0" y="3200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Čia        tikimybės reikšmė, gauta iš im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3875040"/>
            <a:ext cx="899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800" spc="-1" strike="noStrike">
                <a:solidFill>
                  <a:srgbClr val="000000"/>
                </a:solidFill>
                <a:latin typeface="Arial"/>
              </a:rPr>
              <a:t>Z – </a:t>
            </a:r>
            <a:r>
              <a:rPr b="1" i="1" lang="lt-LT" sz="2000" spc="-1" strike="noStrike">
                <a:solidFill>
                  <a:srgbClr val="000000"/>
                </a:solidFill>
                <a:latin typeface="Arial"/>
              </a:rPr>
              <a:t>normaliojo skirstinio N(0,1)                    kvanti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4343400" y="3886200"/>
                <a:ext cx="10666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9754-A6F3-47D1-B1FE-8BB467BF264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Pasikliautinasis dispersijos interva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2743200" y="1752480"/>
                <a:ext cx="3581280" cy="106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&lt;</m:t>
                    </m:r>
                    <m:sSup>
                      <m:e>
                        <m:r>
                          <m:t xml:space="preserve">σ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&lt;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828800" y="3429000"/>
                <a:ext cx="609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648320" y="3352680"/>
                <a:ext cx="20304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χ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1" name=""/>
          <p:cNvSpPr/>
          <p:nvPr/>
        </p:nvSpPr>
        <p:spPr>
          <a:xfrm>
            <a:off x="0" y="33526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Skaičiai                     yra              skirstinio su n-1 laisvės laipsnių                                           kvantil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133720" y="3809880"/>
                <a:ext cx="2747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C646-BC33-40AA-91EC-D78EACA034A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Audito rizika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izika gali būti dvejopos prigim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273204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dituojamojo, kai nepaisant 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d organizacijos veikla yra gera, suformuluojama      neigiama išvad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4419720"/>
            <a:ext cx="90075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Audito, kai suformuluojama teigiama išvada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ors organizacijos veikloje yra esminių trūkum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6729-212E-4025-AD20-388AA420C55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7" dur="indefinite" restart="never" nodeType="tmRoot">
          <p:childTnLst>
            <p:seq>
              <p:cTn id="1078" dur="indefinite" nodeType="mainSeq">
                <p:childTnLst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Rizikos pasiskirstymas tarp audituojamojo ir auditoria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457200" y="1600200"/>
          <a:ext cx="8229600" cy="5006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29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 išvada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kroji padėt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Mažai neatitikim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바탕"/>
                        </a:rPr>
                        <a:t>Daug neatitikimų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titikimai neviršija leistino lygio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isinga išvad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o rizik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titikimai viršija leistiną lygį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dituojamojo rizik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isinga išvad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62F7-0048-4772-BD4F-66E042C5EDD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avadinimų (nominalioji, klasifikacinė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uskirsto objektus į k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2971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prėpia visas spektro reikš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4038480"/>
            <a:ext cx="84582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iksliai apibrėžia kiekvienos klasės ribas</a:t>
            </a: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5218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egalimi jokie aritmetiniai veiksn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C11-0F30-4F87-B92E-18A1AE0FE1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udito rizikos tip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gimta rizika – veiklos vertinimo netikslumai dėl vidaus kontrolės klaidų (Į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266688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ntrolės rizika – rizika, kad vidaus kontrolė laiku nepastebės ir neištaisys nukrypimų (K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88620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aptikimo rizika –audito metu nebus nustatyti vidaus kontrolės neištaisyti veiklos trūkumai (N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5105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dito rizika: A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ĮR x KR x N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0F04-560A-43B5-B55C-CE9D1B4D734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fill="hold">
                      <p:stCondLst>
                        <p:cond delay="indefinite"/>
                      </p:stCondLst>
                      <p:childTnLst>
                        <p:par>
                          <p:cTn id="1112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5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6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7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8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gimtą riziką įtakojantys veiksn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2" marL="971280" indent="-194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eiklos pobūd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1985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eiklą reguliuojančios teisinės bazės trūkumai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288432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udituojamos institucijos personalo kompetencijos, patirties, sąžiningumo stok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36440" y="395136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truktūros sudėtingumo laipsn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6440" y="463716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realių reikalavimų egzistavim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480" y="524664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įgyvendinti ankstesnių auditų rezultat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F0A-337D-46BB-A77B-F07B252EB73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7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8" dur="5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2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ntrolės ir neaptikimo riziką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takojantys veiksn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Vidaus kontrol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0" y="23511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daus auditorių skaič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296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ų kompetencija, kvalifikacija ir kruopšt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36464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audojamų metodikų kokyb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0480" y="42559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tliekamų procedūrų tinkamumas ir išsam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4EC7-63B4-472A-9241-F77A4489C73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ntrolės ir neaptikimo riziką</a:t>
            </a:r>
            <a:r>
              <a:rPr b="0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takojantys veiksn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-360" y="175248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Neaptikimo rizik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480" y="227484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pecifinių situacijų neatpažinim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0480" y="296064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kvalifikuot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r netinkamų auditorių   atrank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403848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tinkamų metodik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r procedūrų   panaudojim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9528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etiksli  rezultatų interpretacija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-92160" y="501804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36440" y="548640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ėšų ir laiko stok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2EA3-9EA5-4357-B327-A1CDB96B122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udito rizikos matrica</a:t>
            </a: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eaptikimo riz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457200" y="1600200"/>
          <a:ext cx="8229600" cy="490068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Įgimta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z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rolės riz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ž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tin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kš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ž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a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kš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kš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tin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tin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kš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tin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ž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kš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tin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ž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b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ž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4A5F-534B-4203-A6F9-50F1B18A2C6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Įgimtos ir kontrolės rizikos lygiai (Lenkij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zik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zikos lyg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Že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tin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kšt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Įgim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z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rolės riz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E08-3D87-4E81-A1A6-710EBA1917A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eaptikimo rizikos apskaičiavimo pavyzd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457200" y="1600200"/>
          <a:ext cx="8218440" cy="4718160"/>
        </p:xfrm>
        <a:graphic>
          <a:graphicData uri="http://schemas.openxmlformats.org/drawingml/2006/table">
            <a:tbl>
              <a:tblPr/>
              <a:tblGrid>
                <a:gridCol w="1866960"/>
                <a:gridCol w="1922400"/>
                <a:gridCol w="4429080"/>
              </a:tblGrid>
              <a:tr h="188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Įgimta riz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tinė, pro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rolė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zika, proc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ptikim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zi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ža     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tinė    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kšta    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81" name=""/>
              <p:cNvSpPr txBox="1"/>
              <p:nvPr/>
            </p:nvSpPr>
            <p:spPr>
              <a:xfrm>
                <a:off x="5003640" y="3639960"/>
                <a:ext cx="237672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"/>
              <p:cNvSpPr txBox="1"/>
              <p:nvPr/>
            </p:nvSpPr>
            <p:spPr>
              <a:xfrm>
                <a:off x="5003640" y="4581360"/>
                <a:ext cx="244800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∗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"/>
              <p:cNvSpPr txBox="1"/>
              <p:nvPr/>
            </p:nvSpPr>
            <p:spPr>
              <a:xfrm>
                <a:off x="5076720" y="5445000"/>
                <a:ext cx="24735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∗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3210-3326-48EF-AD1C-16FD2825608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tatistinės išvados</a:t>
            </a: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Hipotezė – tai prielaida apie populiacijos požymių reikš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289548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rinama hipotezė yra vadina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uline hipoteze ir žymima H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419112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radiciškai H0 yra hipotezė apie lygybę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.y. „nulinį“ skirtum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5562720"/>
            <a:ext cx="92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ai priešinga hipotezė žymima H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r vadinama alternatyvią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9320B-0216-4D6F-A460-CC67D519579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1" fill="hold">
                      <p:stCondLst>
                        <p:cond delay="indefinite"/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tatistinės išvados</a:t>
            </a: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91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Hipotezėms tikrinti naudojami statistiniai kriterijai – taisyklės, kuriomis remiantis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297180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hipotezės pripažįstamos teisingom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rba klaidingom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0" y="419112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ė sritis – tai aibė reikšmių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urias statistikai įgijus nulinė hipotezė atmet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548640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ė reikšmė – tai skaičius, kuris atskir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ę sritį nuo hipotezės neatmetimo s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9A51-B3A7-402F-A194-E278967B70A3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9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0" fill="hold">
                      <p:stCondLst>
                        <p:cond delay="indefinite"/>
                      </p:stCondLst>
                      <p:childTnLst>
                        <p:par>
                          <p:cTn id="1301" fill="hold">
                            <p:stCondLst>
                              <p:cond delay="0"/>
                            </p:stCondLst>
                            <p:childTnLst>
                              <p:par>
                                <p:cTn id="13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4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fill="hold">
                      <p:stCondLst>
                        <p:cond delay="indefinite"/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9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14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8" dur="50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19" dur="50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20" dur="500" autoRev="1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irmosios ir antrosios rūšies pakla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imybė atmesti nulinę hipotezę, kai ji yra teisinga, – I rūšies klaida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  <a:ea typeface="Arial"/>
              </a:rPr>
              <a:t> – reikšmingumo lygmu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124080"/>
            <a:ext cx="8794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imybė neatmesti nulinės hipotezė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 ji klaidinga, - II rūšies klaida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441972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imybė atmesti nulinę hipotezę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 ji yra klaidinga, vadinama kriterijaus gal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EDB-292F-467E-B9FF-7862D93C8E7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33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4" fill="hold">
                      <p:stCondLst>
                        <p:cond delay="indefinite"/>
                      </p:stCondLst>
                      <p:childTnLst>
                        <p:par>
                          <p:cTn id="1335" fill="hold">
                            <p:stCondLst>
                              <p:cond delay="0"/>
                            </p:stCondLst>
                            <p:childTnLst>
                              <p:par>
                                <p:cTn id="1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fill="hold">
                      <p:stCondLst>
                        <p:cond delay="indefinite"/>
                      </p:stCondLst>
                      <p:childTnLst>
                        <p:par>
                          <p:cTn id="1341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Rangų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uskirsto objektus į kl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25146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Galima išdėstyti objektus eilės tvar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371600" y="3276720"/>
            <a:ext cx="1082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egalimi jokie aritmetiniai veiksn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8ADF-C98C-47FA-86F7-D3536F419A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irmosios ir antrosios rūšies kla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457200" y="1600200"/>
          <a:ext cx="8218440" cy="5111640"/>
        </p:xfrm>
        <a:graphic>
          <a:graphicData uri="http://schemas.openxmlformats.org/drawingml/2006/table">
            <a:tbl>
              <a:tblPr/>
              <a:tblGrid>
                <a:gridCol w="2739960"/>
                <a:gridCol w="2738520"/>
                <a:gridCol w="2739960"/>
              </a:tblGrid>
              <a:tr h="7671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rendi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kroji padėt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35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inė hipotez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isin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linė hipotezė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eising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atmesti nulinę hipotez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isingas sprendi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rūšies kla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mesti nulinę hipotez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 rūšies kla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kšmingumo lygmuo: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isingas sprendi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erijaus gali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659640" y="4149720"/>
                <a:ext cx="122400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708360" y="4221000"/>
                <a:ext cx="177804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995640" y="6093000"/>
                <a:ext cx="115272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516720" y="5950080"/>
                <a:ext cx="1368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1476360" y="6453360"/>
            <a:ext cx="71280" cy="7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880-7ED2-410F-B759-478CD8B1A74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riterijaus g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imybė pagrįstai atmesti nulinę hipotezę, jei ji yra klaidinga, vadinama kriterijaus gal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079640" y="4119480"/>
            <a:ext cx="5926680" cy="2736720"/>
            <a:chOff x="1079640" y="4119480"/>
            <a:chExt cx="5926680" cy="2736720"/>
          </a:xfrm>
        </p:grpSpPr>
        <p:sp>
          <p:nvSpPr>
            <p:cNvPr id="308" name=""/>
            <p:cNvSpPr/>
            <p:nvPr/>
          </p:nvSpPr>
          <p:spPr>
            <a:xfrm>
              <a:off x="1079640" y="4119480"/>
              <a:ext cx="5926680" cy="273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0" y="2514600"/>
            <a:ext cx="908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gu teisinga nulinė hipotezė, tai tikimybė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d testo statistika įgys reikšmes dides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už kritinę reikšmę, yra lygi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3962520"/>
            <a:ext cx="97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ė reikšmė dalina statistikos skirstinį į dvi dal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72428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rioji alternatyvaus skirstinio dal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ra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– tikimybė priimti klaidingą nulinę hipotezę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579132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ešinioji jo dalis yra kriterijaus galia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imybė atmesti klaiding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33FF-EA44-49AC-AB77-67756E1E74C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5" dur="indefinite" restart="never" nodeType="tmRoot">
          <p:childTnLst>
            <p:seq>
              <p:cTn id="1346" dur="indefinite" nodeType="mainSeq">
                <p:childTnLst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6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4" fill="hold">
                      <p:stCondLst>
                        <p:cond delay="indefinite"/>
                      </p:stCondLst>
                      <p:childTnLst>
                        <p:par>
                          <p:cTn id="1375" fill="hold">
                            <p:stCondLst>
                              <p:cond delay="0"/>
                            </p:stCondLst>
                            <p:childTnLst>
                              <p:par>
                                <p:cTn id="13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riterijaus ga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Galią įtakojantys veiksn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6440" y="2503440"/>
            <a:ext cx="9007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kirtumas, kurį norima aptikti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uo didesnį skirtumą norėtume aptikt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uo didesnis būtų atstumas tarp nulinio ir alternatyviojo pasiskirstymo tankio funkcijų;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0480" y="4343400"/>
            <a:ext cx="9083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riamojo parametro dispersij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uo mažesnė dispersija, tuo siauresnė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būtų nulinio ir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lternatyviojo pasiskirstymo  tankio funkcij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DD16-FC35-42E8-8AAF-2B807E57927A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8" fill="hold">
                      <p:stCondLst>
                        <p:cond delay="indefinite"/>
                      </p:stCondLst>
                      <p:childTnLst>
                        <p:par>
                          <p:cTn id="1389" fill="hold">
                            <p:stCondLst>
                              <p:cond delay="0"/>
                            </p:stCondLst>
                            <p:childTnLst>
                              <p:par>
                                <p:cTn id="1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3" dur="500" fill="hold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fill="hold">
                      <p:stCondLst>
                        <p:cond delay="indefinite"/>
                      </p:stCondLst>
                      <p:childTnLst>
                        <p:par>
                          <p:cTn id="1401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Imties dy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1066680" indent="-609480">
              <a:spcBef>
                <a:spcPts val="700"/>
              </a:spcBef>
              <a:buClr>
                <a:srgbClr val="000000"/>
              </a:buClr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 vertinamos vieno atsitiktinio dydžio skaitinės charakteristik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326556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I.   Kai vertinamos dviejų atsitiktinių dydžių skaitinių charakteristikų lygybė – hipotezių tikrin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56CA-4A32-4BDA-A256-48F3CE03ADE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6" dur="indefinite" restart="never" nodeType="tmRoot">
          <p:childTnLst>
            <p:seq>
              <p:cTn id="1407" dur="indefinite" nodeType="mainSeq">
                <p:childTnLst>
                  <p:par>
                    <p:cTn id="1408" fill="hold">
                      <p:stCondLst>
                        <p:cond delay="indefinite"/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9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mties dydis</a:t>
            </a: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tsitiktinis dydis norma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0480" y="235116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Žinomas standartinis nuokry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0" y="3200400"/>
            <a:ext cx="9007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Uždaviny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iek reikia duomenų, kad vidurk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ustatytas iš tų duomenų imt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titiktų patikimumo ir tikslumo reikalavi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A81-338E-49D6-9847-1398E103764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6" dur="indefinite" restart="never" nodeType="tmRoot">
          <p:childTnLst>
            <p:seq>
              <p:cTn id="1427" dur="indefinite" nodeType="mainSeq">
                <p:childTnLst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9" dur="500" fill="hold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0" fill="hold">
                      <p:stCondLst>
                        <p:cond delay="indefinite"/>
                      </p:stCondLst>
                      <p:childTnLst>
                        <p:par>
                          <p:cTn id="1441" fill="hold">
                            <p:stCondLst>
                              <p:cond delay="0"/>
                            </p:stCondLst>
                            <p:childTnLst>
                              <p:par>
                                <p:cTn id="14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mties dyd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prendim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3276720" y="2276640"/>
                <a:ext cx="187164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4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3419640" y="3429000"/>
                <a:ext cx="14173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3419640" y="4005360"/>
                <a:ext cx="158400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152280" y="5105520"/>
                <a:ext cx="49536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0" name=""/>
          <p:cNvSpPr/>
          <p:nvPr/>
        </p:nvSpPr>
        <p:spPr>
          <a:xfrm>
            <a:off x="0" y="5181480"/>
            <a:ext cx="9007560" cy="13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- standartizuoto normaliojo skirstini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ė reikšm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D6D7-BB90-437C-B4BF-2E9936ED29F9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2" dur="indefinite" restart="never" nodeType="tmRoot">
          <p:childTnLst>
            <p:seq>
              <p:cTn id="1453" dur="indefinite" nodeType="mainSeq">
                <p:childTnLst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4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5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6" fill="hold">
                      <p:stCondLst>
                        <p:cond delay="indefinite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4" fill="hold">
                      <p:stCondLst>
                        <p:cond delay="indefinite"/>
                      </p:stCondLst>
                      <p:childTnLst>
                        <p:par>
                          <p:cTn id="1485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mties dyd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Atsitiktinis dydis nėra norm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Standartinis nuokrypis nežino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mties dyd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tjudento dėsnio α lygmens kritinė reikšm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empirinė dispers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- empirinis vidurk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987640" y="2997360"/>
                <a:ext cx="2220840" cy="11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f>
                      <m:num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395280" y="3860640"/>
                <a:ext cx="129528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826920" y="4797360"/>
                <a:ext cx="720720" cy="3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914400" y="5334120"/>
                <a:ext cx="349200" cy="37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~"/>
                      </m:accPr>
                      <m:e>
                        <m:r>
                          <m:t xml:space="preserve">m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E1E6-262F-49EE-B1ED-3E0293EFBA8D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8" fill="hold">
                      <p:stCondLst>
                        <p:cond delay="indefinite"/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4" fill="hold">
                      <p:stCondLst>
                        <p:cond delay="indefinite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8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8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9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3" dur="5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fill="hold">
                      <p:stCondLst>
                        <p:cond delay="indefinite"/>
                      </p:stCondLst>
                      <p:childTnLst>
                        <p:par>
                          <p:cTn id="1531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5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1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7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8" fill="hold">
                      <p:stCondLst>
                        <p:cond delay="indefinite"/>
                      </p:stCondLst>
                      <p:childTnLst>
                        <p:par>
                          <p:cTn id="1549" fill="hold">
                            <p:stCondLst>
                              <p:cond delay="0"/>
                            </p:stCondLst>
                            <p:childTnLst>
                              <p:par>
                                <p:cTn id="1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9" dur="500" fill="hold"/>
                                        <p:tgtEl>
                                          <p:spTgt spid="3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mties dydis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Proporcijų įverč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ikliautinojo intervalo ilgis išreiškiamas tokia nelygyb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mties dy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2411280" y="3243240"/>
                <a:ext cx="136872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n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2411280" y="4797360"/>
                <a:ext cx="1656000" cy="12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4</m:t>
                        </m:r>
                        <m:sSup>
                          <m:e>
                            <m:r>
                              <m:t xml:space="preserve">ε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AA2-0CF0-404C-BA7F-DB3BCFB6522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7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8" fill="hold">
                      <p:stCondLst>
                        <p:cond delay="indefinite"/>
                      </p:stCondLst>
                      <p:childTnLst>
                        <p:par>
                          <p:cTn id="1569" fill="hold">
                            <p:stCondLst>
                              <p:cond delay="0"/>
                            </p:stCondLst>
                            <p:childTnLst>
                              <p:par>
                                <p:cTn id="15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3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9" dur="500" fill="hold"/>
                                        <p:tgtEl>
                                          <p:spTgt spid="3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5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6" fill="hold">
                      <p:stCondLst>
                        <p:cond delay="indefinite"/>
                      </p:stCondLst>
                      <p:childTnLst>
                        <p:par>
                          <p:cTn id="1587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1" dur="500" fill="hold"/>
                                        <p:tgtEl>
                                          <p:spTgt spid="3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2" fill="hold">
                      <p:stCondLst>
                        <p:cond delay="indefinite"/>
                      </p:stCondLst>
                      <p:childTnLst>
                        <p:par>
                          <p:cTn id="1593" fill="hold">
                            <p:stCondLst>
                              <p:cond delay="0"/>
                            </p:stCondLst>
                            <p:childTnLst>
                              <p:par>
                                <p:cTn id="1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pklausa. Imties dy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0" y="981000"/>
            <a:ext cx="91440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ikomos formul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- ribinė paklaida (tikslumas vieneto dalimi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        –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ritinė normalaus skirstinio reikšmė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              –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šmingumo lygmu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– pasikliautinoji tikimybė (patikimumas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– dalis atsakymų, turinčių tiriamą požymį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 – atrankos dyd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 –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opuliacijos dyd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2627280" y="1616040"/>
                <a:ext cx="3673440" cy="84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]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587520" y="2509920"/>
                <a:ext cx="100800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88800" y="2901960"/>
                <a:ext cx="943200" cy="7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468360" y="3500280"/>
                <a:ext cx="1619280" cy="75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Q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F669-0318-4021-A917-EFAC99266D2D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8" dur="indefinite" restart="never" nodeType="tmRoot">
          <p:childTnLst>
            <p:seq>
              <p:cTn id="1599" dur="indefinite" nodeType="mainSeq">
                <p:childTnLst>
                  <p:par>
                    <p:cTn id="1600" fill="hold">
                      <p:stCondLst>
                        <p:cond delay="indefinite"/>
                      </p:stCondLst>
                      <p:childTnLst>
                        <p:par>
                          <p:cTn id="1601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6" fill="hold">
                      <p:stCondLst>
                        <p:cond delay="indefinite"/>
                      </p:stCondLst>
                      <p:childTnLst>
                        <p:par>
                          <p:cTn id="1607" fill="hold">
                            <p:stCondLst>
                              <p:cond delay="0"/>
                            </p:stCondLst>
                            <p:childTnLst>
                              <p:par>
                                <p:cTn id="16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0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fill="hold">
                      <p:stCondLst>
                        <p:cond delay="indefinite"/>
                      </p:stCondLst>
                      <p:childTnLst>
                        <p:par>
                          <p:cTn id="1613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8" fill="hold">
                      <p:stCondLst>
                        <p:cond delay="indefinite"/>
                      </p:stCondLst>
                      <p:childTnLst>
                        <p:par>
                          <p:cTn id="1619" fill="hold">
                            <p:stCondLst>
                              <p:cond delay="0"/>
                            </p:stCondLst>
                            <p:childTnLst>
                              <p:par>
                                <p:cTn id="16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4" fill="hold">
                      <p:stCondLst>
                        <p:cond delay="indefinite"/>
                      </p:stCondLst>
                      <p:childTnLst>
                        <p:par>
                          <p:cTn id="1625" fill="hold">
                            <p:stCondLst>
                              <p:cond delay="0"/>
                            </p:stCondLst>
                            <p:childTnLst>
                              <p:par>
                                <p:cTn id="1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8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9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fill="hold">
                      <p:stCondLst>
                        <p:cond delay="indefinite"/>
                      </p:stCondLst>
                      <p:childTnLst>
                        <p:par>
                          <p:cTn id="1631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6" fill="hold">
                      <p:stCondLst>
                        <p:cond delay="indefinite"/>
                      </p:stCondLst>
                      <p:childTnLst>
                        <p:par>
                          <p:cTn id="1637" fill="hold">
                            <p:stCondLst>
                              <p:cond delay="0"/>
                            </p:stCondLst>
                            <p:childTnLst>
                              <p:par>
                                <p:cTn id="16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0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1" dur="500" fill="hold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6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2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4" fill="hold">
                      <p:stCondLst>
                        <p:cond delay="indefinite"/>
                      </p:stCondLst>
                      <p:childTnLst>
                        <p:par>
                          <p:cTn id="1655" fill="hold">
                            <p:stCondLst>
                              <p:cond delay="0"/>
                            </p:stCondLst>
                            <p:childTnLst>
                              <p:par>
                                <p:cTn id="1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8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0" fill="hold">
                      <p:stCondLst>
                        <p:cond delay="indefinite"/>
                      </p:stCondLst>
                      <p:childTnLst>
                        <p:par>
                          <p:cTn id="1661" fill="hold">
                            <p:stCondLst>
                              <p:cond delay="0"/>
                            </p:stCondLst>
                            <p:childTnLst>
                              <p:par>
                                <p:cTn id="1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4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6" fill="hold">
                      <p:stCondLst>
                        <p:cond delay="indefinite"/>
                      </p:stCondLst>
                      <p:childTnLst>
                        <p:par>
                          <p:cTn id="1667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0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3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6" dur="5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7" dur="500" fill="hold"/>
                                        <p:tgtEl>
                                          <p:spTgt spid="3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pklausa. Imties dy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komos formulė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ritinės reikšmės                  apskaičiavimo tvar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ntelė 6 priedas p. 339 S.Puškorius. Veiklos aud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mpiuteri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tart/Programs/Microsoft Excel/Insert/Function/Normsinv surinkti        reikšmę/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3132000" y="2205000"/>
                <a:ext cx="403236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N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916360" y="3716280"/>
                <a:ext cx="129528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2073240" y="5551560"/>
                <a:ext cx="36036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1A390-93FF-47D5-B8D8-5CC8A4B319B0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8" dur="indefinite" restart="never" nodeType="tmRoot">
          <p:childTnLst>
            <p:seq>
              <p:cTn id="1679" dur="indefinite" nodeType="mainSeq">
                <p:childTnLst>
                  <p:par>
                    <p:cTn id="1680" fill="hold">
                      <p:stCondLst>
                        <p:cond delay="indefinite"/>
                      </p:stCondLst>
                      <p:childTnLst>
                        <p:par>
                          <p:cTn id="1681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fill="hold">
                      <p:stCondLst>
                        <p:cond delay="indefinite"/>
                      </p:stCondLst>
                      <p:childTnLst>
                        <p:par>
                          <p:cTn id="1693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fill="hold">
                      <p:stCondLst>
                        <p:cond delay="indefinite"/>
                      </p:stCondLst>
                      <p:childTnLst>
                        <p:par>
                          <p:cTn id="1705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fill="hold">
                      <p:stCondLst>
                        <p:cond delay="indefinite"/>
                      </p:stCondLst>
                      <p:childTnLst>
                        <p:par>
                          <p:cTn id="1717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1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4" dur="500" fill="hold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Intervalų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lima taikyti sudėties, atimties, daugybos ir dalybos iš skaičiaus operaci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81952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ulinis taškas skalėje parenkamas vadovaujantis kokiomis nors taisyklėm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962520"/>
            <a:ext cx="9144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ntykis tarp kintamųjų neturi prasm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961B-8168-4275-B641-01825A8430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pklausa. Imties dyd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aiškini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 apklausiami visi populiacijos atstovai, paklaida lygi nuliu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 atsakymai “Taip” “Ne”,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ra dalis, atsakiusi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titinkam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Atsakymus galima grupuoti pagal požym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 Didžiausia imtis, jei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0,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pskaičiuota tikslumo reikšmė nustato intervalą, kuriame yra požymio vidurk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6. Esant 95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patikimumui, rekomenduotinas imties dydis 100-300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slumas yra intervale 10-2 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CED3-662C-48D8-A546-F89DCAA4CAC2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6" dur="indefinite" restart="never" nodeType="tmRoot">
          <p:childTnLst>
            <p:seq>
              <p:cTn id="1727" dur="indefinite" nodeType="mainSeq">
                <p:childTnLst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9" dur="500" fill="hold"/>
                                        <p:tgtEl>
                                          <p:spTgt spid="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0" fill="hold">
                      <p:stCondLst>
                        <p:cond delay="indefinite"/>
                      </p:stCondLst>
                      <p:childTnLst>
                        <p:par>
                          <p:cTn id="1741" fill="hold">
                            <p:stCondLst>
                              <p:cond delay="0"/>
                            </p:stCondLst>
                            <p:childTnLst>
                              <p:par>
                                <p:cTn id="17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5" dur="500" fill="hold"/>
                                        <p:tgtEl>
                                          <p:spTgt spid="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fill="hold">
                      <p:stCondLst>
                        <p:cond delay="indefinite"/>
                      </p:stCondLst>
                      <p:childTnLst>
                        <p:par>
                          <p:cTn id="1747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0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1" dur="500" fill="hold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2" fill="hold">
                      <p:stCondLst>
                        <p:cond delay="indefinite"/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6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7" dur="500" fill="hold"/>
                                        <p:tgtEl>
                                          <p:spTgt spid="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2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3" dur="500" fill="hold"/>
                                        <p:tgtEl>
                                          <p:spTgt spid="3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fill="hold">
                      <p:stCondLst>
                        <p:cond delay="indefinite"/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8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9" dur="500" fill="hold"/>
                                        <p:tgtEl>
                                          <p:spTgt spid="3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4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5" dur="500" fill="hold"/>
                                        <p:tgtEl>
                                          <p:spTgt spid="3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mties dydis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grindiniai veiksniai, įtakojantys imties dydį yr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21337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šmingumo lygmuo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α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28195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lia 1-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4290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ui reikšmingas skirtumas </a:t>
            </a:r>
            <a:r>
              <a:rPr b="1" lang="el-GR" sz="28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, kurį nor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ptikti, naudojantis specialiaisiais metod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441972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riamų populiacijų standartiniai nuokrypia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urie dažniausiai nėra žinom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0" y="548496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ų reikšmės paprastai įvertinam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miantis ankstesnių tyrimų rezultatais, patirti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5E8-8066-4B9D-A73C-D648D44DD5D3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6" dur="indefinite" restart="never" nodeType="tmRoot">
          <p:childTnLst>
            <p:seq>
              <p:cTn id="1777" dur="indefinite" nodeType="mainSeq">
                <p:childTnLst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2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4" fill="hold">
                      <p:stCondLst>
                        <p:cond delay="indefinite"/>
                      </p:stCondLst>
                      <p:childTnLst>
                        <p:par>
                          <p:cTn id="1785" fill="hold">
                            <p:stCondLst>
                              <p:cond delay="0"/>
                            </p:stCondLst>
                            <p:childTnLst>
                              <p:par>
                                <p:cTn id="17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9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0" fill="hold">
                      <p:stCondLst>
                        <p:cond delay="indefinite"/>
                      </p:stCondLst>
                      <p:childTnLst>
                        <p:par>
                          <p:cTn id="1791" fill="hold">
                            <p:stCondLst>
                              <p:cond delay="0"/>
                            </p:stCondLst>
                            <p:childTnLst>
                              <p:par>
                                <p:cTn id="1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6" fill="hold">
                      <p:stCondLst>
                        <p:cond delay="indefinite"/>
                      </p:stCondLst>
                      <p:childTnLst>
                        <p:par>
                          <p:cTn id="1797" fill="hold">
                            <p:stCondLst>
                              <p:cond delay="0"/>
                            </p:stCondLst>
                            <p:childTnLst>
                              <p:par>
                                <p:cTn id="17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0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8" fill="hold">
                      <p:stCondLst>
                        <p:cond delay="indefinite"/>
                      </p:stCondLst>
                      <p:childTnLst>
                        <p:par>
                          <p:cTn id="1809" fill="hold">
                            <p:stCondLst>
                              <p:cond delay="0"/>
                            </p:stCondLst>
                            <p:childTnLst>
                              <p:par>
                                <p:cTn id="18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. Imties dydis populiacijų vidurkių palyginimo atve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Dvi populiac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0480" y="242712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rkime, kad auditorius nori patikrinti, ar dviejų populiacijų tiriamųjų požymių vidurkiai yra vienod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0480" y="3646440"/>
            <a:ext cx="90835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kio dydžio imtis jis turėtų išrinkti iš tiriamų populiacijų, kad su pasirinktu reikšmingumo lygmeniu ir galia galėtų pagrįstai teigti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d skirtumas tarp imčių vidurki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yra statistiškai reikšming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BF48-1B45-489F-A0CF-98285E12937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0" dur="indefinite" restart="never" nodeType="tmRoot">
          <p:childTnLst>
            <p:seq>
              <p:cTn id="1821" dur="indefinite" nodeType="mainSeq">
                <p:childTnLst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2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4" fill="hold">
                      <p:stCondLst>
                        <p:cond delay="indefinite"/>
                      </p:stCondLst>
                      <p:childTnLst>
                        <p:par>
                          <p:cTn id="1835" fill="hold">
                            <p:stCondLst>
                              <p:cond delay="0"/>
                            </p:stCondLst>
                            <p:childTnLst>
                              <p:par>
                                <p:cTn id="18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0" fill="hold">
                      <p:stCondLst>
                        <p:cond delay="indefinite"/>
                      </p:stCondLst>
                      <p:childTnLst>
                        <p:par>
                          <p:cTn id="1841" fill="hold">
                            <p:stCondLst>
                              <p:cond delay="0"/>
                            </p:stCondLst>
                            <p:childTnLst>
                              <p:par>
                                <p:cTn id="1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4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. Imties dydis populiacijų vidurkių palyginimo atve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Dvi populiacijos, imčių dydžiai vienodi, standartiniai nuokrypiai skirting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Imčių dydžia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reikšmingumo lygmu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kriterijaus gali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tyrimui reikšmingas skirtumas, kurį norima aptikti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 ir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 – standartiniai nuokrypiai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684360" y="2492280"/>
                <a:ext cx="496728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b>
                        </m:sSub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6443640" y="2997360"/>
                <a:ext cx="1800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BA7D-FF3E-4A95-8848-7A91366645A1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. Imties dydis populiacijų vidurkių palyginimo atve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vi populiacijos, imčių dydžiai vienodi, standartiniai nuokrypiai vieno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mčių dydži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1" name=""/>
              <p:cNvSpPr txBox="1"/>
              <p:nvPr/>
            </p:nvSpPr>
            <p:spPr>
              <a:xfrm>
                <a:off x="2556000" y="2997360"/>
                <a:ext cx="4038480" cy="19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σ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~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7751-C0F0-4745-8A51-CB9AC0C07A9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. Imties dydis populiacijų vidurkių palyginimo atve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vi populiacijos, imčių dydžiai skirtingi: m&lt;n, standartiniai nuokrypiai vienod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mčių dydži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irmosios –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ntrosios vietoj n reikia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ydžio imt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4" name=""/>
              <p:cNvSpPr txBox="1"/>
              <p:nvPr/>
            </p:nvSpPr>
            <p:spPr>
              <a:xfrm>
                <a:off x="2916360" y="3741840"/>
                <a:ext cx="201600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051-A30D-419E-B41C-A276A2DC6834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. Imties dydis populiacijų požymių proporcijų palyginimo atve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8280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yginamų imčių dydis turi bū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-lyginamų proporcijų reikšmė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700360" y="2214720"/>
                <a:ext cx="29512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β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826920" y="4437000"/>
                <a:ext cx="119700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1FCF-0A6F-4172-8DA3-B4872A96A48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mties dydis esant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opuliacijoms ir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ategorijo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urim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*k dydžio imt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orime aptikti skirstiniuo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ydžio skirtu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mties dydis turi bū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3635280" y="3284640"/>
                <a:ext cx="2032200" cy="59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=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acc>
                          <m:accPr>
                            <m:chr m:val="~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3419640" y="4653000"/>
                <a:ext cx="2952720" cy="16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≥</m:t>
                    </m:r>
                    <m:f>
                      <m:num>
                        <m:sSubSup>
                          <m:e>
                            <m:r>
                              <m:t xml:space="preserve">χ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,</m:t>
                            </m:r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p>
                          <m:e>
                            <m:r>
                              <m:t xml:space="preserve">δ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93FB-4CCA-4F9D-B417-9E6636AD12A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ės apie homogeniškumą tikr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rinama, ar kelios skirtingos   populiacijos tam tikro požymio atžvilgiu yra vienodos (homogenišk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189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agrinėjamos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skirtingos populiaci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0480" y="395136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ertinamas kiekvienos iš jų vienas kategorinis kintamasis, susidedantis iš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tegorij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480" y="509436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urinktus duomenis galima surašyti dažnių lentelėje (9 lentelė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A462-EE36-4059-AA57-5901DFCBFF3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6" dur="indefinite" restart="never" nodeType="tmRoot">
          <p:childTnLst>
            <p:seq>
              <p:cTn id="1847" dur="indefinite" nodeType="mainSeq">
                <p:childTnLst>
                  <p:par>
                    <p:cTn id="1848" fill="hold">
                      <p:stCondLst>
                        <p:cond delay="indefinite"/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8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9" dur="5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0" fill="hold">
                      <p:stCondLst>
                        <p:cond delay="indefinite"/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6" fill="hold">
                      <p:stCondLst>
                        <p:cond delay="indefinite"/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2" fill="hold">
                      <p:stCondLst>
                        <p:cond delay="indefinite"/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ės apie homogeniškumą tikr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kirtingų populiacijų kategorinio kintamojo dažni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324000" y="2133720"/>
          <a:ext cx="8218440" cy="4471560"/>
        </p:xfrm>
        <a:graphic>
          <a:graphicData uri="http://schemas.openxmlformats.org/drawingml/2006/table">
            <a:tbl>
              <a:tblPr/>
              <a:tblGrid>
                <a:gridCol w="1644480"/>
                <a:gridCol w="1644840"/>
                <a:gridCol w="1639800"/>
                <a:gridCol w="1644840"/>
                <a:gridCol w="1644480"/>
              </a:tblGrid>
              <a:tr h="687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puliacijos 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tamojo kategor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š vi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91" name=""/>
              <p:cNvSpPr txBox="1"/>
              <p:nvPr/>
            </p:nvSpPr>
            <p:spPr>
              <a:xfrm>
                <a:off x="7451640" y="2781360"/>
                <a:ext cx="647640" cy="62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2" name=""/>
              <p:cNvSpPr txBox="1"/>
              <p:nvPr/>
            </p:nvSpPr>
            <p:spPr>
              <a:xfrm>
                <a:off x="684360" y="6021360"/>
                <a:ext cx="431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2496960" y="6048360"/>
                <a:ext cx="405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4199040" y="6093000"/>
                <a:ext cx="431640" cy="44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5867280" y="6008760"/>
                <a:ext cx="43200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7524720" y="3716280"/>
                <a:ext cx="50472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7575480" y="4508640"/>
                <a:ext cx="5256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7524720" y="5229360"/>
                <a:ext cx="5256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2444760" y="3645000"/>
                <a:ext cx="6364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796000" y="3645000"/>
                <a:ext cx="67932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140360" y="3645000"/>
                <a:ext cx="6793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1AA-0493-4288-96F6-8144E684CD6B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Santyki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ožymio reikšmė negali būti įvertinta neigiamu skaičiu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251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ai vertinamo požymio nėra, skalės reikšmė lygi nuli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3352680"/>
            <a:ext cx="899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intamasis turi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absoliutaus nulio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tašk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227480"/>
            <a:ext cx="91440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antykis tarp kintamojo reikšmių turi aiškią fizinę prasmę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181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jis nustato, kiek kartų (arba kiek procentų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okio nors požymio yra daugiau arba mažiau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18299-F176-4E46-83A3-1A693042F82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ės apie homogeniškumą tikr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riterijaus statis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ntroji šios formulės dalis – tikėtini dažni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aisvės laipsnių skaičius (c-1)(r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prendimas: mulinė hipotezė atmetama, jei apskaičiuta statistika didesnė už teorinę jos reikšm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4" name=""/>
              <p:cNvSpPr txBox="1"/>
              <p:nvPr/>
            </p:nvSpPr>
            <p:spPr>
              <a:xfrm>
                <a:off x="1547640" y="2060640"/>
                <a:ext cx="5185080" cy="14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e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n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m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C2B7-F27C-4277-85D4-5A13F2D2EDC5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ės apie homogeniškumą tikr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aikant šį kriterijų reikia, k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480" y="24271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Imtis būtų ne mažesnė nei 3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-92160" y="3189240"/>
            <a:ext cx="92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Ne daugiau nei ketvirtadal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ių reikšmių būtų mažesnės nei 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0480" y="433224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Sprendimas: jei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&lt;</a:t>
            </a:r>
            <a:r>
              <a:rPr b="1" i="1" lang="el-GR" sz="2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, nulinė hipotezė atmet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76BF-2F85-48FA-95A1-6062B2259FC1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6" fill="hold">
                      <p:stCondLst>
                        <p:cond delay="indefinite"/>
                      </p:stCondLst>
                      <p:childTnLst>
                        <p:par>
                          <p:cTn id="1887" fill="hold">
                            <p:stCondLst>
                              <p:cond delay="0"/>
                            </p:stCondLst>
                            <p:childTnLst>
                              <p:par>
                                <p:cTn id="18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0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1" dur="500" fill="hold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2" fill="hold">
                      <p:stCondLst>
                        <p:cond delay="indefinite"/>
                      </p:stCondLst>
                      <p:childTnLst>
                        <p:par>
                          <p:cTn id="1893" fill="hold">
                            <p:stCondLst>
                              <p:cond delay="0"/>
                            </p:stCondLst>
                            <p:childTnLst>
                              <p:par>
                                <p:cTn id="18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8" fill="hold">
                      <p:stCondLst>
                        <p:cond delay="indefinite"/>
                      </p:stCondLst>
                      <p:childTnLst>
                        <p:par>
                          <p:cTn id="1899" fill="hold">
                            <p:stCondLst>
                              <p:cond delay="0"/>
                            </p:stCondLst>
                            <p:childTnLst>
                              <p:par>
                                <p:cTn id="19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ės apie nepriklausomumą tikr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riterijus, veiksmai ir išvados analogiškos kaip ir tikrinant homogeniškum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6440" y="341784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kirtum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480" y="410364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 Stulpelyje išdėstomos vieno kintamojo reikšm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0" y="47242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 Eilutėje išdėstomos kito kintamojo reikšm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36440" y="532296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 apskaičiuota statistika didesnė už teorinę, – kintamieji priklauso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5BF96-6E5E-413B-8C4E-0989F7A69FA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0" dur="indefinite" restart="never" nodeType="tmRoot">
          <p:childTnLst>
            <p:seq>
              <p:cTn id="1911" dur="indefinite" nodeType="mainSeq">
                <p:childTnLst>
                  <p:par>
                    <p:cTn id="1912" fill="hold">
                      <p:stCondLst>
                        <p:cond delay="indefinite"/>
                      </p:stCondLst>
                      <p:childTnLst>
                        <p:par>
                          <p:cTn id="1913" fill="hold">
                            <p:stCondLst>
                              <p:cond delay="0"/>
                            </p:stCondLst>
                            <p:childTnLst>
                              <p:par>
                                <p:cTn id="19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2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4" fill="hold">
                      <p:stCondLst>
                        <p:cond delay="indefinite"/>
                      </p:stCondLst>
                      <p:childTnLst>
                        <p:par>
                          <p:cTn id="1925" fill="hold">
                            <p:stCondLst>
                              <p:cond delay="0"/>
                            </p:stCondLst>
                            <p:childTnLst>
                              <p:par>
                                <p:cTn id="1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8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0" fill="hold">
                      <p:stCondLst>
                        <p:cond delay="indefinite"/>
                      </p:stCondLst>
                      <p:childTnLst>
                        <p:par>
                          <p:cTn id="1931" fill="hold">
                            <p:stCondLst>
                              <p:cond delay="0"/>
                            </p:stCondLst>
                            <p:childTnLst>
                              <p:par>
                                <p:cTn id="1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fill="hold">
                      <p:stCondLst>
                        <p:cond delay="indefinite"/>
                      </p:stCondLst>
                      <p:childTnLst>
                        <p:par>
                          <p:cTn id="1937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2" fill="hold">
                      <p:stCondLst>
                        <p:cond delay="indefinite"/>
                      </p:stCondLst>
                      <p:childTnLst>
                        <p:par>
                          <p:cTn id="1943" fill="hold">
                            <p:stCondLst>
                              <p:cond delay="0"/>
                            </p:stCondLst>
                            <p:childTnLst>
                              <p:par>
                                <p:cTn id="1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nketavimas.</a:t>
            </a: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emos pasirink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emos profili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36440" y="250344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eorinis analiti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36440" y="326556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ktinis eksperimentin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962520"/>
            <a:ext cx="92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objekto nustat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0" y="464832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limybių atlikti tyrimą apta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C36F-E9AB-422B-A673-5DD82B290503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8" dur="indefinite" restart="never" nodeType="tmRoot">
          <p:childTnLst>
            <p:seq>
              <p:cTn id="1949" dur="indefinite" nodeType="mainSeq">
                <p:childTnLst>
                  <p:par>
                    <p:cTn id="1950" fill="hold">
                      <p:stCondLst>
                        <p:cond delay="indefinite"/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6" fill="hold">
                      <p:stCondLst>
                        <p:cond delay="indefinite"/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1" dur="500" fill="hold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fill="hold">
                      <p:stCondLst>
                        <p:cond delay="indefinite"/>
                      </p:stCondLst>
                      <p:childTnLst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3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4" fill="hold">
                      <p:stCondLst>
                        <p:cond delay="indefinite"/>
                      </p:stCondLst>
                      <p:childTnLst>
                        <p:par>
                          <p:cTn id="1975" fill="hold">
                            <p:stCondLst>
                              <p:cond delay="0"/>
                            </p:stCondLst>
                            <p:childTnLst>
                              <p:par>
                                <p:cTn id="1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8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9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0" fill="hold">
                      <p:stCondLst>
                        <p:cond delay="indefinite"/>
                      </p:stCondLst>
                      <p:childTnLst>
                        <p:par>
                          <p:cTn id="1981" fill="hold">
                            <p:stCondLst>
                              <p:cond delay="0"/>
                            </p:stCondLst>
                            <p:childTnLst>
                              <p:par>
                                <p:cTn id="1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sirinktos temos tiksl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0" y="1447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eliamos hipotez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243828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Formuluojami tikslai ir uždav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0" y="30369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irenkami tyrimo metod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0480" y="372276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ustatoma ataskaito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truktū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0480" y="440856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dentifikuojami informacijos šalt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0" y="5105520"/>
            <a:ext cx="88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vertinama, kas gali padėti atliekant tyrim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261D-A664-4A71-8FD0-36ACB87C6E7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fill="hold">
                      <p:stCondLst>
                        <p:cond delay="indefinite"/>
                      </p:stCondLst>
                      <p:childTnLst>
                        <p:par>
                          <p:cTn id="1989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3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4" fill="hold">
                      <p:stCondLst>
                        <p:cond delay="indefinite"/>
                      </p:stCondLst>
                      <p:childTnLst>
                        <p:par>
                          <p:cTn id="1995" fill="hold">
                            <p:stCondLst>
                              <p:cond delay="0"/>
                            </p:stCondLst>
                            <p:childTnLst>
                              <p:par>
                                <p:cTn id="19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9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fill="hold">
                      <p:stCondLst>
                        <p:cond delay="indefinite"/>
                      </p:stCondLst>
                      <p:childTnLst>
                        <p:par>
                          <p:cTn id="2001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6" fill="hold">
                      <p:stCondLst>
                        <p:cond delay="indefinite"/>
                      </p:stCondLst>
                      <p:childTnLst>
                        <p:par>
                          <p:cTn id="2007" fill="hold">
                            <p:stCondLst>
                              <p:cond delay="0"/>
                            </p:stCondLst>
                            <p:childTnLst>
                              <p:par>
                                <p:cTn id="2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2" fill="hold">
                      <p:stCondLst>
                        <p:cond delay="indefinite"/>
                      </p:stCondLst>
                      <p:childTnLst>
                        <p:par>
                          <p:cTn id="2013" fill="hold">
                            <p:stCondLst>
                              <p:cond delay="0"/>
                            </p:stCondLst>
                            <p:childTnLst>
                              <p:par>
                                <p:cTn id="20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8" fill="hold">
                      <p:stCondLst>
                        <p:cond delay="indefinite"/>
                      </p:stCondLst>
                      <p:childTnLst>
                        <p:par>
                          <p:cTn id="2019" fill="hold">
                            <p:stCondLst>
                              <p:cond delay="0"/>
                            </p:stCondLst>
                            <p:childTnLst>
                              <p:par>
                                <p:cTn id="20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4" fill="hold">
                      <p:stCondLst>
                        <p:cond delay="indefinite"/>
                      </p:stCondLst>
                      <p:childTnLst>
                        <p:par>
                          <p:cTn id="2025" fill="hold">
                            <p:stCondLst>
                              <p:cond delay="0"/>
                            </p:stCondLst>
                            <p:childTnLst>
                              <p:par>
                                <p:cTn id="2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9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reliminarus darbo tur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Hipotezių, tikslų ir uždavinių tiksl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243828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riamojo objekto struktūra, dydi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iskirtos jam funkci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0" y="358128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metodų apta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0" y="441972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Užduočių formulav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7E84-9DAA-4800-B410-BEF28B8A4F3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0" dur="indefinite" restart="never" nodeType="tmRoot">
          <p:childTnLst>
            <p:seq>
              <p:cTn id="2031" dur="indefinite" nodeType="mainSeq">
                <p:childTnLst>
                  <p:par>
                    <p:cTn id="2032" fill="hold">
                      <p:stCondLst>
                        <p:cond delay="indefinite"/>
                      </p:stCondLst>
                      <p:childTnLst>
                        <p:par>
                          <p:cTn id="2033" fill="hold">
                            <p:stCondLst>
                              <p:cond delay="0"/>
                            </p:stCondLst>
                            <p:childTnLst>
                              <p:par>
                                <p:cTn id="20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8" fill="hold">
                      <p:stCondLst>
                        <p:cond delay="indefinite"/>
                      </p:stCondLst>
                      <p:childTnLst>
                        <p:par>
                          <p:cTn id="2039" fill="hold">
                            <p:stCondLst>
                              <p:cond delay="0"/>
                            </p:stCondLst>
                            <p:childTnLst>
                              <p:par>
                                <p:cTn id="20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2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0" fill="hold">
                      <p:stCondLst>
                        <p:cond delay="indefinite"/>
                      </p:stCondLst>
                      <p:childTnLst>
                        <p:par>
                          <p:cTn id="2051" fill="hold">
                            <p:stCondLst>
                              <p:cond delay="0"/>
                            </p:stCondLst>
                            <p:childTnLst>
                              <p:par>
                                <p:cTn id="20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4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0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uo ko pradėti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uo tyri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0" y="182880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Esm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60480" y="251460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Metodik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3200400"/>
            <a:ext cx="92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Respondentų kategorijų nustaty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0" y="3886200"/>
            <a:ext cx="923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 Apsisprendimo dėl imties dydž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610480" y="510552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4495680"/>
            <a:ext cx="879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5. Klausimyno sudary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505764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6. Apklausos technologijos pasirink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55627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7. Duomenų analizės būdų nustaty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6170760"/>
            <a:ext cx="908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8. Preliminarių laukiamų rezultatų formulav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A662-BB83-40D0-9F23-17C4081EE8F5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2" dur="indefinite" restart="never" nodeType="tmRoot">
          <p:childTnLst>
            <p:seq>
              <p:cTn id="2063" dur="indefinite" nodeType="mainSeq">
                <p:childTnLst>
                  <p:par>
                    <p:cTn id="2064" fill="hold">
                      <p:stCondLst>
                        <p:cond delay="indefinite"/>
                      </p:stCondLst>
                      <p:childTnLst>
                        <p:par>
                          <p:cTn id="2065" fill="hold">
                            <p:stCondLst>
                              <p:cond delay="0"/>
                            </p:stCondLst>
                            <p:childTnLst>
                              <p:par>
                                <p:cTn id="2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4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5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6" fill="hold">
                      <p:stCondLst>
                        <p:cond delay="indefinite"/>
                      </p:stCondLst>
                      <p:childTnLst>
                        <p:par>
                          <p:cTn id="2077" fill="hold">
                            <p:stCondLst>
                              <p:cond delay="0"/>
                            </p:stCondLst>
                            <p:childTnLst>
                              <p:par>
                                <p:cTn id="2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fill="hold">
                      <p:stCondLst>
                        <p:cond delay="indefinite"/>
                      </p:stCondLst>
                      <p:childTnLst>
                        <p:par>
                          <p:cTn id="2083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6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4" fill="hold">
                      <p:stCondLst>
                        <p:cond delay="indefinite"/>
                      </p:stCondLst>
                      <p:childTnLst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0" fill="hold">
                      <p:stCondLst>
                        <p:cond delay="indefinite"/>
                      </p:stCondLst>
                      <p:childTnLst>
                        <p:par>
                          <p:cTn id="2101" fill="hold">
                            <p:stCondLst>
                              <p:cond delay="0"/>
                            </p:stCondLst>
                            <p:childTnLst>
                              <p:par>
                                <p:cTn id="2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4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5" dur="500" fill="hold"/>
                                        <p:tgtEl>
                                          <p:spTgt spid="4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6" fill="hold">
                      <p:stCondLst>
                        <p:cond delay="indefinite"/>
                      </p:stCondLst>
                      <p:childTnLst>
                        <p:par>
                          <p:cTn id="2107" fill="hold">
                            <p:stCondLst>
                              <p:cond delay="0"/>
                            </p:stCondLst>
                            <p:childTnLst>
                              <p:par>
                                <p:cTn id="2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1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2" fill="hold">
                      <p:stCondLst>
                        <p:cond delay="indefinite"/>
                      </p:stCondLst>
                      <p:childTnLst>
                        <p:par>
                          <p:cTn id="2113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8" fill="hold">
                      <p:stCondLst>
                        <p:cond delay="indefinite"/>
                      </p:stCondLst>
                      <p:childTnLst>
                        <p:par>
                          <p:cTn id="2119" fill="hold">
                            <p:stCondLst>
                              <p:cond delay="0"/>
                            </p:stCondLst>
                            <p:childTnLst>
                              <p:par>
                                <p:cTn id="2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yrimo esm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yrimas turi tikrinti iškeltas hipotez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0" y="236232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ia parinkti tinkamą tyrimo metodik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0" y="304812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Būtina ją smulkiai apraš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0480" y="372276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pibrėžti veiksnius, į kuriuos atsižvelgta 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 kuriuos 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0" y="472428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pibūdinti respondentų atrankos metodik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60480" y="53989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dėl ir kokios respondentų kategorijos išski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05DA-B597-471E-B3BB-215B1625452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4" dur="indefinite" restart="never" nodeType="tmRoot">
          <p:childTnLst>
            <p:seq>
              <p:cTn id="2125" dur="indefinite" nodeType="mainSeq">
                <p:childTnLst>
                  <p:par>
                    <p:cTn id="2126" fill="hold">
                      <p:stCondLst>
                        <p:cond delay="indefinite"/>
                      </p:stCondLst>
                      <p:childTnLst>
                        <p:par>
                          <p:cTn id="2127" fill="hold">
                            <p:stCondLst>
                              <p:cond delay="0"/>
                            </p:stCondLst>
                            <p:childTnLst>
                              <p:par>
                                <p:cTn id="2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2" fill="hold">
                      <p:stCondLst>
                        <p:cond delay="indefinite"/>
                      </p:stCondLst>
                      <p:childTnLst>
                        <p:par>
                          <p:cTn id="2133" fill="hold">
                            <p:stCondLst>
                              <p:cond delay="0"/>
                            </p:stCondLst>
                            <p:childTnLst>
                              <p:par>
                                <p:cTn id="2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7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4" fill="hold">
                      <p:stCondLst>
                        <p:cond delay="indefinite"/>
                      </p:stCondLst>
                      <p:childTnLst>
                        <p:par>
                          <p:cTn id="2145" fill="hold">
                            <p:stCondLst>
                              <p:cond delay="0"/>
                            </p:stCondLst>
                            <p:childTnLst>
                              <p:par>
                                <p:cTn id="2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8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9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0" fill="hold">
                      <p:stCondLst>
                        <p:cond delay="indefinite"/>
                      </p:stCondLst>
                      <p:childTnLst>
                        <p:par>
                          <p:cTn id="2151" fill="hold">
                            <p:stCondLst>
                              <p:cond delay="0"/>
                            </p:stCondLst>
                            <p:childTnLst>
                              <p:par>
                                <p:cTn id="2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6" fill="hold">
                      <p:stCondLst>
                        <p:cond delay="indefinite"/>
                      </p:stCondLst>
                      <p:childTnLst>
                        <p:par>
                          <p:cTn id="2157" fill="hold">
                            <p:stCondLst>
                              <p:cond delay="0"/>
                            </p:stCondLst>
                            <p:childTnLst>
                              <p:par>
                                <p:cTn id="2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yrimo metodi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kio tipo imtys bus taikom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2286000"/>
            <a:ext cx="9007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kios respondentų kategori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bus atrenkamos ir kodėl būtent toki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480" y="349416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p bus organizuota respondentų atrank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480" y="4103640"/>
            <a:ext cx="908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kie klausimai bus bend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oms kategorijoms, o kokie išskirtinia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480" y="509436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p bus organizuota apklau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0480" y="5627520"/>
            <a:ext cx="893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kie duomenų analizės metodai bus taikom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B70C-E93D-4138-BBA2-B15D9EFC7B09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8" dur="indefinite" restart="never" nodeType="tmRoot">
          <p:childTnLst>
            <p:seq>
              <p:cTn id="2169" dur="indefinite" nodeType="mainSeq">
                <p:childTnLst>
                  <p:par>
                    <p:cTn id="2170" fill="hold">
                      <p:stCondLst>
                        <p:cond delay="indefinite"/>
                      </p:stCondLst>
                      <p:childTnLst>
                        <p:par>
                          <p:cTn id="2171" fill="hold">
                            <p:stCondLst>
                              <p:cond delay="0"/>
                            </p:stCondLst>
                            <p:childTnLst>
                              <p:par>
                                <p:cTn id="2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6" fill="hold">
                      <p:stCondLst>
                        <p:cond delay="indefinite"/>
                      </p:stCondLst>
                      <p:childTnLst>
                        <p:par>
                          <p:cTn id="2177" fill="hold">
                            <p:stCondLst>
                              <p:cond delay="0"/>
                            </p:stCondLst>
                            <p:childTnLst>
                              <p:par>
                                <p:cTn id="2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0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1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2" fill="hold">
                      <p:stCondLst>
                        <p:cond delay="indefinite"/>
                      </p:stCondLst>
                      <p:childTnLst>
                        <p:par>
                          <p:cTn id="2183" fill="hold">
                            <p:stCondLst>
                              <p:cond delay="0"/>
                            </p:stCondLst>
                            <p:childTnLst>
                              <p:par>
                                <p:cTn id="2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8" fill="hold">
                      <p:stCondLst>
                        <p:cond delay="indefinite"/>
                      </p:stCondLst>
                      <p:childTnLst>
                        <p:par>
                          <p:cTn id="2189" fill="hold">
                            <p:stCondLst>
                              <p:cond delay="0"/>
                            </p:stCondLst>
                            <p:childTnLst>
                              <p:par>
                                <p:cTn id="2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4" fill="hold">
                      <p:stCondLst>
                        <p:cond delay="indefinite"/>
                      </p:stCondLst>
                      <p:childTnLst>
                        <p:par>
                          <p:cTn id="2195" fill="hold">
                            <p:stCondLst>
                              <p:cond delay="0"/>
                            </p:stCondLst>
                            <p:childTnLst>
                              <p:par>
                                <p:cTn id="2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6" fill="hold">
                      <p:stCondLst>
                        <p:cond delay="indefinite"/>
                      </p:stCondLst>
                      <p:childTnLst>
                        <p:par>
                          <p:cTn id="2207" fill="hold">
                            <p:stCondLst>
                              <p:cond delay="0"/>
                            </p:stCondLst>
                            <p:childTnLst>
                              <p:par>
                                <p:cTn id="2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. Klausimyno sudar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ypatingai svarbus ir sudėtingas etap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0480" y="182880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ausimai siejasi su hipotezėmis ir tiksl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0480" y="24382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ia išvengti tendencingų atsakym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312408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ausimai turi būti aiškūs respondent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0" y="3657600"/>
            <a:ext cx="938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ausimų kiekis turi būti minimal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426708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Uždari ir atviri klausi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0" y="487692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ikerto skalės privalu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0" y="548640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ausimai turi atitikti respondentų žinių lyg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6019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ausimų ir atsakymų pateikimo tvar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95686-1006-41E1-9645-43D90C900018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2" dur="indefinite" restart="never" nodeType="tmRoot">
          <p:childTnLst>
            <p:seq>
              <p:cTn id="2213" dur="indefinite" nodeType="mainSeq">
                <p:childTnLst>
                  <p:par>
                    <p:cTn id="2214" fill="hold">
                      <p:stCondLst>
                        <p:cond delay="indefinite"/>
                      </p:stCondLst>
                      <p:childTnLst>
                        <p:par>
                          <p:cTn id="2215" fill="hold">
                            <p:stCondLst>
                              <p:cond delay="0"/>
                            </p:stCondLst>
                            <p:childTnLst>
                              <p:par>
                                <p:cTn id="2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0" fill="hold">
                      <p:stCondLst>
                        <p:cond delay="indefinite"/>
                      </p:stCondLst>
                      <p:childTnLst>
                        <p:par>
                          <p:cTn id="2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4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5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2" fill="hold">
                      <p:stCondLst>
                        <p:cond delay="indefinite"/>
                      </p:stCondLst>
                      <p:childTnLst>
                        <p:par>
                          <p:cTn id="2233" fill="hold">
                            <p:stCondLst>
                              <p:cond delay="0"/>
                            </p:stCondLst>
                            <p:childTnLst>
                              <p:par>
                                <p:cTn id="2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8" fill="hold">
                      <p:stCondLst>
                        <p:cond delay="indefinite"/>
                      </p:stCondLst>
                      <p:childTnLst>
                        <p:par>
                          <p:cTn id="2239" fill="hold">
                            <p:stCondLst>
                              <p:cond delay="0"/>
                            </p:stCondLst>
                            <p:childTnLst>
                              <p:par>
                                <p:cTn id="2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4" fill="hold">
                      <p:stCondLst>
                        <p:cond delay="indefinite"/>
                      </p:stCondLst>
                      <p:childTnLst>
                        <p:par>
                          <p:cTn id="2245" fill="hold">
                            <p:stCondLst>
                              <p:cond delay="0"/>
                            </p:stCondLst>
                            <p:childTnLst>
                              <p:par>
                                <p:cTn id="2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0" fill="hold">
                      <p:stCondLst>
                        <p:cond delay="indefinite"/>
                      </p:stCondLst>
                      <p:childTnLst>
                        <p:par>
                          <p:cTn id="2251" fill="hold">
                            <p:stCondLst>
                              <p:cond delay="0"/>
                            </p:stCondLst>
                            <p:childTnLst>
                              <p:par>
                                <p:cTn id="2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6" fill="hold">
                      <p:stCondLst>
                        <p:cond delay="indefinite"/>
                      </p:stCondLst>
                      <p:childTnLst>
                        <p:par>
                          <p:cTn id="2257" fill="hold">
                            <p:stCondLst>
                              <p:cond delay="0"/>
                            </p:stCondLst>
                            <p:childTnLst>
                              <p:par>
                                <p:cTn id="2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2" fill="hold">
                      <p:stCondLst>
                        <p:cond delay="indefinite"/>
                      </p:stCondLst>
                      <p:childTnLst>
                        <p:par>
                          <p:cTn id="2263" fill="hold">
                            <p:stCondLst>
                              <p:cond delay="0"/>
                            </p:stCondLst>
                            <p:childTnLst>
                              <p:par>
                                <p:cTn id="2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8" fill="hold">
                      <p:stCondLst>
                        <p:cond delay="indefinite"/>
                      </p:stCondLst>
                      <p:childTnLst>
                        <p:par>
                          <p:cTn id="2269" fill="hold">
                            <p:stCondLst>
                              <p:cond delay="0"/>
                            </p:stCondLst>
                            <p:childTnLst>
                              <p:par>
                                <p:cTn id="2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Imtys ir reikalavimai j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Populiacija –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i objek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514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Imti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– dalis populiaci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1892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alavimai imč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886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i turi būti reprezentaty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572000"/>
            <a:ext cx="9144000" cy="9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mties elementai turi būti atrenkam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tsitiktiniu bū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2280" y="5791320"/>
            <a:ext cx="914400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tsitiktinės imties elementų atrankos subtilybės apibūdinamos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randomizacijos sampr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B7D-94B5-4868-A434-C7AAAB539E7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6. Apklausos technolog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5482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tin svarb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2209680"/>
            <a:ext cx="900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tikinti respondentą atsaky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60480" y="28843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odėl jis atrinkt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0480" y="349416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yrimo rezultatų įtaka respondent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60480" y="410364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irinkti atitinkamą apklausos form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4648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riežtai laikytis apklausos reikalavim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0480" y="5170320"/>
            <a:ext cx="908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naudoti visus rezul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715000"/>
            <a:ext cx="923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iekti didesnio atsakiusiųjų proc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596C-1606-4804-BEF4-1AE092EBDBA5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4" dur="indefinite" restart="never" nodeType="tmRoot">
          <p:childTnLst>
            <p:seq>
              <p:cTn id="2275" dur="indefinite" nodeType="mainSeq">
                <p:childTnLst>
                  <p:par>
                    <p:cTn id="2276" fill="hold">
                      <p:stCondLst>
                        <p:cond delay="indefinite"/>
                      </p:stCondLst>
                      <p:childTnLst>
                        <p:par>
                          <p:cTn id="2277" fill="hold">
                            <p:stCondLst>
                              <p:cond delay="0"/>
                            </p:stCondLst>
                            <p:childTnLst>
                              <p:par>
                                <p:cTn id="2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0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2" fill="hold">
                      <p:stCondLst>
                        <p:cond delay="indefinite"/>
                      </p:stCondLst>
                      <p:childTnLst>
                        <p:par>
                          <p:cTn id="2283" fill="hold">
                            <p:stCondLst>
                              <p:cond delay="0"/>
                            </p:stCondLst>
                            <p:childTnLst>
                              <p:par>
                                <p:cTn id="2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6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7" dur="5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8" fill="hold">
                      <p:stCondLst>
                        <p:cond delay="indefinite"/>
                      </p:stCondLst>
                      <p:childTnLst>
                        <p:par>
                          <p:cTn id="2289" fill="hold">
                            <p:stCondLst>
                              <p:cond delay="0"/>
                            </p:stCondLst>
                            <p:childTnLst>
                              <p:par>
                                <p:cTn id="2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4" fill="hold">
                      <p:stCondLst>
                        <p:cond delay="indefinite"/>
                      </p:stCondLst>
                      <p:childTnLst>
                        <p:par>
                          <p:cTn id="2295" fill="hold">
                            <p:stCondLst>
                              <p:cond delay="0"/>
                            </p:stCondLst>
                            <p:childTnLst>
                              <p:par>
                                <p:cTn id="2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0" fill="hold">
                      <p:stCondLst>
                        <p:cond delay="indefinite"/>
                      </p:stCondLst>
                      <p:childTnLst>
                        <p:par>
                          <p:cTn id="2301" fill="hold">
                            <p:stCondLst>
                              <p:cond delay="0"/>
                            </p:stCondLst>
                            <p:childTnLst>
                              <p:par>
                                <p:cTn id="2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6" fill="hold">
                      <p:stCondLst>
                        <p:cond delay="indefinite"/>
                      </p:stCondLst>
                      <p:childTnLst>
                        <p:par>
                          <p:cTn id="2307" fill="hold">
                            <p:stCondLst>
                              <p:cond delay="0"/>
                            </p:stCondLst>
                            <p:childTnLst>
                              <p:par>
                                <p:cTn id="2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0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1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2" fill="hold">
                      <p:stCondLst>
                        <p:cond delay="indefinite"/>
                      </p:stCondLst>
                      <p:childTnLst>
                        <p:par>
                          <p:cTn id="2313" fill="hold">
                            <p:stCondLst>
                              <p:cond delay="0"/>
                            </p:stCondLst>
                            <p:childTnLst>
                              <p:par>
                                <p:cTn id="2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6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7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2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3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4" fill="hold">
                      <p:stCondLst>
                        <p:cond delay="indefinite"/>
                      </p:stCondLst>
                      <p:childTnLst>
                        <p:par>
                          <p:cTn id="2325" fill="hold">
                            <p:stCondLst>
                              <p:cond delay="0"/>
                            </p:stCondLst>
                            <p:childTnLst>
                              <p:par>
                                <p:cTn id="2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riterijaus        taik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kyti šį kriterijų galima, je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tebėjimai yra nepriklausomi ir priskirti tik vienam langeli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ndras stebėjimų skaičius yra ne mažesnis kaip 3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Bent 75% tikėtinų dažnių ne mažesni kaip 5 Tarkime, atlikus politikų ir valstybės tarnautojų apklausą dėl situacijos Lietuv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stojus į Europos Sąjungą, sudaryta tokia dažnių lentelė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0" y="0"/>
                <a:ext cx="21924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4495680" y="457200"/>
                <a:ext cx="5842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BD76-0B81-49BF-93BC-45646738BAB3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Duomenys apie politikų ir valstybės tarnautojų nuomon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152280" y="1600200"/>
          <a:ext cx="8991360" cy="4900680"/>
        </p:xfrm>
        <a:graphic>
          <a:graphicData uri="http://schemas.openxmlformats.org/drawingml/2006/table">
            <a:tbl>
              <a:tblPr/>
              <a:tblGrid>
                <a:gridCol w="2311920"/>
                <a:gridCol w="1712520"/>
                <a:gridCol w="1713240"/>
                <a:gridCol w="1883520"/>
                <a:gridCol w="1370160"/>
              </a:tblGrid>
              <a:tr h="896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eigų kategorij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omonė apie situacij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š vis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rė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pa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kei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blogė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 Politika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8,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8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Valstybė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nautojai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1,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7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1,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6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š viso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9B38F-75EB-4441-B8E7-EC9E6F46EA07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Uždavin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ia įvertinti, ar šių pareigūnų nuomonių skirtumai yra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esminiai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, ar susiję su duomenų atrankos procedūros paklaido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adinas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rinamas duomenų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homogeniškuma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ia palyginti kelių imčių duomeni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uriose išskirti vienodi vertinimo požymi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Elementų skaičius tose imtyse yra skirting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adinasi, būtina lyginti tų požymių pasirodymo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dažniu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08FE-D4FA-4629-A788-638D8F4CB70B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Uždavinio formaliz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Jei tie apskaičiuoti iš imčių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dažniai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yra vienodi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lima teigti, kad imtys nagrinėjamų požymių atžvilgiu yra vieno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lyginimo etalonu naudojamasi vadinamaisiais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tikėtinais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ožymių dažni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Tikėtini dažniai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randami ta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rkime, nagrinėjamos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skirtingos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populiacij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iekvienoje iš jų vertinamas vienas kategorinis kintamas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urinkti duomenys gali būti surašyti dažnių lentelė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4A59-02C0-4F22-BF83-67AE01D5A554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ikėtinų dažnių apskaičiavimo formu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Tikėtini dažniai, jei visi požymiai yra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nepriklausomi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, apskaičiuojami ta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- imties su numeriu 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respondentų skaičius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- respondentų skaičius, išsakiusių 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ategorijos nuomonę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– bendras dalyvavusių apklausoje respondentų skaiči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4" name=""/>
              <p:cNvSpPr txBox="1"/>
              <p:nvPr/>
            </p:nvSpPr>
            <p:spPr>
              <a:xfrm>
                <a:off x="4038480" y="2666880"/>
                <a:ext cx="134964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6" name=""/>
              <p:cNvSpPr txBox="1"/>
              <p:nvPr/>
            </p:nvSpPr>
            <p:spPr>
              <a:xfrm>
                <a:off x="2666880" y="2971800"/>
                <a:ext cx="12668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8" name=""/>
              <p:cNvSpPr txBox="1"/>
              <p:nvPr/>
            </p:nvSpPr>
            <p:spPr>
              <a:xfrm>
                <a:off x="304920" y="3809880"/>
                <a:ext cx="4064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87360" y="4495680"/>
                <a:ext cx="492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86E0-FC7F-4361-817D-595FA52E52DC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tebimi kintamųjų dažn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152280" y="1371600"/>
            <a:ext cx="8458200" cy="441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5D8F-FD87-46BD-8F5D-86E86FB6DB2D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Statistikos (kriterijaus) reikšm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riterijaus apskaičiavimo formulė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aisvės laipsniai apskaičiuojami pagal tokią formulę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(r-1)(c-1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vyzdyje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 r=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c=2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, todėl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df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Excel programa (Microsoft Excel / Insert /  function /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IDIST / x=0,455 / n=2 )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atome atsakymą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0,7965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vadinamoji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-reikšmė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7" name=""/>
              <p:cNvSpPr txBox="1"/>
              <p:nvPr/>
            </p:nvSpPr>
            <p:spPr>
              <a:xfrm>
                <a:off x="3048120" y="2004840"/>
                <a:ext cx="2598480" cy="91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c</m:t>
                            </m:r>
                          </m:sup>
                          <m:e>
                            <m:f>
                              <m:num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sSub>
                                  <m:e>
                                    <m:r>
                                      <m:t xml:space="preserve">e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den>
                            </m:f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51CE-08AF-459A-AB53-3E5EFDA20601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ritinė kriterijaus reikšm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839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ustatoma taip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irenkamas reikšmingumo lygmu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pskaičiuojamas laisvės laipsnių skaičius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gal formul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ę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(r-1)(c-1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vyzdyje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r=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c=2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, todėl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df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  Lentelėje (2 priedas) randame kritinę reikšmę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0" name=""/>
              <p:cNvSpPr txBox="1"/>
              <p:nvPr/>
            </p:nvSpPr>
            <p:spPr>
              <a:xfrm>
                <a:off x="3048120" y="2590920"/>
                <a:ext cx="281916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pvz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1" name=""/>
              <p:cNvSpPr txBox="1"/>
              <p:nvPr/>
            </p:nvSpPr>
            <p:spPr>
              <a:xfrm>
                <a:off x="3124080" y="5334120"/>
                <a:ext cx="32814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χ</m:t>
                        </m:r>
                      </m:e>
                      <m:sub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9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5785-AE4E-4D86-B5E3-6A49297D169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tatistikos (kriterijaus) reikšmė kompiuter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uvedame išeities duomenis: Microsoft 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ntelėje: stebimi dažniai – gardelėse B3:D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Lentelėje: tikėtini dažniai – gardelėse B6:D7 (skliausteliuo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-reikšm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nsert / Function / Statistical / CHITEST / OK / Actual range: B3:D4 / Ecpected range: B6:D7 /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akymas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 = 0,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erijaus statistik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nsert / Function / Statistical / CH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V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/ OK 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obability 0,05 / Deg freedom 2 / 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akymas –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5,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F3E-6D0F-4A30-A1C6-86E11AED25F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600" spc="-1" strike="noStrike">
                <a:solidFill>
                  <a:srgbClr val="000000"/>
                </a:solidFill>
                <a:latin typeface="Arial"/>
              </a:rPr>
              <a:t>Randomizavimo </a:t>
            </a: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rincipa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86104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ai atliekant eksperiment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riamus objek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ikia paskirsty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gal faktorių kombinacij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862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i turi būti daroma atsitiktiniu būdu, panaudojant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vienodas tikimy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B0AB3-BF80-4E8E-AFAC-8F0DF1B131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prendimo priėmimo taisyk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Lyginame gautos iš apklausos kriterijaus reikšmę (0,455) su kritine kriterijaus reikšme (5,991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Jei surinktos statistikos reikšmė (0,455) mažesnė už kritinę (5,991), nėra pagrindo tvirtinti, kad išsakytos nuomonės skiri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adangi 0,455&lt; 5,991, politikų ir valstybės tarnautojų nuomonė įstojus į ES yra vieno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E6BB-293E-4CFE-9A6B-D0F21F82B21A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Bendra sprendimo priėmimo taisyk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ompiuterinėse programose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- reikšmė žymi skirstinio uodegos tikimyb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Tails probability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ei </a:t>
            </a: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&lt;α, nulinė arba pagrindinė hipotezė atmetama ir atvirkšči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Jei tyrėja domina vienpusė alternatyva, t.y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kai norima įvertinti konkuruojančios hipotezės nuokryp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nuo nulinės hipotezės į didesnę ar mažesnę pusę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lt-LT" sz="2400" spc="-1" strike="noStrike">
                <a:solidFill>
                  <a:srgbClr val="000000"/>
                </a:solidFill>
                <a:latin typeface="Arial"/>
              </a:rPr>
              <a:t>p-</a:t>
            </a: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reikšmė lyginama su tikimybe α/2 (One Tail Probability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Vadinasi, šiuo atveju, jei                , nulinė hipotezė atmeta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00000"/>
                </a:solidFill>
                <a:latin typeface="Arial"/>
              </a:rPr>
              <a:t>o jei,                  - neatmetam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9" name=""/>
              <p:cNvSpPr txBox="1"/>
              <p:nvPr/>
            </p:nvSpPr>
            <p:spPr>
              <a:xfrm>
                <a:off x="3967200" y="4911840"/>
                <a:ext cx="846000" cy="771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&lt;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1" name=""/>
              <p:cNvSpPr txBox="1"/>
              <p:nvPr/>
            </p:nvSpPr>
            <p:spPr>
              <a:xfrm>
                <a:off x="1257480" y="5254560"/>
                <a:ext cx="965160" cy="8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≥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FFBF-0FEF-4506-8D37-A010AEC1304F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Likerto ska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ai vienas iš metodų vertinti respondentų nuomon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Išskiriami 6 tos skalės taikymo žingsnia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radacijų klausimams nustaty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itiktinė respondentų atra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spondentų skaičiaus, priskyrusių vienodus balus atsakant į kiekvieną klausimą, nustaty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lausimų skiriamosios galios nustaty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varbiausių klausimų atra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tikimumo įvertin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86A-C4FD-464C-B971-F80ED079848C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ikerto skalės naudojimo tvar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sų klausimų gradacijos išdėstomos vienodai nuo geriausios iki prasčiaus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ekomenduojamos 5 gradac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iekvienai gradacijai priskiriami skaičiai nuo 1 iki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Į klausimus atsako atsitiktinai atrinkti responden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Užregistruojamas respondentų skaičius, priskyrusių vienodus balus atsakant į kiekvieną klausim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pskaičiuojama to skaičiaus dešiniosios dal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ediana         , jos pasvertas suminis balas ir jos pasvertas vidur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7.    Apskaičiuojama to skaičiaus kairiosios dal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mediana         , jos pasvertas suminis balas ir jos pasvertas vidurk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2209680" y="46483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2209680" y="5791320"/>
                <a:ext cx="381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751-4F45-497A-8D99-128F344998D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ikerto skalės naudojimo tvar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8. Nustatoma kiekvieno klausimo skiriamoji ga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9. Apskaičiuojamas kiekvieno klausimo ran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0. Klausimai suskirstomi pagal rangus didėjančia tvar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1. Atrenkami informatyviausi klausimai. Tai tie klausimai, kurių rangas mažes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2. Tikrinamas klausimyno patikim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16B-07D4-40C4-98E2-75D9815C2CF7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kiriamosios galios nustat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2" name=""/>
          <p:cNvGraphicFramePr/>
          <p:nvPr/>
        </p:nvGraphicFramePr>
        <p:xfrm>
          <a:off x="0" y="1600200"/>
          <a:ext cx="9144000" cy="531324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838080"/>
                <a:gridCol w="685800"/>
              </a:tblGrid>
              <a:tr h="5626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yzdy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sakymų pasiskirsty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dr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sv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durk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i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l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P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7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2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26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914400" y="3657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914400" y="4343400"/>
                <a:ext cx="457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838080" y="56386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8" name=""/>
              <p:cNvSpPr txBox="1"/>
              <p:nvPr/>
            </p:nvSpPr>
            <p:spPr>
              <a:xfrm>
                <a:off x="888840" y="6324480"/>
                <a:ext cx="4446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BE2A-E646-40CB-A396-A8748B2ACE15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tikimumo įvert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lausimynas dalijamas į dvi dal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šskiriami lyginius numerius turintys klausi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šskiriami nelyginius numerius turintys klausim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Kiekvienas klausimų rinkinys nagrinėjamas atski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Nustatomas tų klausimų rinkinių koreliacijos koeficie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gal to koreliacijos koeficiento dydį sprendžiama, ar suformuluoti klausimai turi maždaug vienodą reikšm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364A-9A77-4923-A69D-FDEC184B17D7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1:44:51Z</dcterms:created>
  <dc:creator>Personal</dc:creator>
  <dc:description/>
  <dc:language>en-US</dc:language>
  <cp:lastModifiedBy>-</cp:lastModifiedBy>
  <dcterms:modified xsi:type="dcterms:W3CDTF">2008-09-17T11:33:59Z</dcterms:modified>
  <cp:revision>94</cp:revision>
  <dc:subject/>
  <dc:title> Veiklos audito teorija 4, 5, 6 temos  1.Duomenų atranka ir analizė  2. Aprašomoji statistika 3. Matematinės statistikos pradmenys 4. Imties dydis 5. Hipotezių tikrinimas 6. Anketavimas   </dc:title>
</cp:coreProperties>
</file>