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40FF-EB57-4580-A2B9-4269568D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5F72-6290-480D-B16A-E525194B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BDFF-D589-4D79-BD2B-124F0F15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3929-4433-4E26-A47B-74520575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F3DD-FF6F-4163-83FF-2DCA054A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39E3-5174-4605-943A-5AF91119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AC12-1184-4987-B15C-DA19E52B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D9D4-7BA1-4A9E-89B8-89B844DE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2C5A-B48D-4E3A-84DB-D5E06A24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9C34-0EF3-4277-BBB0-710603D8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BE62-B706-491C-A694-AD709EA1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8C27-4606-4FBE-9E29-8056FB70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2C80-3ECB-416B-8ACA-607AD3C12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7924680" cy="53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lt-LT" sz="3600" spc="-1" strike="noStrike">
                <a:solidFill>
                  <a:srgbClr val="000000"/>
                </a:solidFill>
                <a:latin typeface="Arial"/>
              </a:rPr>
              <a:t>Veiklos audito teorija</a:t>
            </a:r>
            <a:br>
              <a:rPr sz="3600"/>
            </a:br>
            <a:r>
              <a:rPr b="0" lang="lt-LT" sz="3600" spc="-1" strike="noStrike">
                <a:solidFill>
                  <a:srgbClr val="000000"/>
                </a:solidFill>
                <a:latin typeface="Arial"/>
              </a:rPr>
              <a:t>4, 5, 6 temos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uomenų atranka ir analizė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2. Aprašomoji statistika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3. Matematinės statistikos pradmenys</a:t>
            </a:r>
            <a:br>
              <a:rPr sz="4000"/>
            </a:b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4. Imties dydis</a:t>
            </a:r>
            <a:br>
              <a:rPr sz="4000"/>
            </a:b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Hipotezių tikrinimas</a:t>
            </a:r>
            <a:br>
              <a:rPr sz="4000"/>
            </a:b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6. Anketavimas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457200"/>
            <a:ext cx="6705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rof. S. Puškor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DB34-9691-4907-80FC-04A32F9397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mčių sudarymo būdai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Netikimybinės imt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096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Proginė (Parank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Ekspertinė (įvertini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Kvotin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Sniego kamuolio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875040"/>
            <a:ext cx="914400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II. Tikimybinės imt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9528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prastoji atsitiktinė imti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istemingoj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luoksninė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lizdinė imt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754C-A9F4-47A6-B27B-EC144BE535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Netikimybinės imty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Progine imtim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vadinama tokia imtis, kuri sudaryta iš atsitiktinai pasirinktų elementų, visiškai nesirūpinant tu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aip tie elementai susieti su visa populiacija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962520"/>
            <a:ext cx="914400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Ekspertinė imti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tai tokia imtis - objekt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įtraukiami   į ją kai taip nusprendžia atrinkti eksper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334120"/>
            <a:ext cx="914400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Kvotinė imti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sudaroma atsižvelgi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į visos populiacijos sandaros proporcij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79EA-A276-4C3C-9641-655D0D6763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Tikimybinės imty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.Paprastoji atsitiktinė imtis -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bet kuris populiacijos elementas pasirenkamas su vienoda tikimyb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590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2. Sistemingoji imtis (žinomas elementų skaičiu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76720"/>
            <a:ext cx="9144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opuliacijos elementai išrikiuojami į eilę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886200"/>
            <a:ext cx="91440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ustatomas elementų atrankos žingsn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skirstantis populiaciją į dali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9417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509436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724280"/>
            <a:ext cx="91440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 pirmos dalies atsitiktiniu būdu pasirenka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enas element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619600"/>
            <a:ext cx="914400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si kiti imties elementai gaunami pridedant žingsn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lgio intervalus prie pirmojo ir kitų jau atrinktų elementų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6A9E-15BB-4440-AEBE-F75B4C1F44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luoksninė im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ai tokia imtis, kuri gauta suskirsčius visą populiaciją į tam tikras dalis (stratus)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urinčias kokių nors išskirtinių požymi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960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opuliacija padalijimu į atitinkamus sluoksniu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64644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lementai viename sluoksnyje turi vienodą tikimyb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tekti į imtį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713120"/>
            <a:ext cx="777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560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iekviename tos imties sluoksny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os elementai atrenkami prisilaik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prastosios atsitiktinės imties reikalavim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86728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eno eksperimento metu galima ištirti visą populiacij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5765-09DF-4A6C-8FB4-B3F6CE8B31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Lizdinė im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sa populiacija suskirstoma į panašias kokio nors požymio atžvilgiu grupes arba lizdus (klasterius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514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sitiktiniu būdu atrenkama dalis tokių lizd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124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 imtį įtraukiami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visi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atrinktų lizdų elementa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733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opuliacijos elementai suskirsto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 vienalytes (homogeniškas) grup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648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lementai kiekviename lizde yra nevienalyči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E621-2A94-41AC-892A-00E38DEEB9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2. Aprašomoji statistika</a:t>
            </a: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2.1 Bendra charakteris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Duomenis reikia išdėstyti analizei patogiu būd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Jie grupuojami sudar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variacinę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eilutę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pecialią matric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įvairias lent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4581-5413-4408-BC51-DC4F4BDDD6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antykinių dažnių lente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4902120"/>
        </p:xfrm>
        <a:graphic>
          <a:graphicData uri="http://schemas.openxmlformats.org/drawingml/2006/table">
            <a:tbl>
              <a:tblPr/>
              <a:tblGrid>
                <a:gridCol w="1828800"/>
                <a:gridCol w="1463760"/>
                <a:gridCol w="1965240"/>
                <a:gridCol w="533520"/>
                <a:gridCol w="2438280"/>
              </a:tblGrid>
              <a:tr h="15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tamojo reikšmė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k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tykinis dažni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1 /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2 /n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k /n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kaup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is santykinis dažni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1 /n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i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1 + f2 </a:t>
                      </a: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r>
                        <a:rPr b="1" i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n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i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1 + f2 +…+fk</a:t>
                      </a: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i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n =</a:t>
                      </a: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8BE3-8021-49F3-B594-75C4CD1059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Tolydusis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kintama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duomenys reikia paskirstyti į tam tikr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ienodo   pločio intervalu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rinkti jų skaiči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5 – 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809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rba apskaičiuoti pagal Sterdžeso form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k =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 + 3,322 lg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105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ustatyti kiekvieno intervalo plot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r intervalų rib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D506-FEAF-4077-BF2D-57B7FE82A7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Reikalavimai grupavimo intervalam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ie turi būti vienodo ilgi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43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esikirsti tarpusavyj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352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eturėti “tarpų” tarp interval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1036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iekviena kintamojo reikšmė priskiria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k vienam intervalu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CAFE-F67C-4A0A-8E20-F049F56C27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kaitinės atsitiktinio dydžio charakteristiko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Duomenų padė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286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idurki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mod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med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809880"/>
            <a:ext cx="88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klai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48320"/>
            <a:ext cx="8931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Dispers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tandartinis nuokry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4841-3C86-4293-9A33-1F904699AC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Kintamiej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Kokybini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Kiekybini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3200400"/>
            <a:ext cx="717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Diskretie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olygū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C283-C176-4376-BF6C-080E2173CC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idurk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pibūdina atsitiktinio dydžio reikšmių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usitelkimo centrą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048120" y="3352680"/>
                <a:ext cx="1828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048120" y="5181480"/>
                <a:ext cx="1981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0" y="4419720"/>
            <a:ext cx="88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mties vidurkis žymimas raide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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74320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opuliacijos vidurkis –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9F41-7BDC-402B-85E4-B3DA93B08D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Mediana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uskirsto variacinę eilutę į dvi maždaug vienodas dal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480" y="2590920"/>
            <a:ext cx="90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ei reikšmių skaičius yra nelyginis, tai mediana    yra lygi viduriniai variacinės eilutės reikšme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480" y="3657600"/>
            <a:ext cx="908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i variacinės eilutės reikšmių skaičius yra lyginis, tai pasirenkamos dvi viduriniosios jos reikšmės ir apskaičiuojamas jų vidurk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257800"/>
            <a:ext cx="9236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Mediana turi svarbią savybę – jos reikšmė nepriklauso nuo ženkliai išsiskiriančių variacinės eilutės reikšmi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D49F-9A12-4EE6-93C8-8BE66DA408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Dispers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Charakterizuoja atsitiktinio dydžio sklaid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idurkio atžvilg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895480" y="3406680"/>
                <a:ext cx="22860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971800" y="5105520"/>
                <a:ext cx="28195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0" y="2666880"/>
            <a:ext cx="88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opuliacijos dispers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495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mties dispers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06B2-79DE-4DF9-AEFC-F9B6376359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Normalusis pasiskirstymo dės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Labai plačiai paplitęs.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6440" y="265572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o savybės labai svarb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6440" y="349416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varbiausia yra toki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3322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eigu sumuojama daug atsitiktinių dydži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urinčių bet kokius skirstiniu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ai šios sumos pasiskirstymo dėsn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yra tuo artimesnis normaliajam dėsniu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uo daugiau atsitiktinių dydžių yra sumuoja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02E-327B-4C2C-8BC5-BCD21EC63A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Normaliojo dėsnio grafi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143000" y="1490760"/>
          <a:ext cx="6858000" cy="474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90760"/>
                    <a:ext cx="685800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890C-1C9E-41FD-A77D-C9004BB458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Normaliojo dėsnio savybė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Į standartinio pločio rėžius, skaičiuojant juos nuo vidurkio, paten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2760" y="2438280"/>
            <a:ext cx="89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irmąjį – 0,3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480" y="312408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ntrąjį –  0,1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6440" y="365760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rečiąjį –  0,0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343400"/>
            <a:ext cx="89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ankio funkcija yra simetriška vidurkio atžvilg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480" y="495288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Šiam dėsniui galioja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trijų sigma taisyklė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54849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isos šio atsitiktinio dydžio reikšmės telpa šešių standartinių nuokrypių interv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1F52-5516-4FE3-AC2F-2B95AC89CE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šskirtinės imties reikšm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i kurie duomenys gali žymiai skirtis nuo visų kit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514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ei pažeistos duomenų atrankos sąlyg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767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dėl kokių nors techninių priežasči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96252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dėl subjektyvių motyv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572000"/>
            <a:ext cx="946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i duomenų “koregavimas” nauding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krinamai organizacija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480" y="570384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dėl kitų nenustatytų priežasčių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AC65-EE62-4C4C-B4FC-B94C9E2B49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šskirtinės imties reikšm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ei kintamasis paklūsta normaliajam dėsniu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905120"/>
            <a:ext cx="900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išskirtimi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adinami duomeny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epatekę į trijų sigma interval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895480"/>
            <a:ext cx="900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Sąlygine išskirtimi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vadinami duomenys, kurie patenka į trijų sigma intervalą, bet nepatenka į dviejų sigma interval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191120"/>
            <a:ext cx="923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Jei kintamasis nepaklūsta normaliajam dėsniu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išskirtiniais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vadinami duomenys, nepatek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į intervalą (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– 3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IQR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Q3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IQR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5627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sąlygine išskirtimi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- duomenys, priklausantys intervalui [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– 3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IQR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– 1,5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IQR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) arba (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Q3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+ 1,5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IQR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Q3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IQR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]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6095-D404-4111-AE23-0B499C2E38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šskirtinės imties reikšm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Grafik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Sąlyginė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Išskirtys išskirt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3IQ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343400" y="3276720"/>
                <a:ext cx="3650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838080" y="3886200"/>
            <a:ext cx="7239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8098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33920" y="38098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34120" y="38098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38098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581280" y="3276720"/>
                <a:ext cx="3668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181480" y="3352680"/>
                <a:ext cx="317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3733920" y="396252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4120" y="396252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191120" y="4038480"/>
                <a:ext cx="6094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Q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3733920" y="44197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666880" y="3962520"/>
                <a:ext cx="9399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5</m:t>
                    </m:r>
                    <m:r>
                      <m:rPr>
                        <m:lit/>
                        <m:nor/>
                      </m:rPr>
                      <m:t xml:space="preserve">IQ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2590920" y="342900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4419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048120"/>
            <a:ext cx="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358128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876920"/>
            <a:ext cx="2133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121B-823E-4F67-89DC-B474D3A6E3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. Matematinės statistikos pradme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755280" y="1628640"/>
            <a:ext cx="78548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Matematinė statistika nagrinė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760" y="2503440"/>
            <a:ext cx="89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Eksperimentų rezultatų apdorojimo bū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6440" y="318924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tatistines išv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88620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Matematinės statistikos dal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6440" y="463716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. Įverčių teori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6440" y="5246640"/>
            <a:ext cx="900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Hipotezių tikrin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3E74-0C86-4760-9B9F-F06AFF1E4A7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Kintamųjų matavimo skalė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Kokybiniai kintamiej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895480"/>
            <a:ext cx="80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vadinim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Rang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9625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Kiekybiniai kintamiej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724280"/>
            <a:ext cx="687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nterval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antyki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F977-9E8C-461E-9AA0-C68EC1466D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Matematinės statistikos metodų charakteris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Įverčių teorijos sritis – metoda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aikant kuriuos nustatom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666880"/>
            <a:ext cx="98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) Empirinė atsitiktinio dydžio pasiskirstymo fun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35268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) Jo skaitinės charakteristik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4114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Statistinės išvados – hipotezių tikrin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480" y="4800600"/>
            <a:ext cx="908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tatistinė hipotezė – tai priela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pie empirinį atsitiktinio dydžio pasiskirstymo dėsnį ir/arba apie jo empirines skaitines charakteristik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E704-506E-4078-B1F9-1C1351CCA36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Įverčių teor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Skirtumas tarp tikrosios ir nustatytos iš imties skaitinių charakteristikų reikšmių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vadinamas imties pakla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Formulė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1. Pasikliautinoji tikimybė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čia</a:t>
            </a: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– pasikliautinoji tikimybė (confidence level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m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–  empirinis vidurki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– tikrasis, bet tyrėjui nežinomas vidurki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– bet koks pakankamai mažas dy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340000" y="3141720"/>
                <a:ext cx="40384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|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|</m:t>
                    </m:r>
                    <m:r>
                      <m:t xml:space="preserve">&lt;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8735-9153-4508-BAF3-D0B3957B3A2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Įverčių teor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7758000" cy="9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Reikšmingumo lygmu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505320" y="2590920"/>
                <a:ext cx="20034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276720" y="5083200"/>
                <a:ext cx="32814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,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+</m:t>
                    </m:r>
                    <m:r>
                      <m:t xml:space="preserve">ε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212760" y="3646440"/>
            <a:ext cx="893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3. Vidurkio pasikliautinasis interva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(confidence interv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1D9A-AA14-4980-A38C-D60B9950222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Įverčių teor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4. Nagrinėjamas atsitiktinis dydis </a:t>
            </a: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T = 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m-m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/ S*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S*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 - atsitiktinio dydžio </a:t>
            </a: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m 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standartinis nuokrypis (mean square err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        –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imties su numeriu </a:t>
            </a: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 elemento reikšmė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– elementų skaičius imty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Atsitiktinis dydis </a:t>
            </a: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yra pasiskirst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pagal Stjudento dėsn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(Stjudentas – anglų statistiko Gosseto (1876-1937) slapyvardi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276720" y="2708280"/>
                <a:ext cx="28796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/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762120" y="3886200"/>
                <a:ext cx="3348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5713-DF17-43FD-8363-4485549C944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raktiški skaičiavimai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. Turime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stebėjimo rezultatų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480" y="2427120"/>
            <a:ext cx="90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Apskaičiuojame tos imties reikšmių  empirinį vidurkį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m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352680"/>
            <a:ext cx="900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3. Pasirenkame pageidaujamos pasikliautinosios tikimybės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dyd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4343400"/>
            <a:ext cx="90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Reikia  rasti vidurkio pasikliautinąjį rėžį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titinkantį tą tikimybę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5334120"/>
            <a:ext cx="893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4. Randame šio atsitiktinio dydžio standartinį nuokrypį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S*.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7A70-BA41-4333-A293-94317099229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raktiški skaičiavim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5. Pagal stebėjimų skaičių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ir pasikliautinąją tikimybę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randame parametrą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tα (žr. 1 pried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26668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6.  Padauginame šią reikšme iš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S*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r gauname ε reikšmę, t.y. 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ε = tα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S*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4114800"/>
            <a:ext cx="900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7. Ieškomasis vidurkio pasikliautinasis rėž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yra [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m- ε, m+ ε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E25E-D8FD-4D23-81B8-1B4BDE58BF3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asikliautinasis tikimybės 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p interva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905120" y="1427040"/>
                <a:ext cx="525780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z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&lt;</m:t>
                    </m:r>
                    <m:r>
                      <m:t xml:space="preserve">p</m:t>
                    </m:r>
                    <m:r>
                      <m:t xml:space="preserve">&lt;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62120" y="3124080"/>
                <a:ext cx="399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0" y="320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Čia        tikimybės reikšmė, gauta iš imt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87504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Z – </a:t>
            </a: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normaliojo skirstinio N(0,1)                    kvant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343400" y="3886200"/>
                <a:ext cx="1066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2A3E-7F23-428B-955C-97C535CD440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Pasikliautinasis dispersijos interva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743200" y="1752480"/>
                <a:ext cx="35812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&lt;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lt;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828800" y="3429000"/>
                <a:ext cx="6094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648320" y="3352680"/>
                <a:ext cx="203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0" y="33526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kaičiai                     yra              skirstinio su n-1 laisvės laipsnių                                           kvantil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133720" y="3809880"/>
                <a:ext cx="2747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3284-F17F-49F2-964E-449B928FE65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Audito rizika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Rizika gali būti dvejopos prigim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27320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udituojamojo, kai nepaisant 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d organizacijos veikla yra gera, suformuluojama      neigiama išva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4419720"/>
            <a:ext cx="900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Audito, kai suformuluojama teigiama išvad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ors organizacijos veikloje yra esminių trūkum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EB43-8C53-4E09-9CA1-2343CCBA94A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Rizikos pasiskirstymas tarp audituojamojo ir auditori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57200" y="1600200"/>
          <a:ext cx="8229600" cy="5006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29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o išvada</a:t>
                      </a: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kroji padėt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Mažai neatitikim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Daug neatitikim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titikimai neviršija leistino lygio</a:t>
                      </a: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isinga išvad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o rizik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titikimai viršija leistiną lygį</a:t>
                      </a: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uojamojo rizik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isinga išv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C500-1FBA-461A-B1B9-C19BED4AB26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Pavadinimų (nominalioji, klasifikacinė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uskirsto objektus į kl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2971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prėpia visas spektro reikš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038480"/>
            <a:ext cx="8458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Tiksliai apibrėžia kiekvienos klasės ribas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52182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Negalimi jokie aritmetiniai veiksni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E7AB-691E-480E-B847-3517AC51D6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udito rizikos tip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Įgimta rizika – veiklos vertinimo netikslumai dėl vidaus kontrolės klaidų (Į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2666880"/>
            <a:ext cx="900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ontrolės rizika – rizika, kad vidaus kontrolė laiku nepastebės ir neištaisys nukrypimų (K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886200"/>
            <a:ext cx="900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eaptikimo rizika –audito metu nebus nustatyti vidaus kontrolės neištaisyti veiklos trūkumai (N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5105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udito rizika: A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ĮR x KR x N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0695-3721-488B-886F-42CF3838469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Įgimtą riziką įtakojantys veiksni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2" marL="971280" indent="-194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eiklos pobūd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198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eiklą reguliuojančios teisinės bazės trūkuma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2884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udituojamos institucijos personalo kompetencijos, patirties, sąžiningumo stok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6440" y="395136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truktūros sudėtingumo laipsn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6440" y="463716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erealių reikalavimų egzistavim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480" y="524664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eįgyvendinti ankstesnių auditų rezultat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F52C-DC42-4F51-9410-2767E5AB02A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ontrolės ir neaptikimo riziką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įtakojantys veiksni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. Vidaus kontrolė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2351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idaus auditorių skaič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96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ų kompetencija, kvalifikacija ir kruopšt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6464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audojamų metodikų kokyb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480" y="425592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tliekamų procedūrų tinkamumas ir išsam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C3CF-0EED-449C-B989-266E494C8FF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ontrolės ir neaptikimo riziką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įtakojantys veiksni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Neaptikimo rizi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480" y="227484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pecifinių situacijų neatpažinim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0480" y="2960640"/>
            <a:ext cx="90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ekvalifikuot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r netinkamų auditorių   atrank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038480"/>
            <a:ext cx="90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etinkamų metodik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r procedūrų   panaudojim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495288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etiksli  rezultatų interpretacij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-92160" y="5018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6440" y="548640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lėšų ir laiko sto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CED0-0171-476C-A8FE-D28DB81A120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udito rizikos matrica</a:t>
            </a:r>
            <a:br>
              <a:rPr sz="32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Neaptikimo ri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57200" y="1600200"/>
          <a:ext cx="8229600" cy="49006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Įgim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zi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rolės rizi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ž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utin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kš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ž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a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kš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kš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utin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utin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kš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utin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ž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kš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utin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ž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ž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7B4-D9C5-4599-B998-319339A8BEA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Įgimtos ir kontrolės rizikos lygiai (Lenki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zik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zikos lyg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Že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utin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kš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Įgim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zi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rolės rizi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4965-BED7-41F8-9EE4-442DE2D89A7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Neaptikimo rizikos apskaičiavimo pavyzd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57200" y="1600200"/>
          <a:ext cx="8218440" cy="4718160"/>
        </p:xfrm>
        <a:graphic>
          <a:graphicData uri="http://schemas.openxmlformats.org/drawingml/2006/table">
            <a:tbl>
              <a:tblPr/>
              <a:tblGrid>
                <a:gridCol w="1866960"/>
                <a:gridCol w="1922400"/>
                <a:gridCol w="4429080"/>
              </a:tblGrid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Įgimta rizi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utinė, pro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rolė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zika, pro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ptiki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zi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ža     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utinė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kšta   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003640" y="3639960"/>
                <a:ext cx="237672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003640" y="4581360"/>
                <a:ext cx="24480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076720" y="5445000"/>
                <a:ext cx="24735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∗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9256-B45A-4999-9E1B-4C457036069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tatistinės išvados</a:t>
            </a:r>
            <a:br>
              <a:rPr sz="32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Hipotez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Hipotezė – tai prielaida apie populiacijos požymių reikš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2895480"/>
            <a:ext cx="900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krinama hipotezė yra vadina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uline hipoteze ir žymima H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4191120"/>
            <a:ext cx="900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radiciškai H0 yra hipotezė apie lygybę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.y. „nulinį“ skirtum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5562720"/>
            <a:ext cx="923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ai priešinga hipotezė žymima H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r vadinama alternatyvią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CFD1-7F7E-49AE-93AC-E0E1FA089DE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tatistinės išvados</a:t>
            </a:r>
            <a:br>
              <a:rPr sz="32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Hipotez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Hipotezėms tikrinti naudojami statistiniai kriterijai – taisyklės, kuriomis remiantis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2971800"/>
            <a:ext cx="90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hipotezės pripažįstamos teisingom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rba klaidingom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4191120"/>
            <a:ext cx="90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ritinė sritis – tai aibė reikšmi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urias statistikai įgijus nulinė hipotezė atmet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5486400"/>
            <a:ext cx="900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ritinė reikšmė – tai skaičius, kuris atski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ritinę sritį nuo hipotezės neatmetimo s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A0C7-2B6D-4AF1-A146-5123B2DEA3A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8" dur="500" autoRev="1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19" dur="500" autoRev="1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20" dur="500" autoRev="1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irmosios ir antrosios rūšies pakla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kimybė atmesti nulinę hipotezę, kai ji yra teisinga, – I rūšies klaida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 – reikšmingumo lygm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124080"/>
            <a:ext cx="879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kimybė neatmesti nulinės hipotezė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i ji klaidinga, - II rūšies klaida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4419720"/>
            <a:ext cx="900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kimybė atmesti nulinę hipotezę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i ji yra klaidinga, vadinama kriterijaus gal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1CAB-4942-4E95-BFF4-6C62E7E22E8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3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</a:rPr>
              <a:t>Rangų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uskirsto objektus į kl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5146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Galima išdėstyti objektus eilės tvar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371600" y="3276720"/>
            <a:ext cx="108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Negalimi jokie aritmetiniai veiksni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8099-C1AB-40B0-AEBD-4BBD260051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irmosios ir antrosios rūšies kla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457200" y="1600200"/>
          <a:ext cx="8218440" cy="511164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endi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kroji padė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inė hipotez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isin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inė hipotez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eisin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tmesti nulinę hipotez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isingas sprendi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rūšies kla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esti nulinę hipotez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rūšies kla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ikšmingumo lygmuo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isingas sprendi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erijaus gali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659640" y="4149720"/>
                <a:ext cx="12240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3708360" y="4221000"/>
                <a:ext cx="177804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995640" y="6093000"/>
                <a:ext cx="115272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516720" y="5950080"/>
                <a:ext cx="1368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476360" y="6453360"/>
            <a:ext cx="71280" cy="7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AC52-2877-47CB-92C8-25082907B9E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Kriterijaus g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kimybė pagrįstai atmesti nulinę hipotezę, jei ji yra klaidinga, vadinama kriterijaus gal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079640" y="4119480"/>
            <a:ext cx="5926680" cy="2736720"/>
            <a:chOff x="1079640" y="4119480"/>
            <a:chExt cx="5926680" cy="2736720"/>
          </a:xfrm>
        </p:grpSpPr>
        <p:sp>
          <p:nvSpPr>
            <p:cNvPr id="308" name=""/>
            <p:cNvSpPr/>
            <p:nvPr/>
          </p:nvSpPr>
          <p:spPr>
            <a:xfrm>
              <a:off x="1079640" y="4119480"/>
              <a:ext cx="5926680" cy="27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0" y="2514600"/>
            <a:ext cx="908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eigu teisinga nulinė hipotezė, tai tikimybė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d testo statistika įgys reikšmes dides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už kritinę reikšmę, yra lygi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962520"/>
            <a:ext cx="97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ritinė reikšmė dalina statistikos skirstinį į dvi dal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4724280"/>
            <a:ext cx="90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irioji alternatyvaus skirstinio dal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yra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– tikimybė priimti klaidingą nulinę hipotezę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57913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Dešinioji jo dalis yra kriterijaus galia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kimybė atmesti klaiding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64DF-07E6-4190-82B7-668DCACA952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9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Kriterijaus g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Galią įtakojantys veiksni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6440" y="2503440"/>
            <a:ext cx="9007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kirtumas, kurį norima aptikt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uo didesnį skirtumą norėtume aptikt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uo didesnis būtų atstumas tarp nulinio ir alternatyviojo pasiskirstymo tankio funkcijų;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480" y="4343400"/>
            <a:ext cx="908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riamojo parametro dispersij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uo mažesnė dispersija, tuo siauresnė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būtų nulinio i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lternatyviojo pasiskirstymo  tankio funkcij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764E-15BA-4FE0-98C4-13B686C566C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Imties dy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i vertinamos vieno atsitiktinio dydžio skaitinės charakteristik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2655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I.   Kai vertinamos dviejų atsitiktinių dydžių skaitinių charakteristikų lygybė – hipotezių tikrin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D3E9-3913-4BF7-A90D-774746F0B36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mties dydis</a:t>
            </a:r>
            <a:br>
              <a:rPr sz="32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tsitiktinis dydis norma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480" y="235116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Žinomas standartinis nuokry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3200400"/>
            <a:ext cx="9007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Uždavin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iek reikia duomenų, kad vidurki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ustatytas iš tų duomenų imti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titiktų patikimumo ir tikslumo reikalavi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3ED4-2951-40D7-BBFB-D47CE6EC2F5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9" dur="indefinite" restart="never" nodeType="tmRoot">
          <p:childTnLst>
            <p:seq>
              <p:cTn id="1430" dur="indefinite" nodeType="mainSeq">
                <p:childTnLst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mties dydi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prendi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3276720" y="2276640"/>
                <a:ext cx="18716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4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419640" y="3429000"/>
                <a:ext cx="14173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3419640" y="4005360"/>
                <a:ext cx="1584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52280" y="5105520"/>
                <a:ext cx="4953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0" y="5181480"/>
            <a:ext cx="900756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- standartizuoto normaliojo skirstin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ritinė reikšm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0D19-7FC0-4B78-AA9D-E0CC535E27B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mties dydi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. Atsitiktinis dydis nėra norma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Standartinis nuokrypis nežino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mties dyd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tjudento dėsnio α lygmens kritinė reikšm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empirinė dispers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- empirinis vidurk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987640" y="2997360"/>
                <a:ext cx="22208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395280" y="3860640"/>
                <a:ext cx="129528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826920" y="4797360"/>
                <a:ext cx="720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914400" y="5334120"/>
                <a:ext cx="349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4BAF-BCFC-4A2F-B905-79390008967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3" dur="indefinite" restart="never" nodeType="tmRoot">
          <p:childTnLst>
            <p:seq>
              <p:cTn id="1494" dur="indefinite" nodeType="mainSeq">
                <p:childTnLst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mties dydi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3. Proporcijų įverči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sikliautinojo intervalo ilgis išreiškiamas tokia nelygy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mties dy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2411280" y="3243240"/>
                <a:ext cx="13687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2411280" y="4797360"/>
                <a:ext cx="165600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f>
                      <m:num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F4C3-09F7-4F6F-85FD-0E735FC615A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pklausa. Imties dy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aikomos formulė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- ribinė paklaida (tikslumas vieneto dalimi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           –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ritinė normalaus skirstinio reikšmė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                 –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reikšmingumo lygmu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– pasikliautinoji tikimybė (patikimum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– dalis atsakymų, turinčių tiriamą požymį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n – atrankos dyd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opuliacijos dyd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627280" y="1616040"/>
                <a:ext cx="36734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]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587520" y="2509920"/>
                <a:ext cx="10080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388800" y="2901960"/>
                <a:ext cx="9432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468360" y="3500280"/>
                <a:ext cx="161928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92F9-D0FF-44E9-B82D-93B3A1F2F09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pklausa. Imties dy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aikomos formulė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ritinės reikšmės                  apskaičiavimo tvar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entelė 6 priedas p. 339 S.Puškorius. Veiklos aud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ompiuteri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tart/Programs/Microsoft Excel/Insert/Function/Normsinv surinkti        reikšmę/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132000" y="2205000"/>
                <a:ext cx="403236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916360" y="3716280"/>
                <a:ext cx="12952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2073240" y="5551560"/>
                <a:ext cx="360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0298-4AE1-4AD7-87B4-02CD9063A55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Intervalų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lima taikyti sudėties, atimties, daugybos ir dalybos iš skaičiaus operaci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81952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ulinis taškas skalėje parenkamas vadovaujantis kokiomis nors taisyklė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96252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antykis tarp kintamųjų neturi prasm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D791-2973-4360-A3C9-967531722A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pklausa. Imties dy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aiškinim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ei apklausiami visi populiacijos atstovai, paklaida lygi nuliu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ei atsakymai “Taip” “Ne”,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yra dalis, atsakiusi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titinkam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3. Atsakymus galima grupuoti pagal požymi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4. Didžiausia imtis, jei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0,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pskaičiuota tikslumo reikšmė nustato intervalą, kuriame yra požymio vidurk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6. Esant 9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patikimumui, rekomenduotinas imties dydis 100-3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kslumas yra intervale 10-2 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5DA3-AC30-471D-8769-C88E5427A6A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mties dydi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grindiniai veiksniai, įtakojantys imties dydį y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2133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reikšmingumo lygmuo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281952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lia 1-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429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yrimui reikšmingas skirtumas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, kurį nori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ptikti, naudojantis specialiaisiais metod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4419720"/>
            <a:ext cx="90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riamų populiacijų standartiniai nuokrypia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urie dažniausiai nėra žinom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5484960"/>
            <a:ext cx="90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ų reikšmės paprastai įvertinam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remiantis ankstesnių tyrimų rezultatais, patirti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3525-0594-45E1-98D0-5F2722A7736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9" dur="indefinite" restart="never" nodeType="tmRoot">
          <p:childTnLst>
            <p:seq>
              <p:cTn id="1780" dur="indefinite" nodeType="mainSeq">
                <p:childTnLst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1. Imties dydis populiacijų vidurkių palyginimo atve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Dvi populiaci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480" y="2427120"/>
            <a:ext cx="90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arkime, kad auditorius nori patikrinti, ar dviejų populiacijų tiriamųjų požymių vidurkiai yra vienod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0480" y="3646440"/>
            <a:ext cx="908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okio dydžio imtis jis turėtų išrinkti iš tiriamų populiacijų, kad su pasirinktu reikšmingumo lygmeniu ir galia galėtų pagrįstai teigt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d skirtumas tarp imčių vidurki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yra statistiškai reikšming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3F82-903B-47FF-87CF-07C076FEE23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3" dur="indefinite" restart="never" nodeType="tmRoot">
          <p:childTnLst>
            <p:seq>
              <p:cTn id="1824" dur="indefinite" nodeType="mainSeq">
                <p:childTnLst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1. Imties dydis populiacijų vidurkių palyginimo atve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Dvi populiacijos, imčių dydžiai vienodi, standartiniai nuokrypiai skirtin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Imčių dydžia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reikšmingumo lygmu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kriterijaus gal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tyrimui reikšmingas skirtumas, kurį norima aptik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ir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– standartiniai nuokrypiai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684360" y="2492280"/>
                <a:ext cx="496728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6443640" y="2997360"/>
                <a:ext cx="1800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6789-C6E8-483D-82AA-69E42A3D280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1. Imties dydis populiacijų vidurkių palyginimo atve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vi populiacijos, imčių dydžiai vienodi, standartiniai nuokrypiai vieno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mčių dydži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556000" y="2997360"/>
                <a:ext cx="4038480" cy="19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23B0-2571-4C1F-A054-F20EAB741C7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1. Imties dydis populiacijų vidurkių palyginimo atve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vi populiacijos, imčių dydžiai skirtingi: m&lt;n, standartiniai nuokrypiai vieno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mčių dydži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irmosios –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ntrosios vietoj n reikia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ydžio im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2916360" y="3741840"/>
                <a:ext cx="201600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4690-7453-481B-91DE-46CEDEC24D7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1. Imties dydis populiacijų požymių proporcijų palyginimo atve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Lyginamų imčių dydis turi bū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-lyginamų proporcijų reikšmė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700360" y="2214720"/>
                <a:ext cx="295128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826920" y="4437000"/>
                <a:ext cx="11970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E318-2E02-4497-A5F9-D59F4011544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mties dydis esant 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opuliacijoms ir 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kategorij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ur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*k dydžio imt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orime aptikti skirstiniuo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dydžio skirtu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mties dydis turi bū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635280" y="3284640"/>
                <a:ext cx="203220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419640" y="4653000"/>
                <a:ext cx="295272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f>
                      <m:num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7903-FE1C-414F-AE0C-63AA0A4AC39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Hipotezės apie homogeniškumą tikrin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krinama, ar kelios skirtingos   populiacijos tam tikro požymio atžvilgiu yra vienodos (homogenišk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31892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agrinėjamos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skirtingos populiaci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480" y="3951360"/>
            <a:ext cx="90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ertinamas kiekvienos iš jų vienas kategorinis kintamasis, susidedantis iš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tegorij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0480" y="5094360"/>
            <a:ext cx="90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urinktus duomenis galima surašyti dažnių lentelėje (9 lentelė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353C-F8EA-451C-921A-B1482345097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9" dur="indefinite" restart="never" nodeType="tmRoot">
          <p:childTnLst>
            <p:seq>
              <p:cTn id="1850" dur="indefinite" nodeType="mainSeq">
                <p:childTnLst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Hipotezės apie homogeniškumą tikrin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kirtingų populiacijų kategorinio kintamojo dažni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324000" y="2133720"/>
          <a:ext cx="8218440" cy="4471560"/>
        </p:xfrm>
        <a:graphic>
          <a:graphicData uri="http://schemas.openxmlformats.org/drawingml/2006/table">
            <a:tbl>
              <a:tblPr/>
              <a:tblGrid>
                <a:gridCol w="1644480"/>
                <a:gridCol w="1644840"/>
                <a:gridCol w="1639800"/>
                <a:gridCol w="1644840"/>
                <a:gridCol w="1644480"/>
              </a:tblGrid>
              <a:tr h="687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iacijos 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tamojo kategori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š vi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7451640" y="2781360"/>
                <a:ext cx="6476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684360" y="6021360"/>
                <a:ext cx="431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2496960" y="6048360"/>
                <a:ext cx="405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4199040" y="6093000"/>
                <a:ext cx="431640" cy="44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5867280" y="6008760"/>
                <a:ext cx="432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7524720" y="3716280"/>
                <a:ext cx="5047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7575480" y="4508640"/>
                <a:ext cx="5256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7524720" y="5229360"/>
                <a:ext cx="5256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444760" y="3645000"/>
                <a:ext cx="6364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5796000" y="3645000"/>
                <a:ext cx="6793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4140360" y="3645000"/>
                <a:ext cx="679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D8D0-9CF7-46B9-AED5-04FAC7BD4C8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Santyki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ožymio reikšmė negali būti įvertinta neigiamu skaiči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514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i vertinamo požymio nėra, skalės reikšmė lygi nuli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3526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intamasis turi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absoliutaus nulio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tašk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2274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antykis tarp kintamojo reikšmių turi aiškią fizinę prasmę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181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is nustato, kiek kartų (arba kiek procentų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okio nors požymio yra daugiau arba mažiau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699E-EF31-46EF-827A-F4D746C870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Hipotezės apie homogeniškumą tikrin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riterijaus statis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ntroji šios formulės dalis – tikėtini dažni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aisvės laipsnių skaičius (c-1)(r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prendimas: mulinė hipotezė atmetama, jei apskaičiuta statistika didesnė už teorinę jos reikšm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1547640" y="2060640"/>
                <a:ext cx="51850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28F8-8AF8-47D1-A94E-420FBC5274E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Hipotezės apie homogeniškumą tikrin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Taikant šį kriterijų reikia, k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480" y="242712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. Imtis būtų ne mažesnė nei 3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-92160" y="3189240"/>
            <a:ext cx="923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Ne daugiau nei ketvirtadal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ių reikšmių būtų mažesnės nei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480" y="433224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3. Sprendimas: jei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p&lt;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, nulinė hipotezė atmet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8B2C-6E9C-4E9E-A30F-3BEAE46FDCF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Hipotezės apie nepriklausomumą tikrin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Kriterijus, veiksmai ir išvados analogiškos kaip ir tikrinant homogeniškum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6440" y="341784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kirtum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480" y="410364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 Stulpelyje išdėstomos vieno kintamojo reikšm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472428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 Eilutėje išdėstomos kito kintamojo reikšm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36440" y="5322960"/>
            <a:ext cx="900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ei apskaičiuota statistika didesnė už teorinę, – kintamieji priklauso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301D-3C00-4034-9275-58B50F8F49B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3" dur="indefinite" restart="never" nodeType="tmRoot">
          <p:childTnLst>
            <p:seq>
              <p:cTn id="1914" dur="indefinite" nodeType="mainSeq">
                <p:childTnLst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nketavimas.</a:t>
            </a:r>
            <a:br>
              <a:rPr sz="32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Temos pasirink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Temos profil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36440" y="250344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eorinis analiti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36440" y="326556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aktinis eksperimentin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3962520"/>
            <a:ext cx="92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yrimo objekto nustaty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464832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limybių atlikti tyrimą aptar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770-8E35-4925-A333-A8ECA4F1471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asirinktos temos tikslin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Keliamos hipotez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243828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Formuluojami tikslai ir uždavin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3036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sirenkami tyrimo metod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480" y="372276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ustatoma ataskaito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truktū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480" y="440856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dentifikuojami informacijos šaltin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5105520"/>
            <a:ext cx="88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Įvertinama, kas gali padėti atliekant tyrim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9B5E-80CA-4406-ACEF-4B771B950A28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9" dur="indefinite" restart="never" nodeType="tmRoot">
          <p:childTnLst>
            <p:seq>
              <p:cTn id="1990" dur="indefinite" nodeType="mainSeq">
                <p:childTnLst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reliminarus darbo tur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Hipotezių, tikslų ir uždavinių tikslin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2438280"/>
            <a:ext cx="900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riamojo objekto struktūra, dydi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iskirtos jam funkcij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358128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yrimo metodų aptar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441972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Užduočių formulav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5A50-2192-42BF-A414-CE6507EA1AD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3" dur="indefinite" restart="never" nodeType="tmRoot">
          <p:childTnLst>
            <p:seq>
              <p:cTn id="2034" dur="indefinite" nodeType="mainSeq">
                <p:childTnLst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Nuo ko pradė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Nuo tyri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182880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. Esm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0480" y="251460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Metodik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3200400"/>
            <a:ext cx="92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3. Respondentų kategorijų nustaty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3886200"/>
            <a:ext cx="92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4. Apsisprendimo dėl imties dydž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610480" y="5105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4495680"/>
            <a:ext cx="87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5. Klausimyno sudary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505764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6. Apklausos technologijos pasirink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556272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7. Duomenų analizės būdų nustaty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6170760"/>
            <a:ext cx="908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8. Preliminarių laukiamų rezultatų formulav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75F0-4002-4937-B9C2-A2E679254D8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5" dur="indefinite" restart="never" nodeType="tmRoot">
          <p:childTnLst>
            <p:seq>
              <p:cTn id="2066" dur="indefinite" nodeType="mainSeq">
                <p:childTnLst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Tyrimo esm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Tyrimas turi tikrinti iškeltas hipotez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236232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Reikia parinkti tinkamą tyrimo metodik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304812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Būtina ją smulkiai aprašy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0480" y="3722760"/>
            <a:ext cx="90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pibrėžti veiksnius, į kuriuos atsižvelgta 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į kuriuos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472428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pibūdinti respondentų atrankos metodik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0480" y="539892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odėl ir kokios respondentų kategorijos išskir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9FA6-1CFC-4EA7-9629-13EF365440C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7" dur="indefinite" restart="never" nodeType="tmRoot">
          <p:childTnLst>
            <p:seq>
              <p:cTn id="2128" dur="indefinite" nodeType="mainSeq">
                <p:childTnLst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Tyrimo metod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okio tipo imtys bus taikom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2286000"/>
            <a:ext cx="900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okios respondentų kategorij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bus atrenkamos ir kodėl būtent toki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0480" y="349416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ip bus organizuota respondentų atrank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0480" y="4103640"/>
            <a:ext cx="90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okie klausimai bus bend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isoms kategorijoms, o kokie išskirtinia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480" y="509436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ip bus organizuota apklau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0480" y="5627520"/>
            <a:ext cx="89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okie duomenų analizės metodai bus taikom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6180-25A1-4FBF-BDE3-78FA540B386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1" dur="indefinite" restart="never" nodeType="tmRoot">
          <p:childTnLst>
            <p:seq>
              <p:cTn id="2172" dur="indefinite" nodeType="mainSeq">
                <p:childTnLst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4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. Klausimyno sudary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ai ypatingai svarbus ir sudėtingas etap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480" y="182880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lausimai siejasi su hipotezėmis ir tiksl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480" y="243828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Reikia išvengti tendencingų atsakym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312408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lausimai turi būti aiškūs respondent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3657600"/>
            <a:ext cx="938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lausimų kiekis turi būti minima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426708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Uždari ir atviri klausim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487692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Likerto skalės privalum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548640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lausimai turi atitikti respondentų žinių lyg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6019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lausimų ir atsakymų pateikimo tvar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70B1-5CD2-4C03-96F4-61C9D21AB28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5" dur="indefinite" restart="never" nodeType="tmRoot">
          <p:childTnLst>
            <p:seq>
              <p:cTn id="2216" dur="indefinite" nodeType="mainSeq">
                <p:childTnLst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fill="hold">
                      <p:stCondLst>
                        <p:cond delay="indefinite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Imtys ir reikalavimai j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Populiacija –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isi objek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514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Imtis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– dalis populiaci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1892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Reikalavimai imči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886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i turi būti reprezentaty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572000"/>
            <a:ext cx="914400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mties elementai turi būti atrenka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tsitiktiniu bū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5791320"/>
            <a:ext cx="914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tsitiktinės imties elementų atrankos subtilybės apibūdinamos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randomizacijos sampr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81BD-0D72-48B2-BA33-6749658350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6. Apklausos technolog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tin svarb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220968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Įtikinti respondentą atsaky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0480" y="288432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odėl jis atrinkt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0480" y="349416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yrimo rezultatų įtaka respondent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0480" y="410364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sirinkti atitinkamą apklausos form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4648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riežtai laikytis apklausos reikalavim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0480" y="517032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naudoti visus rezul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5715000"/>
            <a:ext cx="923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iekti didesnio atsakiusiųjų proc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DB62-2478-4953-9D11-78210DAF2FE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7" dur="indefinite" restart="never" nodeType="tmRoot">
          <p:childTnLst>
            <p:seq>
              <p:cTn id="2278" dur="indefinite" nodeType="mainSeq">
                <p:childTnLst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Kriterijaus        taiky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aikyti šį kriterijų galima, je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tebėjimai yra nepriklausomi ir priskirti tik vienam langeli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endras stebėjimų skaičius yra ne mažesnis kaip 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ent 75% tikėtinų dažnių ne mažesni kaip 5 Tarkime, atlikus politikų ir valstybės tarnautojų apklausą dėl situacijos Lietuv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stojus į Europos Sąjungą, sudaryta tokia dažnių lentelė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0" y="0"/>
                <a:ext cx="219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4495680" y="457200"/>
                <a:ext cx="584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6F4A-A43D-4097-BFC2-9DB403F1719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Duomenys apie politikų ir valstybės tarnautojų nuomon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152280" y="1600200"/>
          <a:ext cx="8991360" cy="4900680"/>
        </p:xfrm>
        <a:graphic>
          <a:graphicData uri="http://schemas.openxmlformats.org/drawingml/2006/table">
            <a:tbl>
              <a:tblPr/>
              <a:tblGrid>
                <a:gridCol w="2311920"/>
                <a:gridCol w="1712520"/>
                <a:gridCol w="1713240"/>
                <a:gridCol w="1883520"/>
                <a:gridCol w="1370160"/>
              </a:tblGrid>
              <a:tr h="896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igų kategorij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omonė apie situacij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š vis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rė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pa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kei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blogė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Politika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8,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8,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Valstybė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nautoja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81,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1,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š vis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4950-331A-42C0-95BB-C91C1F5B92CD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Uždavin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Reikia įvertinti, ar šių pareigūnų nuomonių skirtumai yra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esminiai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, ar susiję su duomenų atrankos procedūros paklaidom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adina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krinamas duomenų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homogeniškumas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Reikia palyginti kelių imčių duomeni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uriose išskirti vienodi vertinimo požymi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Elementų skaičius tose imtyse yra skirtin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adinasi, būtina lyginti tų požymių pasirodymo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dažnius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D973-9DB9-43EB-B522-D5F9C9A12BEC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Uždavinio formaliz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ei tie apskaičiuoti iš imčių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dažniai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yra vienod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lima teigti, kad imtys nagrinėjamų požymių atžvilgiu yra vieno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lyginimo etalonu naudojamasi vadinamaisiais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tikėtinais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ožymių dažni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Tikėtini dažniai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randami tai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arkime, nagrinėjamos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skirtingos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populiaci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iekvienoje iš jų vertinamas vienas kategorinis kintam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urinkti duomenys gali būti surašyti dažnių lentelė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1D42-FE7B-46C5-ACCB-3CB2AEFD122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Tikėtinų dažnių apskaičiavimo formu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Tikėtini dažniai, jei visi požymiai yra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nepriklausomi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, apskaičiuojami ta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- imties su numeriu </a:t>
            </a:r>
            <a:r>
              <a:rPr b="0" i="1" lang="lt-LT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respondentų skaičiu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- respondentų skaičius, išsakiusių </a:t>
            </a:r>
            <a:r>
              <a:rPr b="0" i="1" lang="lt-LT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kategorijos nuomonę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t-LT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– bendras dalyvavusių apklausoje respondentų skaič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4038480" y="2666880"/>
                <a:ext cx="134964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2666880" y="2971800"/>
                <a:ext cx="12668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304920" y="3809880"/>
                <a:ext cx="406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387360" y="4495680"/>
                <a:ext cx="492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5A13-9868-48D3-A6D8-7A371EE95AFF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tebimi kintamųjų dažni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458200" cy="441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9CB-C317-43F9-9581-2CB29AA148C9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Statistikos (kriterijaus) reikšm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riterijaus apskaičiavimo formulė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aisvės laipsniai apskaičiuojami pagal tokią formulę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(r-1)(c-1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vyzdyje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 r=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c=2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, todėl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df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xcel programa (Microsoft Excel / Insert /  function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DIST / x=0,455 / n=2 )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Matome atsakymą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0,796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ai vadinamoji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-reikšm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3048120" y="2004840"/>
                <a:ext cx="259848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0887-823B-48DB-9CB5-C8A3B126A673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Kritinė kriterijaus reikšm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ustatoma tai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sirenkamas reikšmingumo lygmu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pskaičiuojamas laisvės laipsnių skaičiu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al formul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(r-1)(c-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vyzdyje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r=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c=2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, todėl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df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3.   Lentelėje (2 priedas) randame kritinę reikšm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048120" y="2590920"/>
                <a:ext cx="28191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v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124080" y="5334120"/>
                <a:ext cx="32814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9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8AEC-4DFE-4118-AF6A-AEFF52E1923D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tatistikos (kriterijaus) reikšmė kompiuter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vedame išeities duomenis: Microsoft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entelėje: stebimi dažniai – gardelėse B3:D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entelėje: tikėtini dažniai – gardelėse B6:D7 (skliausteliu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-reikšm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nsert / Function / Statistical / CHITEST / OK / Actual range: B3:D4 / Ecpected range: B6:D7 /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sakymas 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= 0,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iterijaus statisti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nsert / Function / Statistical / CH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/ OK 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bability 0,05 / Deg freedom 2 /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sakymas 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5,9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485E-6A26-4622-BE3B-11496C903BED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600" spc="-1" strike="noStrike">
                <a:solidFill>
                  <a:srgbClr val="000000"/>
                </a:solidFill>
                <a:latin typeface="Arial"/>
              </a:rPr>
              <a:t>Randomizavimo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princip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i atliekant eksperiment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riamus objek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reikia paskirsty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gal faktorių kombinacij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886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ai turi būti daroma atsitiktiniu būdu, panaudojant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vienodas tikimy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FCB6-5D03-40F1-B0BC-51222A9D69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prendimo priėmimo taisyk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Lyginame gautos iš apklausos kriterijaus reikšmę (0,455) su kritine kriterijaus reikšme (5,99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Jei surinktos statistikos reikšmė (0,455) mažesnė už kritinę (5,991), nėra pagrindo tvirtinti, kad išsakytos nuomonės ski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Kadangi 0,455&lt; 5,991, politikų ir valstybės tarnautojų nuomonė įstojus į ES yra vieno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6120-E464-43E5-98B5-2B2DC1802AAB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Bendra sprendimo priėmimo taisyk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mpiuterinėse programose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- reikšmė žymi skirstinio uodegos tikimyb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ails probability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Jei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&lt;α, nulinė arba pagrindinė hipotezė atmetama ir atvirkšči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Jei tyrėja domina vienpusė alternatyva, t.y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i norima įvertinti konkuruojančios hipotezės nuokryp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uo nulinės hipotezės į didesnę ar mažesnę pusę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reikšmė lyginama su tikimybe α/2 (One Tail Probability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adinasi, šiuo atveju, jei                , nulinė hipotezė atmetam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o jei,                  - neatmeta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967200" y="4911840"/>
                <a:ext cx="8460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1257480" y="5254560"/>
                <a:ext cx="96516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271-D676-41FE-8597-69A5AD5FC78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Likerto ska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ai vienas iš metodų vertinti respondentų nuomon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skiriami 6 tos skalės taikymo žingsni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radacijų klausimams nustaty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sitiktinė respondentų atra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Respondentų skaičiaus, priskyrusių vienodus balus atsakant į kiekvieną klausimą, nustaty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lausimų skiriamosios galios nustaty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varbiausių klausimų atra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tikimumo įvert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63DF-6CDB-40B7-8803-B8C99B585F57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Likerto skalės naudojimo tvar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sų klausimų gradacijos išdėstomos vienodai nuo geriausios iki prasčiaus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Rekomenduojamos 5 gradaci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iekvienai gradacijai priskiriami skaičiai nuo 1 ik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 klausimus atsako atsitiktinai atrinkti responden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Užregistruojamas respondentų skaičius, priskyrusių vienodus balus atsakant į kiekvieną klausim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pskaičiuojama to skaičiaus dešiniosios dal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mediana         , jos pasvertas suminis balas ir jos pasvertas vidurk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7.    Apskaičiuojama to skaičiaus kairiosios dal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mediana         , jos pasvertas suminis balas ir jos pasvertas vidurk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2209680" y="46483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2209680" y="5791320"/>
                <a:ext cx="381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9AB9-2750-41AB-BA86-C86C810E168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Likerto skalės naudojimo tvar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8. Nustatoma kiekvieno klausimo skiriamoji g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9. Apskaičiuojamas kiekvieno klausimo ran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0. Klausimai suskirstomi pagal rangus didėjančia tvar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1. Atrenkami informatyviausi klausimai. Tai tie klausimai, kurių rangas mažes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2. Tikrinamas klausimyno patikim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75FA-6A0A-4AA7-8592-922858F6B299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kiriamosios galios nustaty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0" y="1600200"/>
          <a:ext cx="9144000" cy="531324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838080"/>
                <a:gridCol w="685800"/>
              </a:tblGrid>
              <a:tr h="562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yzd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sakymų pasiskirsty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d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v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urk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l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2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2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914400" y="3657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914400" y="4343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838080" y="56386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888840" y="6324480"/>
                <a:ext cx="444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438B-C458-435E-872A-22F3307E841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atikimumo įvertin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lausimynas dalijamas į dvi dal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šskiriami lyginius numerius turintys klausim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šskiriami nelyginius numerius turintys klausim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iekvienas klausimų rinkinys nagrinėjamas atski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ustatomas tų klausimų rinkinių koreliacijos koeficien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gal to koreliacijos koeficiento dydį sprendžiama, ar suformuluoti klausimai turi maždaug vienodą reikšm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B71D-8058-4859-A657-B5586760508F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1:44:51Z</dcterms:created>
  <dc:creator>Personal</dc:creator>
  <dc:description/>
  <dc:language>en-US</dc:language>
  <cp:lastModifiedBy>-</cp:lastModifiedBy>
  <dcterms:modified xsi:type="dcterms:W3CDTF">2008-09-17T11:33:59Z</dcterms:modified>
  <cp:revision>94</cp:revision>
  <dc:subject/>
  <dc:title> Veiklos audito teorija 4, 5, 6 temos  1.Duomenų atranka ir analizė  2. Aprašomoji statistika 3. Matematinės statistikos pradmenys 4. Imties dydis 5. Hipotezių tikrinimas 6. Anketavimas   </dc:title>
</cp:coreProperties>
</file>