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A51-983C-4C0C-A6A3-40542BD6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FB7-466C-41AF-BA35-D406875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4A7-C156-4F6A-ADD6-FA60AE56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6DC-C539-4C3B-9B9F-5507A1A1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EB6-5B27-4B10-AEEB-320EDBB3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834-CF5D-4783-A147-911CC0C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659-C285-48E5-912E-9C3DBC3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976-EDCD-4DF6-91D4-7776D056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DB5-4052-4A75-9C85-13405B8F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7DA-B0B8-45E1-83FF-AB470FD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D06-6367-4D3A-9EC3-8458889D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78A-605B-4E59-89EE-E7FAF52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648-186D-40B3-86AA-3455CC32369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ndimų priėmimo teorija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ieninės studijos 24+24+24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akivaizdinės studijos 4+4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engė prof. S.Puško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trateginio valdymo ir politikos fakul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aldymo teorijos kat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009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D84-3B22-478B-9CEA-66830619FC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ndimų bū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rafin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enteli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mpleksų metod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nė programa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5A2-4718-4B4C-8124-9AB2B20197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s sprendimo bū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tina sąly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n – kintamųjų skaiči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 – ribinių sąlyg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et kurie du kintamieji pasirenkami laisvai (laisvieji kintamiej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Likusieji kintamieji (baziniai) išreiškiami laisvais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viena ribinė lygtis yra ties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os ribinės lygtys formuoja G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41B-2147-4205-9D31-69182B5029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o sprendinio paieškos eta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galimų sprendinių srities (GSS) identifikavi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tikslo funkcijos tiesės brėž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ir šios funkcijos didėjimo (mažėjimo) krypties nustatym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 sprendinio rad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9BB-342D-4AA2-BAC3-C455766545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etapas – GSS brėž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ribas nusako ribinės sąly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braižymo algorit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irenkame laisvuosius kintamuo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šreiškiame visus bazinius kintamuosius ir tikslo funkciją laisvaisiais kintamais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žome koordinačių aš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grinėjame visas ribines sąlygas iš ei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01A-3C92-48A1-9EC8-A1AAE95A11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etapas – GSS ident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– dalis plokštumos, kurioje visi kintamieji yra neneigi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ndinys būtinai yra ant GSS rib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int tą sprendinį surasti, reikia atlikti veiksmus, numatytus 2 – 4 etapu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180-589D-4C11-B194-B6FB7E4E10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etapas – tikslo funkcijos brėž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irenkame bet kokią tikslo funkcijos reikšm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uojame du tos tiesės taš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jungiame tuos taškus t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553-EE89-4407-A2EF-99712918D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etapas – tikslo funkcijos mažėjimo krypties nusta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irenkame bet kurį tašką, kuris nėra ant tikslo funkcijos ties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skaičiuojame tikslo funkcijos reikšmę pasirinktame ta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giname tą reikšmę su 2 etape pasirinkta tikslo funkcijos reikš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i ši reikšmė yra mažesn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 2 etape pasirinktą reikšmę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 ji parodo mažėjimo kryptį ir atvirkšč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9DA-91D4-4EDB-8028-71BE3C600B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etapas – sprendinio rad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miame” tikslo funkcijos tiesę mažėjimo (didėjimo) link, kol ji dar turi bent vieną tašką su G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e kraštutiniame taške ir yra uždavinio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ndinys randam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niu (apytikri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tiniu būdu (tiksli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326-DE1F-4BBE-ADFC-6A5421245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s sprendimas 1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finis spren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8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71640" y="2133720"/>
                <a:ext cx="457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6360" y="234936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4760" y="3124080"/>
                <a:ext cx="403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476360" y="2781360"/>
            <a:ext cx="244800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87640" y="6093000"/>
                <a:ext cx="7923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H="1">
            <a:off x="1383840" y="2809800"/>
            <a:ext cx="8100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65240" y="6388200"/>
            <a:ext cx="16020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93E-F656-4A21-A394-A9821FA607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s sprendimas 1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inis spren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85120" y="258444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48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19640" y="1773360"/>
                <a:ext cx="331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59280" y="2349360"/>
                <a:ext cx="403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476360" y="2781360"/>
            <a:ext cx="244800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987640" y="6093000"/>
                <a:ext cx="7923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32240" y="2924280"/>
                <a:ext cx="3287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76480" y="3095640"/>
            <a:ext cx="3927240" cy="348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148360" y="6165720"/>
                <a:ext cx="7920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1640" y="2133720"/>
                <a:ext cx="457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1440" y="3557520"/>
                <a:ext cx="3344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355760" y="2697120"/>
            <a:ext cx="3487680" cy="377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059280" y="3921120"/>
                <a:ext cx="79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908000" y="4797360"/>
            <a:ext cx="6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187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42560" y="3068640"/>
            <a:ext cx="117720" cy="1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75200" y="6535800"/>
            <a:ext cx="1080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34000" y="6467400"/>
            <a:ext cx="936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95480" y="6386400"/>
            <a:ext cx="9684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0040" y="206280"/>
            <a:ext cx="8685360" cy="644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AD1-D9D2-4025-B72E-083DF7B651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tema. Tiesinis program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ma. Diskretusis program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ma. Tinklinis 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ma. Masinio aptarnavimo sis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tema. Lošimo teorijos meto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tema. Sprendimų medž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E62-E9E2-4BB5-9130-6127C1A4CA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s sprendimas 2 ir 3 eta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kslo funkcijos brėžimas. Didėjimo krypties nusta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48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71640" y="2133720"/>
                <a:ext cx="457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851280" y="2421000"/>
                <a:ext cx="4608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219640" y="3284640"/>
                <a:ext cx="273528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822240" y="3568680"/>
            <a:ext cx="2774880" cy="281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26920" y="3357720"/>
            <a:ext cx="182880" cy="20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64000" y="6165360"/>
            <a:ext cx="18252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7656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023920" y="4221000"/>
                <a:ext cx="1352520" cy="4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68280" y="4410000"/>
            <a:ext cx="2073240" cy="204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4000" y="5373720"/>
                <a:ext cx="957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958-8D57-4660-B1AB-80BB51B6D3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s sprendimas 4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raf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85120" y="258444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0" y="4149720"/>
            <a:ext cx="1066680" cy="151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3357720"/>
            <a:ext cx="2244600" cy="23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797360"/>
            <a:ext cx="6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187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3459240"/>
            <a:ext cx="792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5562360"/>
            <a:ext cx="21276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619280" y="3045960"/>
            <a:ext cx="37476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31840" y="27813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568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H="1">
            <a:off x="1332000" y="40989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63600" y="4038480"/>
            <a:ext cx="3024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6712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3860640"/>
                <a:ext cx="3281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239-892E-483D-9475-E21E929661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ntelių bū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9074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ūtina sąlyga – visi kintamųjų koeficientai ribinėse sąlygose lygū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iai sąlygai paklūsta transporto uždav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585120" y="258444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755640" y="4653000"/>
            <a:ext cx="431640" cy="41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431640" cy="41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221000"/>
            <a:ext cx="432000" cy="411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5445000"/>
            <a:ext cx="432000" cy="41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48000" y="3500280"/>
            <a:ext cx="432000" cy="411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726080"/>
            <a:ext cx="4730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3573360"/>
            <a:ext cx="4730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5589720"/>
            <a:ext cx="4730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6360" y="4437000"/>
            <a:ext cx="4730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59280" y="5300640"/>
            <a:ext cx="4730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66800" y="3554280"/>
            <a:ext cx="4557960" cy="700200"/>
          </a:xfrm>
          <a:custGeom>
            <a:avLst/>
            <a:gdLst/>
            <a:ahLst/>
            <a:rect l="l" t="t" r="r" b="b"/>
            <a:pathLst>
              <a:path w="2871" h="441">
                <a:moveTo>
                  <a:pt x="0" y="195"/>
                </a:moveTo>
                <a:cubicBezTo>
                  <a:pt x="56" y="213"/>
                  <a:pt x="110" y="227"/>
                  <a:pt x="167" y="242"/>
                </a:cubicBezTo>
                <a:cubicBezTo>
                  <a:pt x="219" y="280"/>
                  <a:pt x="261" y="297"/>
                  <a:pt x="325" y="307"/>
                </a:cubicBezTo>
                <a:cubicBezTo>
                  <a:pt x="374" y="323"/>
                  <a:pt x="425" y="320"/>
                  <a:pt x="474" y="334"/>
                </a:cubicBezTo>
                <a:cubicBezTo>
                  <a:pt x="516" y="346"/>
                  <a:pt x="552" y="370"/>
                  <a:pt x="594" y="381"/>
                </a:cubicBezTo>
                <a:cubicBezTo>
                  <a:pt x="631" y="391"/>
                  <a:pt x="669" y="396"/>
                  <a:pt x="706" y="409"/>
                </a:cubicBezTo>
                <a:cubicBezTo>
                  <a:pt x="1089" y="403"/>
                  <a:pt x="1279" y="441"/>
                  <a:pt x="1579" y="344"/>
                </a:cubicBezTo>
                <a:cubicBezTo>
                  <a:pt x="1588" y="316"/>
                  <a:pt x="1593" y="286"/>
                  <a:pt x="1607" y="260"/>
                </a:cubicBezTo>
                <a:cubicBezTo>
                  <a:pt x="1650" y="181"/>
                  <a:pt x="1720" y="142"/>
                  <a:pt x="1793" y="93"/>
                </a:cubicBezTo>
                <a:cubicBezTo>
                  <a:pt x="1802" y="87"/>
                  <a:pt x="1813" y="82"/>
                  <a:pt x="1821" y="74"/>
                </a:cubicBezTo>
                <a:cubicBezTo>
                  <a:pt x="1830" y="65"/>
                  <a:pt x="1838" y="53"/>
                  <a:pt x="1849" y="46"/>
                </a:cubicBezTo>
                <a:cubicBezTo>
                  <a:pt x="1883" y="23"/>
                  <a:pt x="1929" y="10"/>
                  <a:pt x="1969" y="0"/>
                </a:cubicBezTo>
                <a:cubicBezTo>
                  <a:pt x="2134" y="7"/>
                  <a:pt x="2297" y="18"/>
                  <a:pt x="2462" y="28"/>
                </a:cubicBezTo>
                <a:cubicBezTo>
                  <a:pt x="2551" y="56"/>
                  <a:pt x="2641" y="77"/>
                  <a:pt x="2731" y="102"/>
                </a:cubicBezTo>
                <a:cubicBezTo>
                  <a:pt x="2779" y="115"/>
                  <a:pt x="2821" y="139"/>
                  <a:pt x="2871" y="1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63880" y="4232160"/>
            <a:ext cx="393840" cy="1047960"/>
          </a:xfrm>
          <a:custGeom>
            <a:avLst/>
            <a:gdLst/>
            <a:ahLst/>
            <a:rect l="l" t="t" r="r" b="b"/>
            <a:pathLst>
              <a:path w="248" h="660">
                <a:moveTo>
                  <a:pt x="0" y="0"/>
                </a:moveTo>
                <a:cubicBezTo>
                  <a:pt x="13" y="19"/>
                  <a:pt x="25" y="37"/>
                  <a:pt x="38" y="56"/>
                </a:cubicBezTo>
                <a:cubicBezTo>
                  <a:pt x="44" y="65"/>
                  <a:pt x="50" y="75"/>
                  <a:pt x="56" y="84"/>
                </a:cubicBezTo>
                <a:cubicBezTo>
                  <a:pt x="62" y="93"/>
                  <a:pt x="75" y="112"/>
                  <a:pt x="75" y="112"/>
                </a:cubicBezTo>
                <a:cubicBezTo>
                  <a:pt x="92" y="166"/>
                  <a:pt x="78" y="130"/>
                  <a:pt x="130" y="205"/>
                </a:cubicBezTo>
                <a:cubicBezTo>
                  <a:pt x="136" y="214"/>
                  <a:pt x="143" y="224"/>
                  <a:pt x="149" y="233"/>
                </a:cubicBezTo>
                <a:cubicBezTo>
                  <a:pt x="155" y="242"/>
                  <a:pt x="168" y="260"/>
                  <a:pt x="168" y="260"/>
                </a:cubicBezTo>
                <a:cubicBezTo>
                  <a:pt x="179" y="295"/>
                  <a:pt x="241" y="360"/>
                  <a:pt x="242" y="381"/>
                </a:cubicBezTo>
                <a:cubicBezTo>
                  <a:pt x="248" y="474"/>
                  <a:pt x="242" y="567"/>
                  <a:pt x="242" y="6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01880" y="3841920"/>
            <a:ext cx="1563840" cy="1865160"/>
          </a:xfrm>
          <a:custGeom>
            <a:avLst/>
            <a:gdLst/>
            <a:ahLst/>
            <a:rect l="l" t="t" r="r" b="b"/>
            <a:pathLst>
              <a:path w="985" h="1175">
                <a:moveTo>
                  <a:pt x="0" y="5"/>
                </a:moveTo>
                <a:cubicBezTo>
                  <a:pt x="37" y="9"/>
                  <a:pt x="82" y="0"/>
                  <a:pt x="111" y="23"/>
                </a:cubicBezTo>
                <a:cubicBezTo>
                  <a:pt x="130" y="38"/>
                  <a:pt x="143" y="60"/>
                  <a:pt x="158" y="79"/>
                </a:cubicBezTo>
                <a:cubicBezTo>
                  <a:pt x="172" y="97"/>
                  <a:pt x="195" y="135"/>
                  <a:pt x="195" y="135"/>
                </a:cubicBezTo>
                <a:cubicBezTo>
                  <a:pt x="207" y="173"/>
                  <a:pt x="228" y="213"/>
                  <a:pt x="251" y="246"/>
                </a:cubicBezTo>
                <a:cubicBezTo>
                  <a:pt x="274" y="318"/>
                  <a:pt x="282" y="306"/>
                  <a:pt x="325" y="367"/>
                </a:cubicBezTo>
                <a:cubicBezTo>
                  <a:pt x="359" y="416"/>
                  <a:pt x="375" y="465"/>
                  <a:pt x="418" y="506"/>
                </a:cubicBezTo>
                <a:cubicBezTo>
                  <a:pt x="437" y="544"/>
                  <a:pt x="453" y="569"/>
                  <a:pt x="483" y="599"/>
                </a:cubicBezTo>
                <a:cubicBezTo>
                  <a:pt x="503" y="661"/>
                  <a:pt x="475" y="594"/>
                  <a:pt x="520" y="646"/>
                </a:cubicBezTo>
                <a:cubicBezTo>
                  <a:pt x="560" y="693"/>
                  <a:pt x="578" y="752"/>
                  <a:pt x="622" y="794"/>
                </a:cubicBezTo>
                <a:cubicBezTo>
                  <a:pt x="641" y="848"/>
                  <a:pt x="683" y="886"/>
                  <a:pt x="715" y="934"/>
                </a:cubicBezTo>
                <a:cubicBezTo>
                  <a:pt x="752" y="990"/>
                  <a:pt x="716" y="934"/>
                  <a:pt x="752" y="990"/>
                </a:cubicBezTo>
                <a:cubicBezTo>
                  <a:pt x="762" y="1006"/>
                  <a:pt x="757" y="1031"/>
                  <a:pt x="771" y="1045"/>
                </a:cubicBezTo>
                <a:cubicBezTo>
                  <a:pt x="809" y="1083"/>
                  <a:pt x="913" y="1130"/>
                  <a:pt x="966" y="1147"/>
                </a:cubicBezTo>
                <a:cubicBezTo>
                  <a:pt x="972" y="1156"/>
                  <a:pt x="985" y="1175"/>
                  <a:pt x="985" y="1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6520" y="3733920"/>
            <a:ext cx="2403360" cy="955440"/>
          </a:xfrm>
          <a:custGeom>
            <a:avLst/>
            <a:gdLst/>
            <a:ahLst/>
            <a:rect l="l" t="t" r="r" b="b"/>
            <a:pathLst>
              <a:path w="1514" h="602">
                <a:moveTo>
                  <a:pt x="0" y="26"/>
                </a:moveTo>
                <a:cubicBezTo>
                  <a:pt x="80" y="0"/>
                  <a:pt x="155" y="26"/>
                  <a:pt x="232" y="45"/>
                </a:cubicBezTo>
                <a:cubicBezTo>
                  <a:pt x="267" y="68"/>
                  <a:pt x="295" y="103"/>
                  <a:pt x="334" y="119"/>
                </a:cubicBezTo>
                <a:cubicBezTo>
                  <a:pt x="371" y="134"/>
                  <a:pt x="408" y="155"/>
                  <a:pt x="446" y="166"/>
                </a:cubicBezTo>
                <a:cubicBezTo>
                  <a:pt x="516" y="185"/>
                  <a:pt x="589" y="193"/>
                  <a:pt x="659" y="212"/>
                </a:cubicBezTo>
                <a:cubicBezTo>
                  <a:pt x="733" y="233"/>
                  <a:pt x="807" y="250"/>
                  <a:pt x="882" y="268"/>
                </a:cubicBezTo>
                <a:cubicBezTo>
                  <a:pt x="901" y="273"/>
                  <a:pt x="918" y="285"/>
                  <a:pt x="938" y="286"/>
                </a:cubicBezTo>
                <a:cubicBezTo>
                  <a:pt x="994" y="289"/>
                  <a:pt x="1049" y="293"/>
                  <a:pt x="1105" y="296"/>
                </a:cubicBezTo>
                <a:cubicBezTo>
                  <a:pt x="1145" y="306"/>
                  <a:pt x="1186" y="314"/>
                  <a:pt x="1226" y="324"/>
                </a:cubicBezTo>
                <a:cubicBezTo>
                  <a:pt x="1245" y="329"/>
                  <a:pt x="1282" y="342"/>
                  <a:pt x="1282" y="342"/>
                </a:cubicBezTo>
                <a:cubicBezTo>
                  <a:pt x="1291" y="348"/>
                  <a:pt x="1304" y="351"/>
                  <a:pt x="1310" y="361"/>
                </a:cubicBezTo>
                <a:cubicBezTo>
                  <a:pt x="1320" y="378"/>
                  <a:pt x="1317" y="401"/>
                  <a:pt x="1328" y="417"/>
                </a:cubicBezTo>
                <a:cubicBezTo>
                  <a:pt x="1340" y="435"/>
                  <a:pt x="1358" y="451"/>
                  <a:pt x="1365" y="472"/>
                </a:cubicBezTo>
                <a:cubicBezTo>
                  <a:pt x="1373" y="495"/>
                  <a:pt x="1380" y="542"/>
                  <a:pt x="1403" y="556"/>
                </a:cubicBezTo>
                <a:cubicBezTo>
                  <a:pt x="1417" y="565"/>
                  <a:pt x="1466" y="574"/>
                  <a:pt x="1486" y="584"/>
                </a:cubicBezTo>
                <a:cubicBezTo>
                  <a:pt x="1496" y="589"/>
                  <a:pt x="1514" y="602"/>
                  <a:pt x="1514" y="6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62000" y="4557600"/>
            <a:ext cx="1176480" cy="925560"/>
          </a:xfrm>
          <a:custGeom>
            <a:avLst/>
            <a:gdLst/>
            <a:ahLst/>
            <a:rect l="l" t="t" r="r" b="b"/>
            <a:pathLst>
              <a:path w="741" h="583">
                <a:moveTo>
                  <a:pt x="0" y="0"/>
                </a:moveTo>
                <a:cubicBezTo>
                  <a:pt x="12" y="3"/>
                  <a:pt x="26" y="2"/>
                  <a:pt x="37" y="9"/>
                </a:cubicBezTo>
                <a:cubicBezTo>
                  <a:pt x="46" y="15"/>
                  <a:pt x="45" y="32"/>
                  <a:pt x="55" y="37"/>
                </a:cubicBezTo>
                <a:cubicBezTo>
                  <a:pt x="69" y="45"/>
                  <a:pt x="86" y="43"/>
                  <a:pt x="102" y="46"/>
                </a:cubicBezTo>
                <a:cubicBezTo>
                  <a:pt x="163" y="87"/>
                  <a:pt x="223" y="145"/>
                  <a:pt x="288" y="176"/>
                </a:cubicBezTo>
                <a:cubicBezTo>
                  <a:pt x="341" y="231"/>
                  <a:pt x="401" y="265"/>
                  <a:pt x="464" y="306"/>
                </a:cubicBezTo>
                <a:cubicBezTo>
                  <a:pt x="486" y="374"/>
                  <a:pt x="454" y="295"/>
                  <a:pt x="501" y="353"/>
                </a:cubicBezTo>
                <a:cubicBezTo>
                  <a:pt x="507" y="361"/>
                  <a:pt x="506" y="372"/>
                  <a:pt x="511" y="381"/>
                </a:cubicBezTo>
                <a:cubicBezTo>
                  <a:pt x="536" y="424"/>
                  <a:pt x="564" y="485"/>
                  <a:pt x="613" y="501"/>
                </a:cubicBezTo>
                <a:cubicBezTo>
                  <a:pt x="622" y="507"/>
                  <a:pt x="632" y="513"/>
                  <a:pt x="641" y="520"/>
                </a:cubicBezTo>
                <a:cubicBezTo>
                  <a:pt x="654" y="529"/>
                  <a:pt x="665" y="539"/>
                  <a:pt x="678" y="548"/>
                </a:cubicBezTo>
                <a:cubicBezTo>
                  <a:pt x="687" y="554"/>
                  <a:pt x="696" y="561"/>
                  <a:pt x="706" y="566"/>
                </a:cubicBezTo>
                <a:cubicBezTo>
                  <a:pt x="715" y="570"/>
                  <a:pt x="741" y="583"/>
                  <a:pt x="734" y="576"/>
                </a:cubicBezTo>
                <a:cubicBezTo>
                  <a:pt x="675" y="519"/>
                  <a:pt x="678" y="564"/>
                  <a:pt x="678" y="5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76400" y="5059440"/>
            <a:ext cx="4248000" cy="1090440"/>
          </a:xfrm>
          <a:custGeom>
            <a:avLst/>
            <a:gdLst/>
            <a:ahLst/>
            <a:rect l="l" t="t" r="r" b="b"/>
            <a:pathLst>
              <a:path w="2676" h="687">
                <a:moveTo>
                  <a:pt x="0" y="0"/>
                </a:moveTo>
                <a:cubicBezTo>
                  <a:pt x="144" y="12"/>
                  <a:pt x="82" y="5"/>
                  <a:pt x="177" y="46"/>
                </a:cubicBezTo>
                <a:cubicBezTo>
                  <a:pt x="263" y="83"/>
                  <a:pt x="384" y="95"/>
                  <a:pt x="474" y="102"/>
                </a:cubicBezTo>
                <a:cubicBezTo>
                  <a:pt x="592" y="140"/>
                  <a:pt x="510" y="119"/>
                  <a:pt x="725" y="130"/>
                </a:cubicBezTo>
                <a:cubicBezTo>
                  <a:pt x="794" y="144"/>
                  <a:pt x="845" y="188"/>
                  <a:pt x="911" y="204"/>
                </a:cubicBezTo>
                <a:cubicBezTo>
                  <a:pt x="946" y="228"/>
                  <a:pt x="988" y="244"/>
                  <a:pt x="1022" y="269"/>
                </a:cubicBezTo>
                <a:cubicBezTo>
                  <a:pt x="1055" y="293"/>
                  <a:pt x="1082" y="329"/>
                  <a:pt x="1115" y="353"/>
                </a:cubicBezTo>
                <a:cubicBezTo>
                  <a:pt x="1144" y="373"/>
                  <a:pt x="1187" y="401"/>
                  <a:pt x="1217" y="418"/>
                </a:cubicBezTo>
                <a:cubicBezTo>
                  <a:pt x="1245" y="434"/>
                  <a:pt x="1288" y="438"/>
                  <a:pt x="1319" y="446"/>
                </a:cubicBezTo>
                <a:cubicBezTo>
                  <a:pt x="1357" y="470"/>
                  <a:pt x="1335" y="460"/>
                  <a:pt x="1375" y="473"/>
                </a:cubicBezTo>
                <a:cubicBezTo>
                  <a:pt x="1394" y="479"/>
                  <a:pt x="1431" y="492"/>
                  <a:pt x="1431" y="492"/>
                </a:cubicBezTo>
                <a:cubicBezTo>
                  <a:pt x="1450" y="511"/>
                  <a:pt x="1463" y="536"/>
                  <a:pt x="1487" y="548"/>
                </a:cubicBezTo>
                <a:cubicBezTo>
                  <a:pt x="1512" y="560"/>
                  <a:pt x="1531" y="567"/>
                  <a:pt x="1552" y="585"/>
                </a:cubicBezTo>
                <a:cubicBezTo>
                  <a:pt x="1598" y="623"/>
                  <a:pt x="1560" y="606"/>
                  <a:pt x="1607" y="622"/>
                </a:cubicBezTo>
                <a:cubicBezTo>
                  <a:pt x="1650" y="665"/>
                  <a:pt x="1708" y="669"/>
                  <a:pt x="1765" y="687"/>
                </a:cubicBezTo>
                <a:cubicBezTo>
                  <a:pt x="2019" y="680"/>
                  <a:pt x="1998" y="684"/>
                  <a:pt x="2156" y="659"/>
                </a:cubicBezTo>
                <a:cubicBezTo>
                  <a:pt x="2186" y="649"/>
                  <a:pt x="2220" y="645"/>
                  <a:pt x="2248" y="631"/>
                </a:cubicBezTo>
                <a:cubicBezTo>
                  <a:pt x="2270" y="620"/>
                  <a:pt x="2282" y="595"/>
                  <a:pt x="2304" y="585"/>
                </a:cubicBezTo>
                <a:cubicBezTo>
                  <a:pt x="2321" y="577"/>
                  <a:pt x="2341" y="579"/>
                  <a:pt x="2360" y="576"/>
                </a:cubicBezTo>
                <a:cubicBezTo>
                  <a:pt x="2403" y="561"/>
                  <a:pt x="2454" y="543"/>
                  <a:pt x="2499" y="538"/>
                </a:cubicBezTo>
                <a:cubicBezTo>
                  <a:pt x="2584" y="529"/>
                  <a:pt x="2676" y="529"/>
                  <a:pt x="2620" y="5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93760" y="3701880"/>
            <a:ext cx="3598920" cy="2125800"/>
          </a:xfrm>
          <a:custGeom>
            <a:avLst/>
            <a:gdLst/>
            <a:ahLst/>
            <a:rect l="l" t="t" r="r" b="b"/>
            <a:pathLst>
              <a:path w="2267" h="1339">
                <a:moveTo>
                  <a:pt x="0" y="1338"/>
                </a:moveTo>
                <a:cubicBezTo>
                  <a:pt x="10" y="1337"/>
                  <a:pt x="94" y="1339"/>
                  <a:pt x="112" y="1310"/>
                </a:cubicBezTo>
                <a:cubicBezTo>
                  <a:pt x="122" y="1293"/>
                  <a:pt x="130" y="1254"/>
                  <a:pt x="130" y="1254"/>
                </a:cubicBezTo>
                <a:cubicBezTo>
                  <a:pt x="136" y="1202"/>
                  <a:pt x="150" y="1076"/>
                  <a:pt x="195" y="1031"/>
                </a:cubicBezTo>
                <a:cubicBezTo>
                  <a:pt x="215" y="1011"/>
                  <a:pt x="256" y="1002"/>
                  <a:pt x="279" y="994"/>
                </a:cubicBezTo>
                <a:cubicBezTo>
                  <a:pt x="288" y="991"/>
                  <a:pt x="307" y="985"/>
                  <a:pt x="307" y="985"/>
                </a:cubicBezTo>
                <a:cubicBezTo>
                  <a:pt x="371" y="941"/>
                  <a:pt x="299" y="1001"/>
                  <a:pt x="344" y="910"/>
                </a:cubicBezTo>
                <a:cubicBezTo>
                  <a:pt x="351" y="897"/>
                  <a:pt x="412" y="860"/>
                  <a:pt x="428" y="855"/>
                </a:cubicBezTo>
                <a:cubicBezTo>
                  <a:pt x="437" y="846"/>
                  <a:pt x="445" y="835"/>
                  <a:pt x="455" y="827"/>
                </a:cubicBezTo>
                <a:cubicBezTo>
                  <a:pt x="473" y="813"/>
                  <a:pt x="511" y="790"/>
                  <a:pt x="511" y="790"/>
                </a:cubicBezTo>
                <a:cubicBezTo>
                  <a:pt x="517" y="781"/>
                  <a:pt x="522" y="770"/>
                  <a:pt x="530" y="762"/>
                </a:cubicBezTo>
                <a:cubicBezTo>
                  <a:pt x="538" y="754"/>
                  <a:pt x="551" y="752"/>
                  <a:pt x="558" y="743"/>
                </a:cubicBezTo>
                <a:cubicBezTo>
                  <a:pt x="607" y="681"/>
                  <a:pt x="518" y="747"/>
                  <a:pt x="595" y="697"/>
                </a:cubicBezTo>
                <a:cubicBezTo>
                  <a:pt x="733" y="482"/>
                  <a:pt x="1102" y="626"/>
                  <a:pt x="1357" y="622"/>
                </a:cubicBezTo>
                <a:cubicBezTo>
                  <a:pt x="1410" y="604"/>
                  <a:pt x="1390" y="586"/>
                  <a:pt x="1422" y="548"/>
                </a:cubicBezTo>
                <a:cubicBezTo>
                  <a:pt x="1437" y="530"/>
                  <a:pt x="1460" y="519"/>
                  <a:pt x="1477" y="502"/>
                </a:cubicBezTo>
                <a:cubicBezTo>
                  <a:pt x="1493" y="457"/>
                  <a:pt x="1492" y="426"/>
                  <a:pt x="1542" y="409"/>
                </a:cubicBezTo>
                <a:cubicBezTo>
                  <a:pt x="1605" y="316"/>
                  <a:pt x="1740" y="386"/>
                  <a:pt x="1840" y="362"/>
                </a:cubicBezTo>
                <a:cubicBezTo>
                  <a:pt x="1871" y="354"/>
                  <a:pt x="1902" y="343"/>
                  <a:pt x="1933" y="334"/>
                </a:cubicBezTo>
                <a:cubicBezTo>
                  <a:pt x="1951" y="328"/>
                  <a:pt x="1988" y="316"/>
                  <a:pt x="1988" y="316"/>
                </a:cubicBezTo>
                <a:cubicBezTo>
                  <a:pt x="2069" y="261"/>
                  <a:pt x="2140" y="194"/>
                  <a:pt x="2221" y="139"/>
                </a:cubicBezTo>
                <a:cubicBezTo>
                  <a:pt x="2254" y="88"/>
                  <a:pt x="2267" y="62"/>
                  <a:pt x="22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76400" y="4410000"/>
            <a:ext cx="3057480" cy="1063800"/>
          </a:xfrm>
          <a:custGeom>
            <a:avLst/>
            <a:gdLst/>
            <a:ahLst/>
            <a:rect l="l" t="t" r="r" b="b"/>
            <a:pathLst>
              <a:path w="1926" h="670">
                <a:moveTo>
                  <a:pt x="0" y="0"/>
                </a:moveTo>
                <a:cubicBezTo>
                  <a:pt x="200" y="5"/>
                  <a:pt x="381" y="12"/>
                  <a:pt x="576" y="28"/>
                </a:cubicBezTo>
                <a:cubicBezTo>
                  <a:pt x="713" y="72"/>
                  <a:pt x="813" y="153"/>
                  <a:pt x="929" y="232"/>
                </a:cubicBezTo>
                <a:cubicBezTo>
                  <a:pt x="957" y="273"/>
                  <a:pt x="1001" y="289"/>
                  <a:pt x="1040" y="316"/>
                </a:cubicBezTo>
                <a:cubicBezTo>
                  <a:pt x="1078" y="341"/>
                  <a:pt x="1133" y="403"/>
                  <a:pt x="1180" y="418"/>
                </a:cubicBezTo>
                <a:cubicBezTo>
                  <a:pt x="1276" y="491"/>
                  <a:pt x="1357" y="565"/>
                  <a:pt x="1477" y="594"/>
                </a:cubicBezTo>
                <a:cubicBezTo>
                  <a:pt x="1542" y="633"/>
                  <a:pt x="1611" y="643"/>
                  <a:pt x="1681" y="669"/>
                </a:cubicBezTo>
                <a:cubicBezTo>
                  <a:pt x="1749" y="666"/>
                  <a:pt x="1819" y="670"/>
                  <a:pt x="1886" y="659"/>
                </a:cubicBezTo>
                <a:cubicBezTo>
                  <a:pt x="1909" y="655"/>
                  <a:pt x="1923" y="568"/>
                  <a:pt x="1923" y="557"/>
                </a:cubicBezTo>
                <a:cubicBezTo>
                  <a:pt x="1926" y="470"/>
                  <a:pt x="1923" y="384"/>
                  <a:pt x="1923" y="2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6200" y="388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24000" y="501336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92200" y="3500280"/>
                <a:ext cx="45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31840" y="41544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319040" y="5589720"/>
                <a:ext cx="355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30680" y="334476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679920" y="5376960"/>
                <a:ext cx="407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32520" y="4915080"/>
                <a:ext cx="442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861240" y="3621240"/>
                <a:ext cx="442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426360" y="4724280"/>
                <a:ext cx="442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996160" y="5648400"/>
                <a:ext cx="44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7E7-5C80-4579-8846-E23F410BCE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nė lente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276640"/>
          <a:ext cx="9144000" cy="423684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79280" y="3357720"/>
                <a:ext cx="50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57320" y="385452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6920" y="4367160"/>
                <a:ext cx="5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79280" y="488160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633680" y="2644920"/>
                <a:ext cx="50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08440" y="266868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216320" y="2635200"/>
                <a:ext cx="5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97640" y="267192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919920" y="2668680"/>
                <a:ext cx="5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B91-A4B8-4FD0-9795-CC872FC9DD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aurės vakarų kampo metod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4B6-A47F-4A58-907A-8BD3FE379A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rmas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2209680" y="3170160"/>
            <a:ext cx="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25520" y="4191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282920" y="3200400"/>
            <a:ext cx="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225160" y="3200400"/>
            <a:ext cx="20574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EDD-6E8D-4A97-9C88-7C9AA1675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rmas patobulintas sprend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C48-01B6-471A-87D4-4FE40DA64D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ras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00600" y="4694400"/>
            <a:ext cx="15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0840" y="5730840"/>
            <a:ext cx="19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797520" y="4647960"/>
            <a:ext cx="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800240" y="4648320"/>
            <a:ext cx="19810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690-99FB-4233-A8D2-3FE56A9B0E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ras patobulintas sprendinys ir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2225520" y="3855960"/>
            <a:ext cx="14400" cy="18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239920" y="5715000"/>
            <a:ext cx="45576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97520" y="3870360"/>
            <a:ext cx="0" cy="18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225520" y="3886200"/>
            <a:ext cx="45720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CC5-DE35-4F12-B6B3-6AC9E6B8B8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čias patobulintas sprendinys ir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41320"/>
          <a:ext cx="9144000" cy="583092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859280" y="3284640"/>
            <a:ext cx="39600" cy="28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32360" y="6165720"/>
            <a:ext cx="19861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862320" y="3316320"/>
            <a:ext cx="34920" cy="29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840200" y="3335400"/>
            <a:ext cx="20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0D8-786E-4754-AC5F-3986A13FD8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z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kmė – 90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eikiamos 3 individualios praktinės užduot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ekviena užduotis vertinama 10 balų sk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dras pažymys – tų užduočių vertinimo vidur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džiama naudotis bet kokia literatū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duotys galima spręsti ir kompiuteri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F64-57DE-414E-B023-173B333C7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tvirtas patobulintas sprendinys ir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50920" y="36320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5092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03120" y="514188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 flipH="1">
            <a:off x="6083280" y="42210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45200" y="49212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99320" y="4221000"/>
            <a:ext cx="468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117840" y="4249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53D-7AF3-487A-9EFE-B0A38E9CC5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timalus sprendiny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880 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50920" y="36320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5092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03120" y="514188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E7A-8FC6-4D2C-9BD8-5EF0B849C7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ų sprendimas kompiuter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jungiame Excel programą; Start /Microsoft Exc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sirenkame langelius, kuriuose užrašomos kintamųjų  reikšmė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nt išvengti painiavos, tikslinga pasirinkti dvi langelių eiles. Pirmoje (viršutinėje) užrašyti kintamųjų simbolius, antroje – jų reikš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DDF-1EFD-4382-8F33-00B9FBF1D6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o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uoti tikslo funkcij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 teisingos tokios ribinės sąly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68360" y="2211480"/>
                <a:ext cx="6119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700360" y="3341520"/>
                <a:ext cx="2433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627280" y="3789360"/>
                <a:ext cx="2665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411280" y="4270320"/>
                <a:ext cx="290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771640" y="4683240"/>
                <a:ext cx="2521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556000" y="5130720"/>
                <a:ext cx="3887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99B-560C-428D-98CD-2F7DC69CC9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tamųjų paskirs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12B-BB82-4F07-8FAE-5891008FB9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binių sąlygų koeficien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D84-08FC-4FE4-A7EB-785E423989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binių sąlygų laisvieji nariai ir formulė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68360" y="1052640"/>
          <a:ext cx="8229600" cy="5224320"/>
        </p:xfrm>
        <a:graphic>
          <a:graphicData uri="http://schemas.openxmlformats.org/drawingml/2006/table">
            <a:tbl>
              <a:tblPr/>
              <a:tblGrid>
                <a:gridCol w="946080"/>
                <a:gridCol w="1081080"/>
                <a:gridCol w="6202440"/>
              </a:tblGrid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3+d2*d3+e2*e3+f2*f3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3+h2*h3+i2*i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4+d2*d4+e2*e4+f2*f4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4+h2*h4+i2*i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5+d2*d5+e2*e5+f2*f5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5+h2*h5+i2*i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6+d2*d6+e2*e6+f2*f6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6+h2*h6+i2*i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7+d2*d7+e2*e7+f2*f7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7+h2*h7+i2*i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4D6-1B2E-4FD2-9EC9-FD3103FC9D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slo funkcijos įved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sirenkame bet kurį laisvą langelį, pvz.J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renkame jame tikslo funkcijos apskaičiavimo formul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c2-d2-3*e2+2*f2+g2-2*h2+3*i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i duomenys suv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037-C521-4544-A2B9-8FBC4C186B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prendimas progra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jungima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/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alogo langely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arget Cel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J2 (Pažymime J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žymime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anging Cells: C2:I2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nuoroda į visus kintamuos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688-46A4-4280-B112-3E4217D166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nuorodos į ribines sąlyg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Referenc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: B3:B7 (nuorodos į ribinių sąlygų form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sose sąlygose yra lygybės ženkl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: A3:A7 ( nuorodos į ribinių sąlygų laisvuosius nar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FF3-F616-49DA-BE40-D525632C7B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škorius S. Matematiniai metodai vadyboje: vadovėlis aukštosioms mokykloms. V., TEV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škorius S. Sprendimų priėmimo teorija. Kiekybiniai metodai: vadovėlis aukštosioms mokykloms. V., LTU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rdon G. Quantitative Decision Making for Business. N.Y.: Englewood Cliffs, 19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ban E. Fundamentals of Management Science,  5 edition. Boston,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F6D-E681-40C3-B89F-3966F5727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( nuorodos – kintamieji neneigiam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Referen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C2:I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C26-002D-44A6-9C03-ECBB65808E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nd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Žymeklį ant J2 (tikslo funkcijos formulė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r / Keep Solver Solution/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kaitome sprendin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-33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,36, x2 = 5, 09, x3 = 10,9, x4 = 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5 = 12, x6 = 4,36, x7 = 0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9CB-716F-41A8-8AA0-42C8F06CD0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SINIS PROGRAM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tū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. Puškorius. Sprendimų priėmimo teorija. Kiekybiniai metodai: Vadovėlis: – Vilnius: Lietuvos teisės universiteto Leidybos centras, 2001. p.p.11-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437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. Puškorius. Matematiniai metodai vadyboje:   Vadovėlis: – Vilnius: TEV, 2001. p.p.25-5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F27-CA06-48B0-B031-546BEA113F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SINIS PROGRAMAVIM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ų pavyzdž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my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izacij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žpirkim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kirsty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 kiti uždavini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DC6-23B9-4E6D-A9E8-093BF9C4A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mybos uždaviny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lentelė. Gamybos paramet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2174760"/>
          <a:ext cx="8218440" cy="4287960"/>
        </p:xfrm>
        <a:graphic>
          <a:graphicData uri="http://schemas.openxmlformats.org/drawingml/2006/table">
            <a:tbl>
              <a:tblPr/>
              <a:tblGrid>
                <a:gridCol w="2232000"/>
                <a:gridCol w="1878120"/>
                <a:gridCol w="2054160"/>
                <a:gridCol w="20541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štek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in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gos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lan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dur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ena, 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klas,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kas, v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nas, 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C4C-6153-467F-97B6-256AD5C45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o formulavim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kslas – maksimizuoti pel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gų skaičius;            – dur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kslo funkcija yra tok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binės sąly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enos ištekl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klo ištekl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bo sąnau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543480" y="4024440"/>
            <a:ext cx="109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26920" y="19890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11640" y="1989000"/>
                <a:ext cx="909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35280" y="2997360"/>
                <a:ext cx="5689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84720" y="4148280"/>
                <a:ext cx="331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356000" y="4581360"/>
                <a:ext cx="32403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00720" y="5157720"/>
                <a:ext cx="2808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B63-93D7-4B0C-8DAD-46F52DBD11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sinis programavim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ikymo galimyb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Šis metodas gali būti taiko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jei yra tik vienas kriterij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jei kriterijus priklauso nuo sprendimo elementų x1, x2, ... tik pirmame laipsnyje (todėl ir tiesinis programavima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jei ribinės sąlygos yra lygybės arba nelygybės, kurios irgi turi savo sudėtyje x1, x2, ... tik pirmame laipsnyj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visi kintamieji yra neneigi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770-FB9D-47FA-BE3D-D2DEF447AE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8:12:59Z</dcterms:created>
  <dc:creator>-</dc:creator>
  <dc:description/>
  <dc:language>en-US</dc:language>
  <cp:lastModifiedBy>user</cp:lastModifiedBy>
  <dcterms:modified xsi:type="dcterms:W3CDTF">2009-01-19T08:15:30Z</dcterms:modified>
  <cp:revision>19</cp:revision>
  <dc:subject/>
  <dc:title>Sprendimų priėmimo teorija (dieninės studijos 24+24+24) (neakivaizdinės studijos 4+4+4)</dc:title>
</cp:coreProperties>
</file>