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2156-263B-4BB4-92F9-EC864A86F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68F1-781A-4D3B-B265-626895CC5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E076-09C8-42E0-BAA8-991CE501B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57747-67D0-4100-A448-EF0894697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9957-3DDA-4235-9D29-9CD412D6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ABDE-6104-42A1-B95D-BE09DFBC0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CE06-EA1A-418D-8398-551562E5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C1C2-B2FD-4894-8C23-A2D25C77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C53E-5FD1-4EE4-AD01-28824D4F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2888B-348D-483D-B839-8690AD63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903D3-AE57-49A4-8199-9D433118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8557-F328-4E83-8BDB-2239822A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9C77-750E-4FA7-A4B8-F2CB4C8059C9}" type="slidenum">
              <a:rPr b="0" lang="lt-L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ų priėmimo teorija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dieninės studijos 24+24+24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neakivaizdinės studijos 4+4+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68360" y="213372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rengė prof. S.Puškor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trateginio valdymo ir politikos fakulte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aldymo teorijos kated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2009 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l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E176-7E04-4425-879A-33760E2CB4B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ų bū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Grafini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Lentelių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impleksų metod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Kompiuterinė programa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9960-4AE0-449F-8DC8-06F403DB5B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o bū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Būtina sąly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-m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n – kintamųjų skaičiu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m – ribinių sąlyg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et kurie du kintamieji pasirenkami laisvai (laisvieji kintamieji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Likusieji kintamieji (baziniai) išreiškiami laisvaisi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Kiekviena ribinė lygtis yra ties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Visos ribinės lygtys formuoja G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CBFB-3B9F-43A6-BA43-D8327645A4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o sprendinio paieškos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) galimų sprendinių srities (GSS) identifikavima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) tikslo funkcijos tiesės brėž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) ir šios funkcijos didėjimo (mažėjimo) krypties nustatyma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) sprendinio rad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A12A-A7BE-4226-A696-4DF62A7248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etapas – GSS brėž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ribas nusako ribinės sąlyg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braižymo algorit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laisvuosius kintamuos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šreiškiame visus bazinius kintamuosius ir tikslo funkciją laisvaisiais kintamaisi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aižome koordinačių aš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grinėjame visas ribines sąlygas iš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9650-44EF-469A-8FB1-1F6E5CA261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etapas – GSS ident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SS – dalis plokštumos, kurioje visi kintamieji yra neneigia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ndinys būtinai yra ant GSS rib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int tą sprendinį surasti, reikia atlikti veiksmus, numatytus 2 – 4 etapu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5A83-7E14-4993-8B95-04B1107011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etapas – tikslo funkcijos brėž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bet kokią tikslo funkcijos reikšm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ikuojame du tos tiesės tašk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jungiame tuos taškus ti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C6188-A248-4A77-AAF3-A88BA15E645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etapas – tikslo funkcijos mažėjimo krypties nust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irenkame bet kurį tašką, kuris nėra ant tikslo funkcijos ties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skaičiuojame tikslo funkcijos reikšmę pasirinktame taš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yginame tą reikšmę su 2 etape pasirinkta tikslo funkcijos reikš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ei ši reikšmė yra mažesn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 2 etape pasirinktą reikšmę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i ji parodo mažėjimo kryptį ir atvirkšč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0D22-EAC0-4AF9-81F7-A032E64E99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etapas – sprendinio ra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miame” tikslo funkcijos tiesę mažėjimo (didėjimo) link, kol ji dar turi bent vieną tašką su G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me kraštutiniame taške ir yra uždavinio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rendinys randama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finiu (apytikri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itiniu būdu (tikslia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53BC-F07B-4DB3-9CC3-C0C07617BD5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as 1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finis spren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4716360" y="2349360"/>
                <a:ext cx="33116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784760" y="3124080"/>
                <a:ext cx="403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1476360" y="2781360"/>
            <a:ext cx="244800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987640" y="6093000"/>
                <a:ext cx="7923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 flipH="1">
            <a:off x="1383840" y="2809800"/>
            <a:ext cx="81000" cy="8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3765240" y="6388200"/>
            <a:ext cx="160200" cy="12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0FD1-80CD-4019-B9DE-3072FA1A791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mas 1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finis sprend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5219640" y="1773360"/>
                <a:ext cx="331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859280" y="2349360"/>
                <a:ext cx="403848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1476360" y="2781360"/>
            <a:ext cx="2448000" cy="360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987640" y="6093000"/>
                <a:ext cx="792360" cy="46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32240" y="2924280"/>
                <a:ext cx="328788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  <m:r>
                      <m:t xml:space="preserve">−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176480" y="3095640"/>
            <a:ext cx="3927240" cy="348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5148360" y="6165720"/>
                <a:ext cx="7920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4951440" y="3557520"/>
                <a:ext cx="33447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355760" y="2697120"/>
            <a:ext cx="3487680" cy="377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3059280" y="3921120"/>
                <a:ext cx="79200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1908000" y="479736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1187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042560" y="3068640"/>
            <a:ext cx="117720" cy="11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75200" y="6535800"/>
            <a:ext cx="108000" cy="1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4734000" y="6467400"/>
            <a:ext cx="93600" cy="1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3795480" y="6386400"/>
            <a:ext cx="9684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230040" y="206280"/>
            <a:ext cx="8685360" cy="644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8389-2239-4635-9F46-359D2F0F7E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 tema. Tiesin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 tema. Diskretus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 tema. 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 tema. Masinio aptarnavimo sis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 tema. Lošimo teorijos meto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tema. Sprendimų medž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C354E-693B-4D02-B8AD-CB5DDC7FCF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rafinis sprendimas 2 ir 3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362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kslo funkcijos brėžimas. Didėjimo krypties nusta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048200" y="359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1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71640" y="2133720"/>
                <a:ext cx="45720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"/>
              <p:cNvSpPr txBox="1"/>
              <p:nvPr/>
            </p:nvSpPr>
            <p:spPr>
              <a:xfrm>
                <a:off x="3851280" y="2421000"/>
                <a:ext cx="4608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5219640" y="3284640"/>
                <a:ext cx="2735280" cy="20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600</m:t>
                        </m:r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822240" y="3568680"/>
            <a:ext cx="2774880" cy="281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826920" y="3357720"/>
            <a:ext cx="182880" cy="20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3564000" y="6165360"/>
            <a:ext cx="182520" cy="204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176560" y="431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023920" y="4221000"/>
                <a:ext cx="1352520" cy="46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368280" y="4410000"/>
            <a:ext cx="2073240" cy="2040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324000" y="5373720"/>
                <a:ext cx="95724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E346C-9591-437D-873B-C377BB2E722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mas 4 eta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Grafin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0" name=""/>
          <p:cNvSpPr/>
          <p:nvPr/>
        </p:nvSpPr>
        <p:spPr>
          <a:xfrm flipV="1">
            <a:off x="1619280" y="2276280"/>
            <a:ext cx="0" cy="338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19280" y="5661000"/>
            <a:ext cx="532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05440" y="573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6659640" y="5805360"/>
                <a:ext cx="647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4" name=""/>
          <p:cNvSpPr/>
          <p:nvPr/>
        </p:nvSpPr>
        <p:spPr>
          <a:xfrm>
            <a:off x="1619280" y="522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547640" y="5229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547640" y="47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4365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547640" y="3933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547640" y="35002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47640" y="2997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95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843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06728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71636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364000" y="558972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1640" y="50133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3800" y="45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73800" y="4149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9000" y="3716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045080" y="3284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5080" y="2781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98180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632680" y="5826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01120" y="58006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782160" y="5805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429800" y="5815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163120" y="5807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340000" y="4149720"/>
            <a:ext cx="1066680" cy="1515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356000" y="4365720"/>
            <a:ext cx="21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619280" y="3357720"/>
            <a:ext cx="2244600" cy="23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08000" y="4797360"/>
            <a:ext cx="66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3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64" name=""/>
          <p:cNvSpPr/>
          <p:nvPr/>
        </p:nvSpPr>
        <p:spPr>
          <a:xfrm>
            <a:off x="1187280" y="31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19280" y="3459240"/>
            <a:ext cx="792000" cy="720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3886200" y="5562360"/>
            <a:ext cx="21276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619280" y="3045960"/>
            <a:ext cx="374760" cy="311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031840" y="2781360"/>
            <a:ext cx="59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64720" cy="65689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 flipH="1">
            <a:off x="1332000" y="409896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163600" y="4038480"/>
            <a:ext cx="30240" cy="167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67120" y="33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2340000" y="3860640"/>
                <a:ext cx="32814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2F94-6CA5-4516-AED8-3A638C7EA74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ntelių bū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9074160" cy="51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ūtina sąlyga – visi kintamųjų koeficientai ribinėse sąlygose lygūs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Šiai sąlygai paklūsta transporto uždavini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6" name=""/>
              <p:cNvSpPr txBox="1"/>
              <p:nvPr/>
            </p:nvSpPr>
            <p:spPr>
              <a:xfrm>
                <a:off x="6585120" y="2584440"/>
                <a:ext cx="1648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7" name=""/>
          <p:cNvSpPr/>
          <p:nvPr/>
        </p:nvSpPr>
        <p:spPr>
          <a:xfrm>
            <a:off x="755640" y="4653000"/>
            <a:ext cx="43164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3573360"/>
            <a:ext cx="43164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221000"/>
            <a:ext cx="432000" cy="411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3640" y="5445000"/>
            <a:ext cx="432000" cy="41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348000" y="3500280"/>
            <a:ext cx="432000" cy="4114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867280" y="4726080"/>
            <a:ext cx="473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227640" y="357336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292720" y="5589720"/>
            <a:ext cx="4730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716360" y="443700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59280" y="5300640"/>
            <a:ext cx="4730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666800" y="3554280"/>
            <a:ext cx="4557960" cy="700200"/>
          </a:xfrm>
          <a:custGeom>
            <a:avLst/>
            <a:gdLst/>
            <a:ahLst/>
            <a:rect l="l" t="t" r="r" b="b"/>
            <a:pathLst>
              <a:path w="2871" h="441">
                <a:moveTo>
                  <a:pt x="0" y="195"/>
                </a:moveTo>
                <a:cubicBezTo>
                  <a:pt x="56" y="213"/>
                  <a:pt x="110" y="227"/>
                  <a:pt x="167" y="242"/>
                </a:cubicBezTo>
                <a:cubicBezTo>
                  <a:pt x="219" y="280"/>
                  <a:pt x="261" y="297"/>
                  <a:pt x="325" y="307"/>
                </a:cubicBezTo>
                <a:cubicBezTo>
                  <a:pt x="374" y="323"/>
                  <a:pt x="425" y="320"/>
                  <a:pt x="474" y="334"/>
                </a:cubicBezTo>
                <a:cubicBezTo>
                  <a:pt x="516" y="346"/>
                  <a:pt x="552" y="370"/>
                  <a:pt x="594" y="381"/>
                </a:cubicBezTo>
                <a:cubicBezTo>
                  <a:pt x="631" y="391"/>
                  <a:pt x="669" y="396"/>
                  <a:pt x="706" y="409"/>
                </a:cubicBezTo>
                <a:cubicBezTo>
                  <a:pt x="1089" y="403"/>
                  <a:pt x="1279" y="441"/>
                  <a:pt x="1579" y="344"/>
                </a:cubicBezTo>
                <a:cubicBezTo>
                  <a:pt x="1588" y="316"/>
                  <a:pt x="1593" y="286"/>
                  <a:pt x="1607" y="260"/>
                </a:cubicBezTo>
                <a:cubicBezTo>
                  <a:pt x="1650" y="181"/>
                  <a:pt x="1720" y="142"/>
                  <a:pt x="1793" y="93"/>
                </a:cubicBezTo>
                <a:cubicBezTo>
                  <a:pt x="1802" y="87"/>
                  <a:pt x="1813" y="82"/>
                  <a:pt x="1821" y="74"/>
                </a:cubicBezTo>
                <a:cubicBezTo>
                  <a:pt x="1830" y="65"/>
                  <a:pt x="1838" y="53"/>
                  <a:pt x="1849" y="46"/>
                </a:cubicBezTo>
                <a:cubicBezTo>
                  <a:pt x="1883" y="23"/>
                  <a:pt x="1929" y="10"/>
                  <a:pt x="1969" y="0"/>
                </a:cubicBezTo>
                <a:cubicBezTo>
                  <a:pt x="2134" y="7"/>
                  <a:pt x="2297" y="18"/>
                  <a:pt x="2462" y="28"/>
                </a:cubicBezTo>
                <a:cubicBezTo>
                  <a:pt x="2551" y="56"/>
                  <a:pt x="2641" y="77"/>
                  <a:pt x="2731" y="102"/>
                </a:cubicBezTo>
                <a:cubicBezTo>
                  <a:pt x="2779" y="115"/>
                  <a:pt x="2821" y="139"/>
                  <a:pt x="2871" y="13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963880" y="4232160"/>
            <a:ext cx="393840" cy="1047960"/>
          </a:xfrm>
          <a:custGeom>
            <a:avLst/>
            <a:gdLst/>
            <a:ahLst/>
            <a:rect l="l" t="t" r="r" b="b"/>
            <a:pathLst>
              <a:path w="248" h="660">
                <a:moveTo>
                  <a:pt x="0" y="0"/>
                </a:moveTo>
                <a:cubicBezTo>
                  <a:pt x="13" y="19"/>
                  <a:pt x="25" y="37"/>
                  <a:pt x="38" y="56"/>
                </a:cubicBezTo>
                <a:cubicBezTo>
                  <a:pt x="44" y="65"/>
                  <a:pt x="50" y="75"/>
                  <a:pt x="56" y="84"/>
                </a:cubicBezTo>
                <a:cubicBezTo>
                  <a:pt x="62" y="93"/>
                  <a:pt x="75" y="112"/>
                  <a:pt x="75" y="112"/>
                </a:cubicBezTo>
                <a:cubicBezTo>
                  <a:pt x="92" y="166"/>
                  <a:pt x="78" y="130"/>
                  <a:pt x="130" y="205"/>
                </a:cubicBezTo>
                <a:cubicBezTo>
                  <a:pt x="136" y="214"/>
                  <a:pt x="143" y="224"/>
                  <a:pt x="149" y="233"/>
                </a:cubicBezTo>
                <a:cubicBezTo>
                  <a:pt x="155" y="242"/>
                  <a:pt x="168" y="260"/>
                  <a:pt x="168" y="260"/>
                </a:cubicBezTo>
                <a:cubicBezTo>
                  <a:pt x="179" y="295"/>
                  <a:pt x="241" y="360"/>
                  <a:pt x="242" y="381"/>
                </a:cubicBezTo>
                <a:cubicBezTo>
                  <a:pt x="248" y="474"/>
                  <a:pt x="242" y="567"/>
                  <a:pt x="242" y="6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701880" y="3841920"/>
            <a:ext cx="1563840" cy="1865160"/>
          </a:xfrm>
          <a:custGeom>
            <a:avLst/>
            <a:gdLst/>
            <a:ahLst/>
            <a:rect l="l" t="t" r="r" b="b"/>
            <a:pathLst>
              <a:path w="985" h="1175">
                <a:moveTo>
                  <a:pt x="0" y="5"/>
                </a:moveTo>
                <a:cubicBezTo>
                  <a:pt x="37" y="9"/>
                  <a:pt x="82" y="0"/>
                  <a:pt x="111" y="23"/>
                </a:cubicBezTo>
                <a:cubicBezTo>
                  <a:pt x="130" y="38"/>
                  <a:pt x="143" y="60"/>
                  <a:pt x="158" y="79"/>
                </a:cubicBezTo>
                <a:cubicBezTo>
                  <a:pt x="172" y="97"/>
                  <a:pt x="195" y="135"/>
                  <a:pt x="195" y="135"/>
                </a:cubicBezTo>
                <a:cubicBezTo>
                  <a:pt x="207" y="173"/>
                  <a:pt x="228" y="213"/>
                  <a:pt x="251" y="246"/>
                </a:cubicBezTo>
                <a:cubicBezTo>
                  <a:pt x="274" y="318"/>
                  <a:pt x="282" y="306"/>
                  <a:pt x="325" y="367"/>
                </a:cubicBezTo>
                <a:cubicBezTo>
                  <a:pt x="359" y="416"/>
                  <a:pt x="375" y="465"/>
                  <a:pt x="418" y="506"/>
                </a:cubicBezTo>
                <a:cubicBezTo>
                  <a:pt x="437" y="544"/>
                  <a:pt x="453" y="569"/>
                  <a:pt x="483" y="599"/>
                </a:cubicBezTo>
                <a:cubicBezTo>
                  <a:pt x="503" y="661"/>
                  <a:pt x="475" y="594"/>
                  <a:pt x="520" y="646"/>
                </a:cubicBezTo>
                <a:cubicBezTo>
                  <a:pt x="560" y="693"/>
                  <a:pt x="578" y="752"/>
                  <a:pt x="622" y="794"/>
                </a:cubicBezTo>
                <a:cubicBezTo>
                  <a:pt x="641" y="848"/>
                  <a:pt x="683" y="886"/>
                  <a:pt x="715" y="934"/>
                </a:cubicBezTo>
                <a:cubicBezTo>
                  <a:pt x="752" y="990"/>
                  <a:pt x="716" y="934"/>
                  <a:pt x="752" y="990"/>
                </a:cubicBezTo>
                <a:cubicBezTo>
                  <a:pt x="762" y="1006"/>
                  <a:pt x="757" y="1031"/>
                  <a:pt x="771" y="1045"/>
                </a:cubicBezTo>
                <a:cubicBezTo>
                  <a:pt x="809" y="1083"/>
                  <a:pt x="913" y="1130"/>
                  <a:pt x="966" y="1147"/>
                </a:cubicBezTo>
                <a:cubicBezTo>
                  <a:pt x="972" y="1156"/>
                  <a:pt x="985" y="1175"/>
                  <a:pt x="985" y="117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46520" y="3733920"/>
            <a:ext cx="2403360" cy="955440"/>
          </a:xfrm>
          <a:custGeom>
            <a:avLst/>
            <a:gdLst/>
            <a:ahLst/>
            <a:rect l="l" t="t" r="r" b="b"/>
            <a:pathLst>
              <a:path w="1514" h="602">
                <a:moveTo>
                  <a:pt x="0" y="26"/>
                </a:moveTo>
                <a:cubicBezTo>
                  <a:pt x="80" y="0"/>
                  <a:pt x="155" y="26"/>
                  <a:pt x="232" y="45"/>
                </a:cubicBezTo>
                <a:cubicBezTo>
                  <a:pt x="267" y="68"/>
                  <a:pt x="295" y="103"/>
                  <a:pt x="334" y="119"/>
                </a:cubicBezTo>
                <a:cubicBezTo>
                  <a:pt x="371" y="134"/>
                  <a:pt x="408" y="155"/>
                  <a:pt x="446" y="166"/>
                </a:cubicBezTo>
                <a:cubicBezTo>
                  <a:pt x="516" y="185"/>
                  <a:pt x="589" y="193"/>
                  <a:pt x="659" y="212"/>
                </a:cubicBezTo>
                <a:cubicBezTo>
                  <a:pt x="733" y="233"/>
                  <a:pt x="807" y="250"/>
                  <a:pt x="882" y="268"/>
                </a:cubicBezTo>
                <a:cubicBezTo>
                  <a:pt x="901" y="273"/>
                  <a:pt x="918" y="285"/>
                  <a:pt x="938" y="286"/>
                </a:cubicBezTo>
                <a:cubicBezTo>
                  <a:pt x="994" y="289"/>
                  <a:pt x="1049" y="293"/>
                  <a:pt x="1105" y="296"/>
                </a:cubicBezTo>
                <a:cubicBezTo>
                  <a:pt x="1145" y="306"/>
                  <a:pt x="1186" y="314"/>
                  <a:pt x="1226" y="324"/>
                </a:cubicBezTo>
                <a:cubicBezTo>
                  <a:pt x="1245" y="329"/>
                  <a:pt x="1282" y="342"/>
                  <a:pt x="1282" y="342"/>
                </a:cubicBezTo>
                <a:cubicBezTo>
                  <a:pt x="1291" y="348"/>
                  <a:pt x="1304" y="351"/>
                  <a:pt x="1310" y="361"/>
                </a:cubicBezTo>
                <a:cubicBezTo>
                  <a:pt x="1320" y="378"/>
                  <a:pt x="1317" y="401"/>
                  <a:pt x="1328" y="417"/>
                </a:cubicBezTo>
                <a:cubicBezTo>
                  <a:pt x="1340" y="435"/>
                  <a:pt x="1358" y="451"/>
                  <a:pt x="1365" y="472"/>
                </a:cubicBezTo>
                <a:cubicBezTo>
                  <a:pt x="1373" y="495"/>
                  <a:pt x="1380" y="542"/>
                  <a:pt x="1403" y="556"/>
                </a:cubicBezTo>
                <a:cubicBezTo>
                  <a:pt x="1417" y="565"/>
                  <a:pt x="1466" y="574"/>
                  <a:pt x="1486" y="584"/>
                </a:cubicBezTo>
                <a:cubicBezTo>
                  <a:pt x="1496" y="589"/>
                  <a:pt x="1514" y="602"/>
                  <a:pt x="1514" y="60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962000" y="4557600"/>
            <a:ext cx="1176480" cy="925560"/>
          </a:xfrm>
          <a:custGeom>
            <a:avLst/>
            <a:gdLst/>
            <a:ahLst/>
            <a:rect l="l" t="t" r="r" b="b"/>
            <a:pathLst>
              <a:path w="741" h="583">
                <a:moveTo>
                  <a:pt x="0" y="0"/>
                </a:moveTo>
                <a:cubicBezTo>
                  <a:pt x="12" y="3"/>
                  <a:pt x="26" y="2"/>
                  <a:pt x="37" y="9"/>
                </a:cubicBezTo>
                <a:cubicBezTo>
                  <a:pt x="46" y="15"/>
                  <a:pt x="45" y="32"/>
                  <a:pt x="55" y="37"/>
                </a:cubicBezTo>
                <a:cubicBezTo>
                  <a:pt x="69" y="45"/>
                  <a:pt x="86" y="43"/>
                  <a:pt x="102" y="46"/>
                </a:cubicBezTo>
                <a:cubicBezTo>
                  <a:pt x="163" y="87"/>
                  <a:pt x="223" y="145"/>
                  <a:pt x="288" y="176"/>
                </a:cubicBezTo>
                <a:cubicBezTo>
                  <a:pt x="341" y="231"/>
                  <a:pt x="401" y="265"/>
                  <a:pt x="464" y="306"/>
                </a:cubicBezTo>
                <a:cubicBezTo>
                  <a:pt x="486" y="374"/>
                  <a:pt x="454" y="295"/>
                  <a:pt x="501" y="353"/>
                </a:cubicBezTo>
                <a:cubicBezTo>
                  <a:pt x="507" y="361"/>
                  <a:pt x="506" y="372"/>
                  <a:pt x="511" y="381"/>
                </a:cubicBezTo>
                <a:cubicBezTo>
                  <a:pt x="536" y="424"/>
                  <a:pt x="564" y="485"/>
                  <a:pt x="613" y="501"/>
                </a:cubicBezTo>
                <a:cubicBezTo>
                  <a:pt x="622" y="507"/>
                  <a:pt x="632" y="513"/>
                  <a:pt x="641" y="520"/>
                </a:cubicBezTo>
                <a:cubicBezTo>
                  <a:pt x="654" y="529"/>
                  <a:pt x="665" y="539"/>
                  <a:pt x="678" y="548"/>
                </a:cubicBezTo>
                <a:cubicBezTo>
                  <a:pt x="687" y="554"/>
                  <a:pt x="696" y="561"/>
                  <a:pt x="706" y="566"/>
                </a:cubicBezTo>
                <a:cubicBezTo>
                  <a:pt x="715" y="570"/>
                  <a:pt x="741" y="583"/>
                  <a:pt x="734" y="576"/>
                </a:cubicBezTo>
                <a:cubicBezTo>
                  <a:pt x="675" y="519"/>
                  <a:pt x="678" y="564"/>
                  <a:pt x="678" y="5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076400" y="5059440"/>
            <a:ext cx="4248000" cy="1090440"/>
          </a:xfrm>
          <a:custGeom>
            <a:avLst/>
            <a:gdLst/>
            <a:ahLst/>
            <a:rect l="l" t="t" r="r" b="b"/>
            <a:pathLst>
              <a:path w="2676" h="687">
                <a:moveTo>
                  <a:pt x="0" y="0"/>
                </a:moveTo>
                <a:cubicBezTo>
                  <a:pt x="144" y="12"/>
                  <a:pt x="82" y="5"/>
                  <a:pt x="177" y="46"/>
                </a:cubicBezTo>
                <a:cubicBezTo>
                  <a:pt x="263" y="83"/>
                  <a:pt x="384" y="95"/>
                  <a:pt x="474" y="102"/>
                </a:cubicBezTo>
                <a:cubicBezTo>
                  <a:pt x="592" y="140"/>
                  <a:pt x="510" y="119"/>
                  <a:pt x="725" y="130"/>
                </a:cubicBezTo>
                <a:cubicBezTo>
                  <a:pt x="794" y="144"/>
                  <a:pt x="845" y="188"/>
                  <a:pt x="911" y="204"/>
                </a:cubicBezTo>
                <a:cubicBezTo>
                  <a:pt x="946" y="228"/>
                  <a:pt x="988" y="244"/>
                  <a:pt x="1022" y="269"/>
                </a:cubicBezTo>
                <a:cubicBezTo>
                  <a:pt x="1055" y="293"/>
                  <a:pt x="1082" y="329"/>
                  <a:pt x="1115" y="353"/>
                </a:cubicBezTo>
                <a:cubicBezTo>
                  <a:pt x="1144" y="373"/>
                  <a:pt x="1187" y="401"/>
                  <a:pt x="1217" y="418"/>
                </a:cubicBezTo>
                <a:cubicBezTo>
                  <a:pt x="1245" y="434"/>
                  <a:pt x="1288" y="438"/>
                  <a:pt x="1319" y="446"/>
                </a:cubicBezTo>
                <a:cubicBezTo>
                  <a:pt x="1357" y="470"/>
                  <a:pt x="1335" y="460"/>
                  <a:pt x="1375" y="473"/>
                </a:cubicBezTo>
                <a:cubicBezTo>
                  <a:pt x="1394" y="479"/>
                  <a:pt x="1431" y="492"/>
                  <a:pt x="1431" y="492"/>
                </a:cubicBezTo>
                <a:cubicBezTo>
                  <a:pt x="1450" y="511"/>
                  <a:pt x="1463" y="536"/>
                  <a:pt x="1487" y="548"/>
                </a:cubicBezTo>
                <a:cubicBezTo>
                  <a:pt x="1512" y="560"/>
                  <a:pt x="1531" y="567"/>
                  <a:pt x="1552" y="585"/>
                </a:cubicBezTo>
                <a:cubicBezTo>
                  <a:pt x="1598" y="623"/>
                  <a:pt x="1560" y="606"/>
                  <a:pt x="1607" y="622"/>
                </a:cubicBezTo>
                <a:cubicBezTo>
                  <a:pt x="1650" y="665"/>
                  <a:pt x="1708" y="669"/>
                  <a:pt x="1765" y="687"/>
                </a:cubicBezTo>
                <a:cubicBezTo>
                  <a:pt x="2019" y="680"/>
                  <a:pt x="1998" y="684"/>
                  <a:pt x="2156" y="659"/>
                </a:cubicBezTo>
                <a:cubicBezTo>
                  <a:pt x="2186" y="649"/>
                  <a:pt x="2220" y="645"/>
                  <a:pt x="2248" y="631"/>
                </a:cubicBezTo>
                <a:cubicBezTo>
                  <a:pt x="2270" y="620"/>
                  <a:pt x="2282" y="595"/>
                  <a:pt x="2304" y="585"/>
                </a:cubicBezTo>
                <a:cubicBezTo>
                  <a:pt x="2321" y="577"/>
                  <a:pt x="2341" y="579"/>
                  <a:pt x="2360" y="576"/>
                </a:cubicBezTo>
                <a:cubicBezTo>
                  <a:pt x="2403" y="561"/>
                  <a:pt x="2454" y="543"/>
                  <a:pt x="2499" y="538"/>
                </a:cubicBezTo>
                <a:cubicBezTo>
                  <a:pt x="2584" y="529"/>
                  <a:pt x="2676" y="529"/>
                  <a:pt x="2620" y="52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093760" y="3701880"/>
            <a:ext cx="3598920" cy="2125800"/>
          </a:xfrm>
          <a:custGeom>
            <a:avLst/>
            <a:gdLst/>
            <a:ahLst/>
            <a:rect l="l" t="t" r="r" b="b"/>
            <a:pathLst>
              <a:path w="2267" h="1339">
                <a:moveTo>
                  <a:pt x="0" y="1338"/>
                </a:moveTo>
                <a:cubicBezTo>
                  <a:pt x="10" y="1337"/>
                  <a:pt x="94" y="1339"/>
                  <a:pt x="112" y="1310"/>
                </a:cubicBezTo>
                <a:cubicBezTo>
                  <a:pt x="122" y="1293"/>
                  <a:pt x="130" y="1254"/>
                  <a:pt x="130" y="1254"/>
                </a:cubicBezTo>
                <a:cubicBezTo>
                  <a:pt x="136" y="1202"/>
                  <a:pt x="150" y="1076"/>
                  <a:pt x="195" y="1031"/>
                </a:cubicBezTo>
                <a:cubicBezTo>
                  <a:pt x="215" y="1011"/>
                  <a:pt x="256" y="1002"/>
                  <a:pt x="279" y="994"/>
                </a:cubicBezTo>
                <a:cubicBezTo>
                  <a:pt x="288" y="991"/>
                  <a:pt x="307" y="985"/>
                  <a:pt x="307" y="985"/>
                </a:cubicBezTo>
                <a:cubicBezTo>
                  <a:pt x="371" y="941"/>
                  <a:pt x="299" y="1001"/>
                  <a:pt x="344" y="910"/>
                </a:cubicBezTo>
                <a:cubicBezTo>
                  <a:pt x="351" y="897"/>
                  <a:pt x="412" y="860"/>
                  <a:pt x="428" y="855"/>
                </a:cubicBezTo>
                <a:cubicBezTo>
                  <a:pt x="437" y="846"/>
                  <a:pt x="445" y="835"/>
                  <a:pt x="455" y="827"/>
                </a:cubicBezTo>
                <a:cubicBezTo>
                  <a:pt x="473" y="813"/>
                  <a:pt x="511" y="790"/>
                  <a:pt x="511" y="790"/>
                </a:cubicBezTo>
                <a:cubicBezTo>
                  <a:pt x="517" y="781"/>
                  <a:pt x="522" y="770"/>
                  <a:pt x="530" y="762"/>
                </a:cubicBezTo>
                <a:cubicBezTo>
                  <a:pt x="538" y="754"/>
                  <a:pt x="551" y="752"/>
                  <a:pt x="558" y="743"/>
                </a:cubicBezTo>
                <a:cubicBezTo>
                  <a:pt x="607" y="681"/>
                  <a:pt x="518" y="747"/>
                  <a:pt x="595" y="697"/>
                </a:cubicBezTo>
                <a:cubicBezTo>
                  <a:pt x="733" y="482"/>
                  <a:pt x="1102" y="626"/>
                  <a:pt x="1357" y="622"/>
                </a:cubicBezTo>
                <a:cubicBezTo>
                  <a:pt x="1410" y="604"/>
                  <a:pt x="1390" y="586"/>
                  <a:pt x="1422" y="548"/>
                </a:cubicBezTo>
                <a:cubicBezTo>
                  <a:pt x="1437" y="530"/>
                  <a:pt x="1460" y="519"/>
                  <a:pt x="1477" y="502"/>
                </a:cubicBezTo>
                <a:cubicBezTo>
                  <a:pt x="1493" y="457"/>
                  <a:pt x="1492" y="426"/>
                  <a:pt x="1542" y="409"/>
                </a:cubicBezTo>
                <a:cubicBezTo>
                  <a:pt x="1605" y="316"/>
                  <a:pt x="1740" y="386"/>
                  <a:pt x="1840" y="362"/>
                </a:cubicBezTo>
                <a:cubicBezTo>
                  <a:pt x="1871" y="354"/>
                  <a:pt x="1902" y="343"/>
                  <a:pt x="1933" y="334"/>
                </a:cubicBezTo>
                <a:cubicBezTo>
                  <a:pt x="1951" y="328"/>
                  <a:pt x="1988" y="316"/>
                  <a:pt x="1988" y="316"/>
                </a:cubicBezTo>
                <a:cubicBezTo>
                  <a:pt x="2069" y="261"/>
                  <a:pt x="2140" y="194"/>
                  <a:pt x="2221" y="139"/>
                </a:cubicBezTo>
                <a:cubicBezTo>
                  <a:pt x="2254" y="88"/>
                  <a:pt x="2267" y="62"/>
                  <a:pt x="2267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976400" y="4410000"/>
            <a:ext cx="3057480" cy="1063800"/>
          </a:xfrm>
          <a:custGeom>
            <a:avLst/>
            <a:gdLst/>
            <a:ahLst/>
            <a:rect l="l" t="t" r="r" b="b"/>
            <a:pathLst>
              <a:path w="1926" h="670">
                <a:moveTo>
                  <a:pt x="0" y="0"/>
                </a:moveTo>
                <a:cubicBezTo>
                  <a:pt x="200" y="5"/>
                  <a:pt x="381" y="12"/>
                  <a:pt x="576" y="28"/>
                </a:cubicBezTo>
                <a:cubicBezTo>
                  <a:pt x="713" y="72"/>
                  <a:pt x="813" y="153"/>
                  <a:pt x="929" y="232"/>
                </a:cubicBezTo>
                <a:cubicBezTo>
                  <a:pt x="957" y="273"/>
                  <a:pt x="1001" y="289"/>
                  <a:pt x="1040" y="316"/>
                </a:cubicBezTo>
                <a:cubicBezTo>
                  <a:pt x="1078" y="341"/>
                  <a:pt x="1133" y="403"/>
                  <a:pt x="1180" y="418"/>
                </a:cubicBezTo>
                <a:cubicBezTo>
                  <a:pt x="1276" y="491"/>
                  <a:pt x="1357" y="565"/>
                  <a:pt x="1477" y="594"/>
                </a:cubicBezTo>
                <a:cubicBezTo>
                  <a:pt x="1542" y="633"/>
                  <a:pt x="1611" y="643"/>
                  <a:pt x="1681" y="669"/>
                </a:cubicBezTo>
                <a:cubicBezTo>
                  <a:pt x="1749" y="666"/>
                  <a:pt x="1819" y="670"/>
                  <a:pt x="1886" y="659"/>
                </a:cubicBezTo>
                <a:cubicBezTo>
                  <a:pt x="1909" y="655"/>
                  <a:pt x="1923" y="568"/>
                  <a:pt x="1923" y="557"/>
                </a:cubicBezTo>
                <a:cubicBezTo>
                  <a:pt x="1926" y="470"/>
                  <a:pt x="1923" y="384"/>
                  <a:pt x="1923" y="29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6200" y="38815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24000" y="5013360"/>
                <a:ext cx="3301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592200" y="3500280"/>
                <a:ext cx="45072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1131840" y="4154400"/>
                <a:ext cx="355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1319040" y="5589720"/>
                <a:ext cx="3556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2830680" y="3344760"/>
                <a:ext cx="355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3679920" y="5376960"/>
                <a:ext cx="407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5132520" y="4915080"/>
                <a:ext cx="44280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3" name=""/>
              <p:cNvSpPr txBox="1"/>
              <p:nvPr/>
            </p:nvSpPr>
            <p:spPr>
              <a:xfrm>
                <a:off x="6861240" y="3621240"/>
                <a:ext cx="442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4" name=""/>
              <p:cNvSpPr txBox="1"/>
              <p:nvPr/>
            </p:nvSpPr>
            <p:spPr>
              <a:xfrm>
                <a:off x="6426360" y="4724280"/>
                <a:ext cx="44280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5996160" y="5648400"/>
                <a:ext cx="4410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8B28-FB86-474C-AFBB-F58B9E61C6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0" y="1628280"/>
            <a:ext cx="91440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zinė lente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0" y="2276640"/>
          <a:ext cx="9144000" cy="423684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79280" y="3357720"/>
                <a:ext cx="50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157320" y="385452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196920" y="436716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2" name=""/>
              <p:cNvSpPr txBox="1"/>
              <p:nvPr/>
            </p:nvSpPr>
            <p:spPr>
              <a:xfrm>
                <a:off x="179280" y="488160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3" name=""/>
              <p:cNvSpPr txBox="1"/>
              <p:nvPr/>
            </p:nvSpPr>
            <p:spPr>
              <a:xfrm>
                <a:off x="1633680" y="2644920"/>
                <a:ext cx="5000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2908440" y="266868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4216320" y="263520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5597640" y="2671920"/>
                <a:ext cx="534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919920" y="2668680"/>
                <a:ext cx="534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70B9-1E22-4382-9048-A911E3379D40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Šiaurės vakarų kampo metoda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0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2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6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8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9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2D2-E3D2-42AE-9EE7-22176B9B98B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rmas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4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7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0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1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42" name=""/>
          <p:cNvSpPr/>
          <p:nvPr/>
        </p:nvSpPr>
        <p:spPr>
          <a:xfrm>
            <a:off x="2209680" y="3170160"/>
            <a:ext cx="0" cy="10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225520" y="4191120"/>
            <a:ext cx="2057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4282920" y="3200400"/>
            <a:ext cx="144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 flipV="1">
            <a:off x="2225160" y="3200400"/>
            <a:ext cx="20574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282-942F-40CD-A4EB-A4E1D2D84D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irmas patobulintas sprendin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0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6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6356-25A8-40A4-9F5D-60A60F7E99F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ras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61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3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4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4800600" y="4694400"/>
            <a:ext cx="158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30840" y="5730840"/>
            <a:ext cx="19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797520" y="4647960"/>
            <a:ext cx="0" cy="10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4800240" y="4648320"/>
            <a:ext cx="198108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AC09-5B82-4B3F-829B-1E1CD1A40DA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0" y="10522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tr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77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8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0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1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2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4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85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6" name=""/>
          <p:cNvSpPr/>
          <p:nvPr/>
        </p:nvSpPr>
        <p:spPr>
          <a:xfrm>
            <a:off x="2225520" y="3855960"/>
            <a:ext cx="14400" cy="188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2239920" y="5715000"/>
            <a:ext cx="45576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6797520" y="3870360"/>
            <a:ext cx="0" cy="186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2225520" y="3886200"/>
            <a:ext cx="4572000" cy="1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E17A-5500-4417-9FC6-FC9D582DEF1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eči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2" name=""/>
          <p:cNvGraphicFramePr/>
          <p:nvPr/>
        </p:nvGraphicFramePr>
        <p:xfrm>
          <a:off x="0" y="1741320"/>
          <a:ext cx="9144000" cy="583092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247680" y="356400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17928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09520" y="5156280"/>
                <a:ext cx="66996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4859280" y="3284640"/>
            <a:ext cx="39600" cy="285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932360" y="6165720"/>
            <a:ext cx="1986120" cy="5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 flipV="1">
            <a:off x="6862320" y="3316320"/>
            <a:ext cx="34920" cy="292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4840200" y="3335400"/>
            <a:ext cx="2030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6556-CBB2-4FDF-99E7-3957DA3CF69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gzami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ukmė – 90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teikiamos 3 individualios praktinės užduot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iekviena užduotis vertinama 10 balų sk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ndras pažymys – tų užduočių vertinimo vidurk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idžiama naudotis bet kokia literatū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žduotys galima spręsti ir kompiuteri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2E7-91B6-4F2C-B371-38C80EB19B3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tvirtas patobulintas sprendinys ir pakeitimų ci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09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0" name=""/>
              <p:cNvSpPr txBox="1"/>
              <p:nvPr/>
            </p:nvSpPr>
            <p:spPr>
              <a:xfrm>
                <a:off x="250920" y="36320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1" name=""/>
              <p:cNvSpPr txBox="1"/>
              <p:nvPr/>
            </p:nvSpPr>
            <p:spPr>
              <a:xfrm>
                <a:off x="25092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2" name=""/>
              <p:cNvSpPr txBox="1"/>
              <p:nvPr/>
            </p:nvSpPr>
            <p:spPr>
              <a:xfrm>
                <a:off x="303120" y="514188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3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4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5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6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17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18" name=""/>
          <p:cNvSpPr/>
          <p:nvPr/>
        </p:nvSpPr>
        <p:spPr>
          <a:xfrm flipH="1">
            <a:off x="6083280" y="4221000"/>
            <a:ext cx="144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145200" y="492120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99320" y="4221000"/>
            <a:ext cx="4680" cy="68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6117840" y="42498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0D55-A372-44FA-A619-9F2AF1B8D7C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nsporto 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Optimalus sprendiny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=880 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4" name=""/>
          <p:cNvGraphicFramePr/>
          <p:nvPr/>
        </p:nvGraphicFramePr>
        <p:xfrm>
          <a:off x="0" y="1741320"/>
          <a:ext cx="9144000" cy="5243760"/>
        </p:xfrm>
        <a:graphic>
          <a:graphicData uri="http://schemas.openxmlformats.org/drawingml/2006/table">
            <a:tbl>
              <a:tblPr/>
              <a:tblGrid>
                <a:gridCol w="1308240"/>
                <a:gridCol w="1304640"/>
                <a:gridCol w="1306800"/>
                <a:gridCol w="1304640"/>
                <a:gridCol w="1308240"/>
                <a:gridCol w="1305000"/>
                <a:gridCol w="1306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and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šk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225360" y="2886120"/>
                <a:ext cx="6256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250920" y="36320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7" name=""/>
              <p:cNvSpPr txBox="1"/>
              <p:nvPr/>
            </p:nvSpPr>
            <p:spPr>
              <a:xfrm>
                <a:off x="250920" y="436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03120" y="514188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1476360" y="1992240"/>
                <a:ext cx="7444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2908440" y="199692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1" name=""/>
              <p:cNvSpPr txBox="1"/>
              <p:nvPr/>
            </p:nvSpPr>
            <p:spPr>
              <a:xfrm>
                <a:off x="4216320" y="2025720"/>
                <a:ext cx="66204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553000" y="2031840"/>
                <a:ext cx="66996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6797520" y="2028960"/>
                <a:ext cx="662040" cy="56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677B-8D99-4FCA-8F23-3F18E861756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ų sprendimas kompiuter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jungiame Excel programą; Start /Microsoft Exc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sirenkame langelius, kuriuose užrašomos kintamųjų  reikšmė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Norint išvengti painiavos, tikslinga pasirinkti dvi langelių eiles. Pirmoje (viršutinėje) užrašyti kintamųjų simbolius, antroje – jų reikšm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62D1-9F28-4BF2-8825-FC3F9F70632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4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4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4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o pavyzd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uoti tikslo funkcij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i teisingos tokios ribinės sąly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468360" y="2211480"/>
                <a:ext cx="611964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700360" y="3341520"/>
                <a:ext cx="243360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2627280" y="3789360"/>
                <a:ext cx="266544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4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7" name=""/>
              <p:cNvSpPr txBox="1"/>
              <p:nvPr/>
            </p:nvSpPr>
            <p:spPr>
              <a:xfrm>
                <a:off x="2411280" y="4270320"/>
                <a:ext cx="29084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8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2771640" y="4683240"/>
                <a:ext cx="252108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0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556000" y="5130720"/>
                <a:ext cx="3887640" cy="4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8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3BBD-E66C-42AF-BE69-F0E75BCACD0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4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4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intamųjų paskirs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i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1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3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6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576FA-5466-4C8C-B2FD-B367074BA6C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ibinių sąlygų koeficien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457200" y="1600200"/>
          <a:ext cx="8229240" cy="452556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520"/>
                <a:gridCol w="1028880"/>
                <a:gridCol w="1028520"/>
                <a:gridCol w="1028520"/>
                <a:gridCol w="1028880"/>
              </a:tblGrid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39AA-35E6-4547-8731-B9DDB881377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ibinių sąlygų laisvieji nariai ir formulė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"/>
          <p:cNvGraphicFramePr/>
          <p:nvPr/>
        </p:nvGraphicFramePr>
        <p:xfrm>
          <a:off x="468360" y="1052640"/>
          <a:ext cx="8229600" cy="5224320"/>
        </p:xfrm>
        <a:graphic>
          <a:graphicData uri="http://schemas.openxmlformats.org/drawingml/2006/table">
            <a:tbl>
              <a:tblPr/>
              <a:tblGrid>
                <a:gridCol w="946080"/>
                <a:gridCol w="1081080"/>
                <a:gridCol w="6202440"/>
              </a:tblGrid>
              <a:tr h="71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3+d2*d3+e2*e3+f2*f3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3+h2*h3+i2*i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4+d2*d4+e2*e4+f2*f4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4+h2*h4+i2*i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5+d2*d5+e2*e5+f2*f5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5+h2*h5+i2*i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6+d2*d6+e2*e6+f2*f6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6+h2*h6+i2*i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c2*c7+d2*d7+e2*e7+f2*f7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2*g7+h2*h7+i2*i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172A-C738-42C4-8441-064C19E3680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slo funkcijos įve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sirenkame bet kurį laisvą langelį, pvz.J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Surenkame jame tikslo funkcijos apskaičiavimo formul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c2-d2-3*e2+2*f2+g2-2*h2+3*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Visi duomenys suves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AE25-BE30-4C44-AFEC-3E17C9BCC30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as programa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Įjungimas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ols / 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Dialogo langely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t target Cell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J2 (Pažymime J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Pažymime M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changing Cells: C2:I2 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(nuoroda į visus kintamuos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2504-8A84-4DB7-B01F-FAC7F91B139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4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 (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nuorodos į ribines sąlyga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ell Reference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: B3:B7 (nuorodos į ribinių sąlygų formu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visose sąlygose yra lygybės ženklai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straints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: A3:A7 ( nuorodos į ribinių sąlygų laisvuosius nariu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D0DD-4414-4710-B9C9-21669958510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4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4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škorius S. Matematiniai metodai vadyboje: vadovėlis aukštosioms mokykloms. V., TEV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uškorius S. Sprendimų priėmimo teorija. Kiekybiniai metodai: vadovėlis aukštosioms mokykloms. V., LTU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ordon G. Quantitative Decision Making for Business. N.Y.: Englewood Cliffs, 199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ban E. Fundamentals of Management Science,  5 edition. Boston,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782E-2FA6-48ED-B13A-1C484F93AC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1" lang="lt-LT" sz="3600" spc="-1" strike="noStrike">
                <a:solidFill>
                  <a:srgbClr val="000000"/>
                </a:solidFill>
                <a:latin typeface="Times New Roman"/>
              </a:rPr>
              <a:t>( nuorodos – kintamieji neneigiam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l Reference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: C2:I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A749-E427-437D-AC66-09D4A8C792B9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4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4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rend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Žymeklį ant J2 (tikslo funkcijos formulė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olver / Keep Solver Solution/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kaitome sprendin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=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-33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X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,36, x2 = 5, 09, x3 = 10,9, x4 = 0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x5 = 12, x6 = 4,36, x7 = 0.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3F0F-E33A-404F-BE56-8506CB8ED051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500" fill="hold"/>
                                        <p:tgtEl>
                                          <p:spTgt spid="4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500" fill="hold"/>
                                        <p:tgtEl>
                                          <p:spTgt spid="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. Puškorius. Sprendimų priėmimo teorija. Kiekybiniai metodai: Vadovėlis: – Vilnius: Lietuvos teisės universiteto Leidybos centras, 2001. p.p.11-3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437000"/>
            <a:ext cx="91440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. Puškorius. Matematiniai metodai vadyboje:   Vadovėlis: – Vilnius: TEV, 2001. p.p.25-5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A6F1-1447-4B6F-98B6-26CF0640294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ų pavyzdžia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myb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lizacijo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anspor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žpirkim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kirsty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 kiti uždavinia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F84-F599-422D-A96C-4C5020B1BDB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mybos uždaviny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lentelė. Gamybos paramet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8360" y="2174760"/>
          <a:ext cx="8218440" cy="4287960"/>
        </p:xfrm>
        <a:graphic>
          <a:graphicData uri="http://schemas.openxmlformats.org/drawingml/2006/table">
            <a:tbl>
              <a:tblPr/>
              <a:tblGrid>
                <a:gridCol w="2232000"/>
                <a:gridCol w="1878120"/>
                <a:gridCol w="2054160"/>
                <a:gridCol w="205416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štekl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amin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sargos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mi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lang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dury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diena, 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iklas, k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ikas, val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lnas, 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9B9D-C2D7-4956-B370-F3FA519772A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io formulavim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slas – maksimizuoti peln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ngų skaičius;            – dur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slo funkcija yra tok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ibinės sąlyg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edienos ište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iklo ište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rbo sąnaudos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610320" y="258444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0" name=""/>
          <p:cNvSpPr/>
          <p:nvPr/>
        </p:nvSpPr>
        <p:spPr>
          <a:xfrm>
            <a:off x="3543480" y="4024440"/>
            <a:ext cx="109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826920" y="198900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4211640" y="1989000"/>
                <a:ext cx="9097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1835280" y="2997360"/>
                <a:ext cx="568944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a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4284720" y="4148280"/>
                <a:ext cx="331164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3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4356000" y="4581360"/>
                <a:ext cx="3240360" cy="58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4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4500720" y="5157720"/>
                <a:ext cx="2808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≤</m:t>
                    </m:r>
                    <m:r>
                      <m:rPr>
                        <m:lit/>
                        <m:nor/>
                      </m:rPr>
                      <m:t xml:space="preserve">6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74E1-550D-415E-9374-A87207B7EB4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esinis programavima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kymo galimyb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Šis metodas gali būti taikom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) jei yra tik vienas kriteriju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) jei kriterijus priklauso nuo sprendimo elementų x1, x2, ... tik pirmame laipsnyje (todėl ir tiesinis programavimas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) jei ribinės sąlygos yra lygybės arba nelygybės, kurios irgi turi savo sudėtyje x1, x2, ... tik pirmame laipsnyj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) visi kintamieji yra neneigi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2720-4E68-4B60-88F3-877E49F777B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5T08:12:59Z</dcterms:created>
  <dc:creator>-</dc:creator>
  <dc:description/>
  <dc:language>en-US</dc:language>
  <cp:lastModifiedBy>user</cp:lastModifiedBy>
  <dcterms:modified xsi:type="dcterms:W3CDTF">2009-01-19T08:15:30Z</dcterms:modified>
  <cp:revision>19</cp:revision>
  <dc:subject/>
  <dc:title>Sprendimų priėmimo teorija (dieninės studijos 24+24+24) (neakivaizdinės studijos 4+4+4)</dc:title>
</cp:coreProperties>
</file>