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3CE6-547C-45A5-B69A-7F014F5D9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CAFA-5F00-45EB-831C-4389E621F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32EB-A425-47E4-92EF-A092D954B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1056-844A-4EB9-96FA-E2A691D0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B326-C8D8-4000-B009-B3A9DD50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01D1-7737-4798-87EB-F74A50A5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9D19-4A72-4D58-B099-98F62190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F3A8-EAEC-4C92-952B-30869369A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8A39-7C15-424A-BB98-91D2FD671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E976-68EC-47B3-9AA0-CC8A7A3F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DCBB-CEFB-4BC1-B908-56E3639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1F6B-D92E-4CA4-84CB-7AEFCE8D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D854-3CEE-4DF0-9D5E-FF9C2F43A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 tema. Tinklinis plan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28640"/>
            <a:ext cx="896472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iteratū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. Puškorius. Sprendimų priėmimo teorija. Kiekybiniai metodai: Vadovėlis: Vilnius: Lietuvos teisės universite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eidybos centras, 2001. p.p. 50-6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. Puškorius. Matematiniai metodai vadyboje: Vadovėlis: – Vilnius: TEV, 2001. p.p. 203-21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3A39-A4A1-4ED8-8E79-AB6BDE25F41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s plan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valum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228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iau panaudojami turimi materialiniai ištekliai ir žmonė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342900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tatomos sąveikos problem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422100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atomos silpnosios projekto vietos ir vadovo viet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5229360"/>
            <a:ext cx="923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aldymas tampa efektyvesn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EA9D-AF02-4332-B6D9-60123DCBDD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uojant darbų kompleksą, tenka spręsti šiuos uždaviniu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ip paskirstyti materialinius išteklius ir darbuotojus paprastiesiems darbams atlik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997360"/>
            <a:ext cx="85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da pradėti ir baigti kiekvieną darb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933720"/>
            <a:ext cx="898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kių gali kilti sunkumų, norint laiku užbaig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ekvieną paprastąjį darbą;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5445000"/>
            <a:ext cx="1220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r kaip tuos sunkumus pašali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06A4-2B84-46E7-88F1-9B8DC283FC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rindinės samprato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mentarus (paprasčiausias) darbas – tai procesas, reikalaujantis laiko, darbuotojų, materialinių vertybių ir t.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800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ktyvus darbas – tai loginė priklausomybė, kai negalima pradėti kokio nors darb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l nebaigti kokie nors jau pradėti darb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365720"/>
            <a:ext cx="89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Įvykis – tam tikros paprastųjų darbų grupės pabai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1055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nklinis grafikas – grafiškai pavaizduota įvykių ir darbų se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8975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itinis kelias – darbų seka grafik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urio trukmė yra didžiau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656F-43CC-49C7-AFEF-885B5D7BC4F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400" spc="-1" strike="noStrike">
                <a:solidFill>
                  <a:srgbClr val="000000"/>
                </a:solidFill>
                <a:latin typeface="Arial"/>
              </a:rPr>
              <a:t>Tinklinis planavi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grindinės sampr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524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2362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78136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lementarus darbas 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žymimas vientisa rod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388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Fiktyvus darbas –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žymimas punktyrine rodyk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48769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vykis – žymimas apskritim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715000"/>
            <a:ext cx="816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nklinis grafikas – įvykių ir darbų se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F6B6-8496-4181-A485-65460D8FEA3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Tinklinio planavimo etapa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Sudar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3623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Analiz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240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Optimizac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3886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Taik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E34D-E349-4A3C-B716-697EC46A81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Darbų sąraš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0" y="1600200"/>
          <a:ext cx="9143640" cy="5257440"/>
        </p:xfrm>
        <a:graphic>
          <a:graphicData uri="http://schemas.openxmlformats.org/drawingml/2006/table">
            <a:tbl>
              <a:tblPr/>
              <a:tblGrid>
                <a:gridCol w="2286000"/>
                <a:gridCol w="2285640"/>
                <a:gridCol w="2286360"/>
                <a:gridCol w="2285640"/>
              </a:tblGrid>
              <a:tr h="84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rastie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kmė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š tai atliekami 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ų indeks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ompiuteriu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7380360" y="2565360"/>
                <a:ext cx="576360" cy="4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,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380360" y="3141720"/>
                <a:ext cx="69696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,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2330280"/>
                <a:ext cx="83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95280" y="3002040"/>
                <a:ext cx="83844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219320" y="3673440"/>
                <a:ext cx="9144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189080" y="4282920"/>
                <a:ext cx="8380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219320" y="4960800"/>
                <a:ext cx="838080" cy="6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230480" y="5578560"/>
                <a:ext cx="7506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51000" y="6264360"/>
                <a:ext cx="73008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329080" y="4282920"/>
                <a:ext cx="70488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5391000" y="4890960"/>
                <a:ext cx="7048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398920" y="5608800"/>
                <a:ext cx="8337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5486400" y="6324480"/>
                <a:ext cx="838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7451640" y="3789360"/>
                <a:ext cx="5763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,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7205760" y="4335480"/>
                <a:ext cx="1141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,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7283520" y="5013360"/>
                <a:ext cx="987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,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7236000" y="5589720"/>
                <a:ext cx="114120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,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7236000" y="6203880"/>
                <a:ext cx="114120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,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3E5-6D5D-4471-B1A4-B6DB7A55F7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arbų sąraš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457200" y="1600200"/>
          <a:ext cx="8507520" cy="4492800"/>
        </p:xfrm>
        <a:graphic>
          <a:graphicData uri="http://schemas.openxmlformats.org/drawingml/2006/table">
            <a:tbl>
              <a:tblPr/>
              <a:tblGrid>
                <a:gridCol w="2127240"/>
                <a:gridCol w="2127240"/>
                <a:gridCol w="2125800"/>
                <a:gridCol w="2127240"/>
              </a:tblGrid>
              <a:tr h="70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rastie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kmė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š tai atliekami 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ų indeks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ompiuteriu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7451640" y="2421000"/>
                <a:ext cx="343080" cy="29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,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7451640" y="3357720"/>
                <a:ext cx="514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,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0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1116000" y="227664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143000" y="2759040"/>
                <a:ext cx="68580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4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1143000" y="3322800"/>
                <a:ext cx="914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219320" y="385596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43000" y="4329000"/>
                <a:ext cx="8380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1157400" y="4923000"/>
                <a:ext cx="838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1112760" y="5562720"/>
                <a:ext cx="914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4788000" y="2781360"/>
                <a:ext cx="730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6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5796000" y="2852640"/>
                <a:ext cx="73008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0" y="325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219640" y="2349360"/>
                <a:ext cx="7621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0" y="274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788000" y="3284640"/>
                <a:ext cx="79524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5867280" y="3284640"/>
                <a:ext cx="5302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4846680" y="3870360"/>
                <a:ext cx="54756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5796000" y="3933720"/>
                <a:ext cx="609480" cy="42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8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4836960" y="4419720"/>
                <a:ext cx="58896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835600" y="4329000"/>
                <a:ext cx="609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4843440" y="4923000"/>
                <a:ext cx="4302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5867280" y="5014800"/>
                <a:ext cx="53352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" name=""/>
              <p:cNvSpPr txBox="1"/>
              <p:nvPr/>
            </p:nvSpPr>
            <p:spPr>
              <a:xfrm>
                <a:off x="4780080" y="5502240"/>
                <a:ext cx="645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8" name="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796000" y="5516640"/>
                <a:ext cx="685800" cy="51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451640" y="4365720"/>
                <a:ext cx="647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,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7380360" y="2852640"/>
                <a:ext cx="7747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,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7380360" y="3860640"/>
                <a:ext cx="774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,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7319880" y="4869000"/>
                <a:ext cx="89712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391520" y="5516640"/>
                <a:ext cx="896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9DDF-C168-435A-8E33-BB1E38CEC02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Darbų sąraš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457200" y="1600200"/>
          <a:ext cx="8686440" cy="3052440"/>
        </p:xfrm>
        <a:graphic>
          <a:graphicData uri="http://schemas.openxmlformats.org/drawingml/2006/table">
            <a:tbl>
              <a:tblPr/>
              <a:tblGrid>
                <a:gridCol w="2214360"/>
                <a:gridCol w="1958760"/>
                <a:gridCol w="2129040"/>
                <a:gridCol w="2384280"/>
              </a:tblGrid>
              <a:tr h="11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prastiej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ukmė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eno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eš tai atliekami arbai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ų indeksa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ompiuteriui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187280" y="2997360"/>
                <a:ext cx="8636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932360" y="3141720"/>
                <a:ext cx="13082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7020000" y="3068640"/>
                <a:ext cx="159840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AC5E-9841-4EF2-B0C1-BD05AC91B73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grafiko fragmenta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28640"/>
            <a:ext cx="87692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gm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22600" y="2487600"/>
            <a:ext cx="54756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280040" y="2487600"/>
            <a:ext cx="549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908440" y="4070520"/>
            <a:ext cx="5490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68360" y="2637000"/>
            <a:ext cx="2011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14640" y="2909880"/>
            <a:ext cx="8748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3324240" y="2890800"/>
            <a:ext cx="1047600" cy="117144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24360" y="342900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ktyvus dar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30160" y="1989000"/>
            <a:ext cx="13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b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078160" y="24922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Įvyk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80000" y="3429000"/>
            <a:ext cx="30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rbo trukmė –    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FAF1-F9DC-4545-8BDF-945418A2B56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grafiko sudar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nk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1979640" y="2852640"/>
                <a:ext cx="3556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5" name=""/>
          <p:cNvSpPr/>
          <p:nvPr/>
        </p:nvSpPr>
        <p:spPr>
          <a:xfrm>
            <a:off x="5114880" y="440856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365800" y="3332160"/>
            <a:ext cx="595440" cy="1047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81360" y="272268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38560" y="2973240"/>
            <a:ext cx="828720" cy="14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668600" y="3602160"/>
            <a:ext cx="457200" cy="366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71920" y="3557520"/>
            <a:ext cx="457200" cy="366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600280" y="2577960"/>
            <a:ext cx="457200" cy="3668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81200" y="471960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050920" y="2886120"/>
            <a:ext cx="639720" cy="75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981080" y="4008600"/>
            <a:ext cx="630360" cy="73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003480" y="4684680"/>
            <a:ext cx="2149560" cy="246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2975040" y="3067200"/>
            <a:ext cx="1730160" cy="171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33800" y="3814920"/>
            <a:ext cx="1974600" cy="70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30480" y="2886120"/>
            <a:ext cx="2840040" cy="11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51000" y="2792520"/>
            <a:ext cx="1490760" cy="9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2144880" y="3778200"/>
            <a:ext cx="515880" cy="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5546880" y="4218120"/>
            <a:ext cx="404640" cy="25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529240" y="4678200"/>
            <a:ext cx="59544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830920" y="297972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215040" y="3322800"/>
            <a:ext cx="539640" cy="552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850000" y="3851280"/>
            <a:ext cx="457200" cy="365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97680" y="4573440"/>
            <a:ext cx="457200" cy="365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6451560" y="4284720"/>
            <a:ext cx="252360" cy="333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334200" y="4070520"/>
            <a:ext cx="209520" cy="2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562800" y="3881520"/>
            <a:ext cx="457200" cy="366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719840" y="258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2279520" y="3308400"/>
                <a:ext cx="4460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340000" y="4076640"/>
                <a:ext cx="385560" cy="4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708360" y="2374920"/>
                <a:ext cx="41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4780080" y="3268800"/>
                <a:ext cx="3855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987640" y="4005360"/>
                <a:ext cx="38592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6" name=""/>
              <p:cNvSpPr txBox="1"/>
              <p:nvPr/>
            </p:nvSpPr>
            <p:spPr>
              <a:xfrm>
                <a:off x="4255920" y="3846600"/>
                <a:ext cx="4143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3693960" y="4351320"/>
                <a:ext cx="384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"/>
              <p:cNvSpPr txBox="1"/>
              <p:nvPr/>
            </p:nvSpPr>
            <p:spPr>
              <a:xfrm>
                <a:off x="5278320" y="2622600"/>
                <a:ext cx="3859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9" name=""/>
              <p:cNvSpPr txBox="1"/>
              <p:nvPr/>
            </p:nvSpPr>
            <p:spPr>
              <a:xfrm>
                <a:off x="5240160" y="3286080"/>
                <a:ext cx="474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5327640" y="3867120"/>
                <a:ext cx="473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5680080" y="4259160"/>
                <a:ext cx="4744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6458040" y="3198960"/>
                <a:ext cx="474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6199200" y="3522600"/>
                <a:ext cx="473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6137280" y="4044960"/>
                <a:ext cx="473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BA2-30A9-4EB0-8A6F-AF21347C7A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eiklos planavimas ir kontrol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049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Valdymo cikl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prendimo parengimas ir priėm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lan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Organiz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Kontro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Derinimas, koordinavimas, vadov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Motyvav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72FD-4FBB-40DE-A968-91C47A3D0B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grafiko analiz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parametr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kstyvoji įvykių paba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ėlyvoji įvykių pabai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Įvykių rezerv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rbų rezerv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itinis ke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itiniai darb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2898-8578-490C-8A7F-5A161C54EC7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lano parametr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lizės rezulta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62200" y="234792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1854000" y="244008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54360" y="244008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83160" y="2347920"/>
            <a:ext cx="73152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94480" y="234792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03360" y="3652920"/>
            <a:ext cx="730440" cy="641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494080" y="2622600"/>
            <a:ext cx="11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414680" y="2622600"/>
            <a:ext cx="1279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46160" y="38685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946160" y="3960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416480" y="5253120"/>
            <a:ext cx="1298520" cy="5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043080" y="4168800"/>
            <a:ext cx="785880" cy="76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987640" y="4226040"/>
            <a:ext cx="752400" cy="73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786280" y="3894120"/>
            <a:ext cx="822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1671480" y="3014280"/>
            <a:ext cx="325440" cy="66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313320" y="2911320"/>
            <a:ext cx="549360" cy="808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4140360" y="2908080"/>
            <a:ext cx="1609560" cy="199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313160" y="4265280"/>
            <a:ext cx="843120" cy="824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2536920" y="2957400"/>
            <a:ext cx="1403280" cy="20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679840" y="5253120"/>
            <a:ext cx="100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6480" y="5303880"/>
            <a:ext cx="1279440" cy="6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765440" y="4235400"/>
            <a:ext cx="457200" cy="73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492280" y="2830680"/>
            <a:ext cx="2590920" cy="1000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350040" y="4390920"/>
            <a:ext cx="490320" cy="63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251400" y="4381560"/>
            <a:ext cx="468360" cy="61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32360" y="2454120"/>
            <a:ext cx="487440" cy="454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5740560" y="2463840"/>
            <a:ext cx="59184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760920" y="2425680"/>
            <a:ext cx="534960" cy="463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68840" y="2427120"/>
            <a:ext cx="522000" cy="446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482560" y="3747960"/>
            <a:ext cx="53316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462040" y="3822840"/>
            <a:ext cx="59220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235160" y="362592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1333440" y="372600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33440" y="372600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81360" y="496404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3771720" y="505476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772080" y="505476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38760" y="496404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829120" y="505476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829480" y="505476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004840" y="5091120"/>
            <a:ext cx="731880" cy="641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095560" y="518328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095560" y="518328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576840" y="3763800"/>
            <a:ext cx="731880" cy="640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flipH="1">
            <a:off x="6667560" y="385452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667560" y="3854520"/>
            <a:ext cx="5493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052960" y="3635280"/>
            <a:ext cx="731880" cy="639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5143320" y="372600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43680" y="3726000"/>
            <a:ext cx="5490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74920" y="3664080"/>
            <a:ext cx="228600" cy="17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48040" y="2378160"/>
            <a:ext cx="228600" cy="19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22560" y="2368440"/>
            <a:ext cx="228600" cy="2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40040" y="2522520"/>
            <a:ext cx="571680" cy="3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12880" y="3763800"/>
            <a:ext cx="228600" cy="20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255760" y="5119560"/>
            <a:ext cx="228600" cy="17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922560" y="4992840"/>
            <a:ext cx="22860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940360" y="2378160"/>
            <a:ext cx="2286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305320" y="3664080"/>
            <a:ext cx="2286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967360" y="4992840"/>
            <a:ext cx="22860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769080" y="3801960"/>
            <a:ext cx="380880" cy="19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282680" y="384984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035080" y="5291280"/>
            <a:ext cx="285840" cy="22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928880" y="3278160"/>
            <a:ext cx="4572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227320" y="5514840"/>
            <a:ext cx="24588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530360" y="471024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95560" y="267804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614680" y="316404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919240" y="471960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05040" y="363528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071880" y="544824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672080" y="267804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43680" y="327816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967360" y="400680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510160" y="3278160"/>
            <a:ext cx="457200" cy="37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900680" y="460548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900680" y="5448240"/>
            <a:ext cx="5331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729480" y="4849920"/>
            <a:ext cx="3808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166760" y="30337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0640" y="220680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166760" y="313200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48040" y="220680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978360" y="3102120"/>
            <a:ext cx="1839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24360" y="303516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852560" y="352116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166760" y="310356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004840" y="447840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166760" y="311796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376440" y="423540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843280" y="3392640"/>
            <a:ext cx="18396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166760" y="309096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052960" y="436392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815080" y="363528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16520" y="4363920"/>
            <a:ext cx="1807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748040" y="484992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843280" y="4964040"/>
            <a:ext cx="18396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576840" y="3035160"/>
            <a:ext cx="18432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855880" y="3925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166760" y="3203640"/>
            <a:ext cx="184320" cy="36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462040" y="40068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2637000" y="41403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01720" y="39196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94000" y="40356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387520" y="5319720"/>
            <a:ext cx="303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852560" y="25495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157480" y="2521080"/>
            <a:ext cx="303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732120" y="2540160"/>
            <a:ext cx="330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48200" y="2602080"/>
            <a:ext cx="322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79720" y="2773440"/>
            <a:ext cx="2923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720960" y="5205240"/>
            <a:ext cx="341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033800" y="5205240"/>
            <a:ext cx="336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41640" y="539100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38760" y="2549520"/>
            <a:ext cx="297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76800" y="2558880"/>
            <a:ext cx="3034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967360" y="2792520"/>
            <a:ext cx="2286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084640" y="3849840"/>
            <a:ext cx="309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0720" y="3859200"/>
            <a:ext cx="341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303880" y="404496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997600" y="537372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738760" y="5205240"/>
            <a:ext cx="3650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84720" y="5197320"/>
            <a:ext cx="3319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835680" y="4160880"/>
            <a:ext cx="2286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616800" y="3989520"/>
            <a:ext cx="315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51600" y="4008600"/>
            <a:ext cx="312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A43F-9A69-42CE-AE4C-D7E6967A2CB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plano optimizacij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893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naudojant turimus rezerv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tatoma, kokiais rezervais galima pasinaudot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grinėjami kritiniai darba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kuojamos naujos darbų trukmė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skaičiuojami nauji plano paramet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prendžiama, ar jie tenkina vadov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   Pasitelkiant papildomus išteklius nustato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kiems darbams jie reikaling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kie konkretūs ištekliai reikaling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da jie reikaling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skaičiuojami nauji plano paramet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prendžiama, ar jie tenkina vadov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E185-6C91-42AE-9381-6AB0D9910F5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91440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alendorinis pla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6" name=""/>
              <p:cNvSpPr txBox="1"/>
              <p:nvPr/>
            </p:nvSpPr>
            <p:spPr>
              <a:xfrm>
                <a:off x="363600" y="2021040"/>
                <a:ext cx="3715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87" name=""/>
          <p:cNvSpPr/>
          <p:nvPr/>
        </p:nvSpPr>
        <p:spPr>
          <a:xfrm>
            <a:off x="250920" y="6093000"/>
            <a:ext cx="8642160" cy="7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V="1">
            <a:off x="237960" y="11541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1114560" y="1472760"/>
            <a:ext cx="28440" cy="462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2058840" y="14605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3030480" y="14749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4030560" y="14605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4987800" y="14749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6002280" y="151776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031160" y="1503360"/>
            <a:ext cx="2844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040" y="6180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0216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875240" y="623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832840" y="626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5344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833000" y="625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847480" y="6296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8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885800" y="5661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, di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228600" y="2080800"/>
            <a:ext cx="800280" cy="4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71440" y="2590920"/>
            <a:ext cx="5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54400" y="2649600"/>
            <a:ext cx="463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413440" y="2637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29080" y="20462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864560" y="301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772360" y="12049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236520" y="2534760"/>
            <a:ext cx="89208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900000" y="3068640"/>
            <a:ext cx="1114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V="1">
            <a:off x="1128600" y="4235400"/>
            <a:ext cx="1513080" cy="7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900000" y="3700440"/>
            <a:ext cx="1290600" cy="9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000080" y="4772160"/>
            <a:ext cx="190044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14560" y="5315040"/>
            <a:ext cx="175716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57040" y="1654200"/>
            <a:ext cx="614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1197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11970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12800" y="121140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98640" y="1111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71560" y="1654200"/>
            <a:ext cx="21002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0" y="1125360"/>
            <a:ext cx="503280" cy="36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5" name=""/>
              <p:cNvSpPr txBox="1"/>
              <p:nvPr/>
            </p:nvSpPr>
            <p:spPr>
              <a:xfrm>
                <a:off x="341280" y="1638360"/>
                <a:ext cx="405000" cy="36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6" name=""/>
              <p:cNvSpPr txBox="1"/>
              <p:nvPr/>
            </p:nvSpPr>
            <p:spPr>
              <a:xfrm>
                <a:off x="324000" y="2492280"/>
                <a:ext cx="3873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27" name=""/>
          <p:cNvSpPr/>
          <p:nvPr/>
        </p:nvSpPr>
        <p:spPr>
          <a:xfrm>
            <a:off x="1128600" y="2529000"/>
            <a:ext cx="285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26920" y="170028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86320" y="1687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130400" y="2146320"/>
            <a:ext cx="463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189440" y="2133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547640" y="3141720"/>
            <a:ext cx="66060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00120" y="309708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971720" y="3071880"/>
            <a:ext cx="217152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868560" y="3127320"/>
            <a:ext cx="50328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411280" y="314172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19640" y="378936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1173240" y="3079800"/>
                <a:ext cx="415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39" name=""/>
          <p:cNvSpPr/>
          <p:nvPr/>
        </p:nvSpPr>
        <p:spPr>
          <a:xfrm>
            <a:off x="2157480" y="3714840"/>
            <a:ext cx="33433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1280" y="378936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208480" y="3279600"/>
            <a:ext cx="5032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292720" y="3284640"/>
            <a:ext cx="36036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1417680" y="3705120"/>
                <a:ext cx="38556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1389240" y="3295800"/>
                <a:ext cx="41580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2340000" y="4292640"/>
            <a:ext cx="503280" cy="36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85880" y="4243320"/>
            <a:ext cx="155736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13120" y="4300560"/>
            <a:ext cx="50328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1519200" y="4249800"/>
                <a:ext cx="3859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3838680" y="3797280"/>
            <a:ext cx="463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16440" y="382284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606680" y="4822920"/>
                <a:ext cx="4143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7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2" name=""/>
          <p:cNvSpPr/>
          <p:nvPr/>
        </p:nvSpPr>
        <p:spPr>
          <a:xfrm>
            <a:off x="861840" y="47721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766960" y="435456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844720" y="4379760"/>
            <a:ext cx="31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508040" y="5353200"/>
                <a:ext cx="38412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2556000" y="537372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1FD2-930B-42D9-AD3E-E86F40DCFD9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lendorinis pl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0920" y="6093000"/>
            <a:ext cx="8642160" cy="72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37960" y="11541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1114560" y="1472760"/>
            <a:ext cx="28440" cy="462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058840" y="14605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3030480" y="14749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4030560" y="146052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5003640" y="148428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6002280" y="1517760"/>
            <a:ext cx="2880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7031160" y="1503360"/>
            <a:ext cx="28440" cy="462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9040" y="6180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0216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875240" y="62388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832840" y="626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853440" y="6237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833000" y="6253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847480" y="6296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879240" y="63086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885800" y="5661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, die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700360" y="2421000"/>
            <a:ext cx="5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805440" y="378936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815160" y="377496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853440" y="17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486520" y="17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221800" y="1700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4356000" y="1700280"/>
                <a:ext cx="5097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9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6197760" y="4780080"/>
                <a:ext cx="47772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6156360" y="5373720"/>
                <a:ext cx="47448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3419640" y="3500280"/>
                <a:ext cx="47448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7" name=""/>
              <p:cNvSpPr txBox="1"/>
              <p:nvPr/>
            </p:nvSpPr>
            <p:spPr>
              <a:xfrm>
                <a:off x="3635280" y="2924280"/>
                <a:ext cx="474840" cy="39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88" name=""/>
          <p:cNvSpPr/>
          <p:nvPr/>
        </p:nvSpPr>
        <p:spPr>
          <a:xfrm>
            <a:off x="4402080" y="42372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9" name=""/>
              <p:cNvSpPr txBox="1"/>
              <p:nvPr/>
            </p:nvSpPr>
            <p:spPr>
              <a:xfrm>
                <a:off x="6012000" y="4221000"/>
                <a:ext cx="50472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0" name=""/>
          <p:cNvSpPr/>
          <p:nvPr/>
        </p:nvSpPr>
        <p:spPr>
          <a:xfrm>
            <a:off x="4916520" y="2997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384880" y="2987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2637000" y="1630440"/>
            <a:ext cx="1508040" cy="1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4114800" y="1646280"/>
            <a:ext cx="1341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262480" y="1182600"/>
            <a:ext cx="3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219640" y="119700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843280" y="2349360"/>
            <a:ext cx="172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56160" y="2332080"/>
            <a:ext cx="8697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6400" y="3514680"/>
            <a:ext cx="60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221800" y="242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3672000" y="2335320"/>
                <a:ext cx="447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4358160" y="23860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71720" y="2943360"/>
            <a:ext cx="240048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5300640" y="2943000"/>
            <a:ext cx="257040" cy="14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148360" y="1989000"/>
            <a:ext cx="46332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221440" y="19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580000" y="249228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857680" y="3471840"/>
            <a:ext cx="2043000" cy="14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572000" y="3068640"/>
            <a:ext cx="463680" cy="36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543560" y="4186080"/>
            <a:ext cx="871560" cy="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443560" y="4200480"/>
            <a:ext cx="1600200" cy="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221800" y="4221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292720" y="4724280"/>
            <a:ext cx="308160" cy="5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572080" y="4729320"/>
            <a:ext cx="1443240" cy="14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0788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915080" y="5357880"/>
            <a:ext cx="2104920" cy="15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643280" y="53737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1D4A-E988-4EF6-855B-E0A9B10B03A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inklinio grafiko analizė Excel aplinkoj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ompiuteris naudojamas sudarius tinklinį grafik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liami tokie analizės tikslai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tatyti viso nagrinėjamo komplekso darbų trukm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entifikuoti komplekso darbų svarbiausius darbus, vadinamuosius kritinius darb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skaičiuoti atskirų komplekso darbų įvykių (etapų) rezerv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sti kiekvieno paprastojo darbo rezerv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sieti visų darbų planą su konkrečiomis kalendorinėmis datom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statyti, kokius paprastuosius darbus ir kiek reikia trumpinti, norint pasiekti optimalaus visų darbų atlikimo grafik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7B8-C4C4-4D2A-8CC3-8E6E4B003EA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rmojo etapo 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skirstyti visą numatomų atlikti darbų kompleksą į paprasčiausius darbus. Tai darbai, kuriuos dėl tam tikrų priežasčių neverta toliau smulkin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statyti kiekvieno paprasčiausio darbo trukmę. Tai preliminarūs vertinimai, kurie, sudarius kompiuterinį modelį, gali būti kaitaliojami daugybę kart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statyti ryšį tarp visų paprastųjų darbų, t.y. kokie paprastieji darbai turi būti atlikti, kad būtų galima pradėti konkretų darb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9EF9-A9A5-436E-B2CF-7F8AB373D32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trojo etapo tur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daromas tinklinio grafiko analizės model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Šio modelio algoritmas susideda iš 6 dalių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uomenų pareng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kstyvųjų įvykių pabaigų apskaičiavim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ėlyvųjų įvykių pabaigų apskaičiavi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Įvykių rezervų nustat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bų rezervų nustaty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ritinių darbų ir kritinio kelio identifikavim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4712-5C71-45C7-AFB1-21958162F9A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5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5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5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5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Duomenų pareng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Įjungiame Excel programą ir pasirenkame duomenų išdėstymo tvark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iekvienam paprastajam darbui skirta viena eilutė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kslinga pakeisti paprastųjų darbų indeksus (žr. darbų sąrašą)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varbu priskiriant tokius simbolius, vadovautis taisykle: pirmasis simbolis parodo, iš kokio įvykio išeina šis darbas, antrasis – į kokį įvykį jis ate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lpelyje B surašome darbų indeks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lpelyje C surašome darbų truk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lpelyje A surašome darbų, kurie turi būti atlikti anksčiau, simboli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89E7-F9CA-488B-9DE4-6FD616E8D10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omos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Ankstyvoji įvykio paba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1476360" y="3068640"/>
                <a:ext cx="4038480" cy="22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t xml:space="preserve">;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B002-9134-4B67-8626-0A6DDD0F2B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lanavimo esm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kslas – surasti geriausi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iem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Ir bū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inktam sprendimui įgyvendi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5280" y="429264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lanas – tai strate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7D10-0D6E-4C27-AB3F-340CE11C0D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omos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Vėlyvoji įvykių paba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0" name=""/>
              <p:cNvSpPr txBox="1"/>
              <p:nvPr/>
            </p:nvSpPr>
            <p:spPr>
              <a:xfrm>
                <a:off x="1619280" y="2516040"/>
                <a:ext cx="338436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i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;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</m:sub>
                            </m:sSub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8F6F-B02F-4928-BB37-E7A8243FB75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omos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Įvykių rezerv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rbų rezerv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2484360" y="2205000"/>
                <a:ext cx="2158920" cy="118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</m:sSub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2124000" y="4437000"/>
                <a:ext cx="328140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31E6-9F04-4D29-BA13-DC9F2648EED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lanavimo etapa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roblemos esmės, tikslo formulavimas ir kriterijų pasirin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438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   Priežasčių diagnost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   Problemos struktūr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   Galimybių analizė ir alternatyvų paieš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4267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   Iškylančių problemų geriausių sprendimų atra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4876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6.    Dalinių sprendimų suderinimas ir priėm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440B-06D2-4D20-8B52-927FA831EA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lane numatoma: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ą, kiek, kur reikia atli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349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Kas turi atli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068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Kada reikia atlik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386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Kokių resursų, kiek ir kada reik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472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Koks turi būti rezulta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6922-BCAB-483F-9B7B-7678A009477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Organizavimo esmė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aldymo struktūrų sukū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057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Technologinių procesų parink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5909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Procesų suskirstymas į operacij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3048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 Resursų paskirs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3657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5. Darbo vietų nustatymas ir jų pareng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191120"/>
            <a:ext cx="81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6. Užduočių vykdytojams konkretiz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4724280"/>
            <a:ext cx="862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7. Atsakomybės ir atskaitomybės paskirs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5F6D-2297-4183-AADB-8ECD88E7AF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Vadovavimo esmė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darbų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819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einamųjų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sprendimų,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esurs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4343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kirstymo koregav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4113-80C6-4ABA-91F0-7790290FC2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Planų formo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752480" indent="0" algn="ctr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ekstin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004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nto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rafik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495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inklinis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pla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135D-E8D4-4CFE-9060-9EB1CA7573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600" spc="-1" strike="noStrike">
                <a:solidFill>
                  <a:srgbClr val="000000"/>
                </a:solidFill>
                <a:latin typeface="Arial"/>
              </a:rPr>
              <a:t>Ganto grafikas</a:t>
            </a:r>
            <a:r>
              <a:rPr b="0" lang="lt-LT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1371600"/>
                <a:gridCol w="1066680"/>
                <a:gridCol w="1089000"/>
                <a:gridCol w="1175040"/>
                <a:gridCol w="1176120"/>
                <a:gridCol w="1174680"/>
                <a:gridCol w="1176480"/>
              </a:tblGrid>
              <a:tr h="905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rbai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ikas, die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____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85800" y="3505320"/>
                <a:ext cx="9907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685800" y="4419720"/>
                <a:ext cx="91440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85800" y="5257800"/>
                <a:ext cx="9349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FEE8-DE40-473D-A5CD-40F0606A11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3T10:01:54Z</dcterms:created>
  <dc:creator>-</dc:creator>
  <dc:description/>
  <dc:language>en-US</dc:language>
  <cp:lastModifiedBy>user</cp:lastModifiedBy>
  <dcterms:modified xsi:type="dcterms:W3CDTF">2008-01-29T06:31:24Z</dcterms:modified>
  <cp:revision>51</cp:revision>
  <dc:subject/>
  <dc:title>3 tema. Tinklinis plamavimas</dc:title>
</cp:coreProperties>
</file>