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C1C-8A53-45AB-BB83-40597DF2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7E1-46A9-4CA3-A28D-548E1A0F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600-5146-4D1F-90C2-B83B4483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7E8-1720-4D62-9C5F-E4862476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A2B-96BD-44A8-B9B2-AC6B65C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765-CE24-4D1C-8779-DD9BCAC5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703-2EFF-4971-A3BD-5BAFC6EE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F75-AF88-4102-BF11-EC151007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B03-896B-4F42-9E9D-57D639B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24A-05BA-4D28-9380-75698102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EAB-07B2-4A26-9575-6455989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B0F-6702-4B93-B70B-2211DB9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3425-A27D-45B2-95F0-089907F7E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tema. Tinklinis plan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iteratū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. Puškorius. Sprendimų priėmimo teorija. Kiekybiniai metodai: Vadovėlis: Vilnius: Lietuvos teisės universite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eidybos centras, 2001. p.p. 50-6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. Puškorius. Matematiniai metodai vadyboje: Vadovėlis: – Vilnius: TEV, 2001. p.p. 203-2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1D0-4EBA-4B45-8534-73AE9A7FF9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s plan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luma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228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iau panaudojami turimi materialiniai ištekliai ir žmonė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2900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tatomos sąveikos problem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22100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atomos silpnosios projekto vietos ir vadovo vie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22936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dymas tampa efektyvesn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2A8-20A7-4C17-A207-5C391F1612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uojant darbų kompleksą, tenka spręsti šiuos uždaviniu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ip paskirstyti materialinius išteklius ir darbuotojus paprastiesiems darbams atli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97360"/>
            <a:ext cx="85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da pradėti ir baigti kiekvieną darb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933720"/>
            <a:ext cx="89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kių gali kilti sunkumų, norint laiku užbaig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ekvieną paprastąjį darbą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45000"/>
            <a:ext cx="122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 kaip tuos sunkumus pašali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9FE-1FE9-4D22-859B-8D73A49390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rindinės samprato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arus (paprasčiausias) darbas – tai procesas, reikalaujantis laiko, darbuotojų, materialinių vertybių ir t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800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ktyvus darbas – tai loginė priklausomybė, kai negalima pradėti kokio nors darb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l nebaigti kokie nors jau pradėti darb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36572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Įvykis – tam tikros paprastųjų darbų grupės pabai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nklinis grafikas – grafiškai pavaizduota įvykių ir darbų se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897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inis kelias – darbų seka grafik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rio trukmė yra didžiau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1D2-247C-480C-8CD1-F5E7CC0DBF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Tinklinis planav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grindinės sampr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7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us darbas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žymimas vientisa rod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86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iktyvus darbas –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žymimas punktyrine rod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7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vykis – žymimas apskriti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71500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nklinis grafikas – įvykių ir darbų se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866-D95F-4B7B-88A2-6A89612329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Tinklinio planavimo etapa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Sudar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362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2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Optim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86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Taik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6C3-3F87-4D60-95D3-659F439F03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Darbų sąraš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1600200"/>
          <a:ext cx="9143640" cy="5257440"/>
        </p:xfrm>
        <a:graphic>
          <a:graphicData uri="http://schemas.openxmlformats.org/drawingml/2006/table">
            <a:tbl>
              <a:tblPr/>
              <a:tblGrid>
                <a:gridCol w="2286000"/>
                <a:gridCol w="2285640"/>
                <a:gridCol w="2286360"/>
                <a:gridCol w="2285640"/>
              </a:tblGrid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rastie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kmė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š tai atliekami d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ų indeks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ompiuteriu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380360" y="2565360"/>
                <a:ext cx="576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3141720"/>
                <a:ext cx="696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,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2330280"/>
                <a:ext cx="838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95280" y="3002040"/>
                <a:ext cx="83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219320" y="367344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189080" y="4282920"/>
                <a:ext cx="838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19320" y="4960800"/>
                <a:ext cx="8380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30480" y="5578560"/>
                <a:ext cx="75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51000" y="6264360"/>
                <a:ext cx="730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29080" y="4282920"/>
                <a:ext cx="704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91000" y="4890960"/>
                <a:ext cx="704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398920" y="5608800"/>
                <a:ext cx="83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486400" y="63244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451640" y="3789360"/>
                <a:ext cx="576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,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205760" y="4335480"/>
                <a:ext cx="1141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,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283520" y="5013360"/>
                <a:ext cx="987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,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236000" y="5589720"/>
                <a:ext cx="1141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,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236000" y="6203880"/>
                <a:ext cx="1141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,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F39-041F-4267-BA6C-626FFA20BF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arbų sąraš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507520" cy="4492800"/>
        </p:xfrm>
        <a:graphic>
          <a:graphicData uri="http://schemas.openxmlformats.org/drawingml/2006/table">
            <a:tbl>
              <a:tblPr/>
              <a:tblGrid>
                <a:gridCol w="2127240"/>
                <a:gridCol w="2127240"/>
                <a:gridCol w="2125800"/>
                <a:gridCol w="212724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rastie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kmė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š tai atliekami d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ų indeks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ompiuteriu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451640" y="2421000"/>
                <a:ext cx="3430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,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451640" y="3357720"/>
                <a:ext cx="514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,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116000" y="2276640"/>
                <a:ext cx="838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143000" y="275904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43000" y="332280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19320" y="3855960"/>
                <a:ext cx="838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43000" y="4329000"/>
                <a:ext cx="838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57400" y="4923000"/>
                <a:ext cx="838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12760" y="5562720"/>
                <a:ext cx="914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788000" y="2781360"/>
                <a:ext cx="73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796000" y="2852640"/>
                <a:ext cx="730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219640" y="2349360"/>
                <a:ext cx="76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788000" y="3284640"/>
                <a:ext cx="79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67280" y="3284640"/>
                <a:ext cx="530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846680" y="3870360"/>
                <a:ext cx="547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796000" y="3933720"/>
                <a:ext cx="609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36960" y="4419720"/>
                <a:ext cx="5889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835600" y="4329000"/>
                <a:ext cx="609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843440" y="49230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67280" y="5014800"/>
                <a:ext cx="533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780080" y="5502240"/>
                <a:ext cx="645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796000" y="5516640"/>
                <a:ext cx="6858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451640" y="4365720"/>
                <a:ext cx="647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,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380360" y="2852640"/>
                <a:ext cx="774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,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80360" y="3860640"/>
                <a:ext cx="774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,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319880" y="4869000"/>
                <a:ext cx="89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391520" y="5516640"/>
                <a:ext cx="896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DD0-2FB5-4283-BC5D-3677CB3874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Darbų sąraš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600200"/>
          <a:ext cx="8686440" cy="3052440"/>
        </p:xfrm>
        <a:graphic>
          <a:graphicData uri="http://schemas.openxmlformats.org/drawingml/2006/table">
            <a:tbl>
              <a:tblPr/>
              <a:tblGrid>
                <a:gridCol w="2214360"/>
                <a:gridCol w="1958760"/>
                <a:gridCol w="2129040"/>
                <a:gridCol w="2384280"/>
              </a:tblGrid>
              <a:tr h="11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rastie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kmė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š tai atliekami 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ų indeks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ompiuteriu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87280" y="2997360"/>
                <a:ext cx="863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932360" y="3141720"/>
                <a:ext cx="1308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20000" y="3068640"/>
                <a:ext cx="1598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71B-38D5-4A06-9E15-B937E240D3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o grafiko fragment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7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22600" y="2487600"/>
            <a:ext cx="5475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0040" y="2487600"/>
            <a:ext cx="549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08440" y="4070520"/>
            <a:ext cx="549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68360" y="2637000"/>
            <a:ext cx="201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14640" y="2909880"/>
            <a:ext cx="8748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324240" y="2890800"/>
            <a:ext cx="1047600" cy="1171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3429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ktyvus dar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0160" y="19890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78160" y="24922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Įvy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000" y="34290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bo trukmė –  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083-3C60-42AA-B841-4C8A420AE4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o grafiko sudar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n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979640" y="2852640"/>
                <a:ext cx="355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114880" y="440856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365800" y="3332160"/>
            <a:ext cx="595440" cy="10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81360" y="272268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38560" y="2973240"/>
            <a:ext cx="828720" cy="14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68600" y="3602160"/>
            <a:ext cx="457200" cy="366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71920" y="3557520"/>
            <a:ext cx="457200" cy="366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00280" y="2577960"/>
            <a:ext cx="457200" cy="366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1200" y="471960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050920" y="2886120"/>
            <a:ext cx="639720" cy="75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4008600"/>
            <a:ext cx="630360" cy="7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003480" y="4684680"/>
            <a:ext cx="2149560" cy="2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5040" y="3067200"/>
            <a:ext cx="1730160" cy="17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3800" y="3814920"/>
            <a:ext cx="1974600" cy="70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30480" y="2886120"/>
            <a:ext cx="2840040" cy="11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1000" y="2792520"/>
            <a:ext cx="1490760" cy="9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144880" y="3778200"/>
            <a:ext cx="515880" cy="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546880" y="4218120"/>
            <a:ext cx="4046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29240" y="4678200"/>
            <a:ext cx="59544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30920" y="297972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15040" y="3322800"/>
            <a:ext cx="53964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50000" y="385128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7680" y="457344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451560" y="4284720"/>
            <a:ext cx="25236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34200" y="4070520"/>
            <a:ext cx="20952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62800" y="3881520"/>
            <a:ext cx="457200" cy="366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1984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279520" y="3308400"/>
                <a:ext cx="4460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340000" y="4076640"/>
                <a:ext cx="385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708360" y="2374920"/>
                <a:ext cx="41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780080" y="3268800"/>
                <a:ext cx="385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987640" y="4005360"/>
                <a:ext cx="385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255920" y="3846600"/>
                <a:ext cx="414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693960" y="4351320"/>
                <a:ext cx="384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278320" y="2622600"/>
                <a:ext cx="385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40160" y="3286080"/>
                <a:ext cx="474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327640" y="3867120"/>
                <a:ext cx="473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680080" y="4259160"/>
                <a:ext cx="474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458040" y="3198960"/>
                <a:ext cx="474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99200" y="3522600"/>
                <a:ext cx="473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137280" y="4044960"/>
                <a:ext cx="473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8D1-DEC5-4403-B979-102A545731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Veiklos planavimas ir kontrol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aldymo cik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prendimo parengimas ir priėm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lan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Organiz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ontro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erinimas, koordinavimas, vadov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otyv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67F-97C7-4642-84B7-5C87FBBB7B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o grafiko analiz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parametr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kstyvoji įvykių paba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ėlyvoji įvykių paba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Įvykių rezerv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bų rezerv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itinis ke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itiniai darb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A9D-8E0B-4EB2-8F0E-7BEBEBD972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o paramet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ės rezult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2200" y="234792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854000" y="244008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4360" y="244008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83160" y="2347920"/>
            <a:ext cx="7315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94480" y="234792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03360" y="3652920"/>
            <a:ext cx="730440" cy="64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4080" y="2622600"/>
            <a:ext cx="11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14680" y="2622600"/>
            <a:ext cx="127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46160" y="3868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46160" y="396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16480" y="5253120"/>
            <a:ext cx="1298520" cy="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3080" y="4168800"/>
            <a:ext cx="78588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4226040"/>
            <a:ext cx="752400" cy="73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86280" y="3894120"/>
            <a:ext cx="82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671480" y="3014280"/>
            <a:ext cx="32544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13320" y="2911320"/>
            <a:ext cx="54936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140360" y="2908080"/>
            <a:ext cx="1609560" cy="19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313160" y="4265280"/>
            <a:ext cx="843120" cy="8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536920" y="2957400"/>
            <a:ext cx="1403280" cy="20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79840" y="525312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6480" y="5303880"/>
            <a:ext cx="127944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65440" y="4235400"/>
            <a:ext cx="45720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92280" y="2830680"/>
            <a:ext cx="2590920" cy="10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350040" y="4390920"/>
            <a:ext cx="490320" cy="63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251400" y="4381560"/>
            <a:ext cx="46836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32360" y="2454120"/>
            <a:ext cx="487440" cy="45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740560" y="2463840"/>
            <a:ext cx="5918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60920" y="2425680"/>
            <a:ext cx="53496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68840" y="2427120"/>
            <a:ext cx="522000" cy="44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482560" y="3747960"/>
            <a:ext cx="533160" cy="4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62040" y="3822840"/>
            <a:ext cx="59220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35160" y="362592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333440" y="372600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33440" y="372600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81360" y="496404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1720" y="505476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72080" y="505476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38760" y="496404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829120" y="505476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29480" y="505476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04840" y="5091120"/>
            <a:ext cx="731880" cy="641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095560" y="518328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95560" y="518328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76840" y="3763800"/>
            <a:ext cx="731880" cy="64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667560" y="385452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67560" y="385452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52960" y="363528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143320" y="372600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3680" y="372600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74920" y="3664080"/>
            <a:ext cx="22860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48040" y="2378160"/>
            <a:ext cx="228600" cy="19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22560" y="2368440"/>
            <a:ext cx="22860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40040" y="2522520"/>
            <a:ext cx="571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12880" y="3763800"/>
            <a:ext cx="228600" cy="2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55760" y="5119560"/>
            <a:ext cx="228600" cy="1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22560" y="4992840"/>
            <a:ext cx="2286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940360" y="2378160"/>
            <a:ext cx="2286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05320" y="3664080"/>
            <a:ext cx="2286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67360" y="4992840"/>
            <a:ext cx="2286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69080" y="3801960"/>
            <a:ext cx="3808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82680" y="384984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35080" y="5291280"/>
            <a:ext cx="285840" cy="22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28880" y="3278160"/>
            <a:ext cx="4572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27320" y="5514840"/>
            <a:ext cx="24588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30360" y="471024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95560" y="267804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14680" y="316404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19240" y="471960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05040" y="36352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71880" y="544824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72080" y="267804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43680" y="327816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7360" y="40068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10160" y="3278160"/>
            <a:ext cx="4572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00680" y="46054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00680" y="544824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29480" y="48499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66760" y="30337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90640" y="220680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66760" y="313200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48040" y="220680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78360" y="3102120"/>
            <a:ext cx="1839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24360" y="303516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52560" y="352116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66760" y="310356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04840" y="447840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66760" y="311796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76440" y="423540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43280" y="3392640"/>
            <a:ext cx="1839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66760" y="309096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52960" y="43639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15080" y="363528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16520" y="4363920"/>
            <a:ext cx="180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48040" y="484992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43280" y="49640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76840" y="303516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55880" y="3925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66760" y="320364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62040" y="4006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37000" y="41403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01720" y="39196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94000" y="40356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87520" y="5319720"/>
            <a:ext cx="303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52560" y="25495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57480" y="2521080"/>
            <a:ext cx="303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32120" y="2540160"/>
            <a:ext cx="330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48200" y="2602080"/>
            <a:ext cx="322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79720" y="2773440"/>
            <a:ext cx="29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20960" y="5205240"/>
            <a:ext cx="341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033800" y="5205240"/>
            <a:ext cx="336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41640" y="53910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38760" y="2549520"/>
            <a:ext cx="297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76800" y="2558880"/>
            <a:ext cx="303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67360" y="2792520"/>
            <a:ext cx="2286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84640" y="3849840"/>
            <a:ext cx="309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0720" y="3859200"/>
            <a:ext cx="341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03880" y="40449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97600" y="53737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38760" y="5205240"/>
            <a:ext cx="365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84720" y="5197320"/>
            <a:ext cx="331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35680" y="41608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16800" y="3989520"/>
            <a:ext cx="315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1600" y="4008600"/>
            <a:ext cx="312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6F2-4868-4097-9E2D-F59BB800BC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o plano optimizaci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audojant turimus rezerv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tatoma, kokiais rezervais galima pasinaudo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grinėjami kritiniai darba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kuojamos naujos darbų trukmė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skaičiuojami nauji plano paramet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prendžiama, ar jie tenkina vadov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  Pasitelkiant papildomus išteklius nustato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kiems darbams jie reikaling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kie konkretūs ištekliai reikaling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da jie reikaling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skaičiuojami nauji plano paramet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prendžiama, ar jie tenkina vadov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F7C-C5E3-4732-9397-5956B36BFB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lendorinis pl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63600" y="2021040"/>
                <a:ext cx="3715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250920" y="6093000"/>
            <a:ext cx="8642160" cy="7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37960" y="11541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114560" y="1472760"/>
            <a:ext cx="28440" cy="462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058840" y="14605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030480" y="14749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030560" y="14605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87800" y="14749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002280" y="151776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031160" y="1503360"/>
            <a:ext cx="2844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040" y="6180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216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875240" y="6238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32840" y="626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344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33000" y="625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47480" y="6296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885800" y="5661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, di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28600" y="2080800"/>
            <a:ext cx="80028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71440" y="25909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354400" y="2649600"/>
            <a:ext cx="463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1344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9080" y="2046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864560" y="301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772360" y="1204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6520" y="2534760"/>
            <a:ext cx="89208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00000" y="3068640"/>
            <a:ext cx="111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128600" y="4235400"/>
            <a:ext cx="151308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00000" y="3700440"/>
            <a:ext cx="129060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00080" y="4772160"/>
            <a:ext cx="190044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14560" y="5315040"/>
            <a:ext cx="175716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7040" y="1654200"/>
            <a:ext cx="614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197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1197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2800" y="121140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8640" y="111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71560" y="1654200"/>
            <a:ext cx="210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125360"/>
            <a:ext cx="503280" cy="36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341280" y="1638360"/>
                <a:ext cx="405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24000" y="2492280"/>
                <a:ext cx="387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1128600" y="252900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6920" y="170028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86320" y="168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30400" y="2146320"/>
            <a:ext cx="463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894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47640" y="3141720"/>
            <a:ext cx="66060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120" y="3097080"/>
            <a:ext cx="5032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71720" y="3071880"/>
            <a:ext cx="217152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68560" y="3127320"/>
            <a:ext cx="50328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11280" y="3141720"/>
            <a:ext cx="5032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19640" y="3789360"/>
            <a:ext cx="5032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73240" y="3079800"/>
                <a:ext cx="415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2157480" y="3714840"/>
            <a:ext cx="3343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3789360"/>
            <a:ext cx="5032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08480" y="327960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292720" y="3284640"/>
            <a:ext cx="36036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417680" y="3705120"/>
                <a:ext cx="3855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1389240" y="3295800"/>
                <a:ext cx="415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340000" y="4292640"/>
            <a:ext cx="5032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85880" y="4243320"/>
            <a:ext cx="155736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13120" y="4300560"/>
            <a:ext cx="50328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1519200" y="4249800"/>
                <a:ext cx="3859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3838680" y="3797280"/>
            <a:ext cx="463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16440" y="38228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606680" y="4822920"/>
                <a:ext cx="41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861840" y="47721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766960" y="435456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44720" y="43797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508040" y="5353200"/>
                <a:ext cx="384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2556000" y="53737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FAA-6B00-4F16-BFAA-BAD7E49C3C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endorinis pl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0920" y="6093000"/>
            <a:ext cx="8642160" cy="7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7960" y="11541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1114560" y="1472760"/>
            <a:ext cx="28440" cy="462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058840" y="14605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030480" y="14749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4030560" y="14605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003640" y="148428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002280" y="151776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7031160" y="1503360"/>
            <a:ext cx="2844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9040" y="6180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0216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75240" y="6238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32840" y="626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5344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33000" y="625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847480" y="6296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885800" y="5661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, di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00360" y="2421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05440" y="378936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15160" y="377496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53440" y="17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86520" y="17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21800" y="17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4356000" y="1700280"/>
                <a:ext cx="5097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197760" y="4780080"/>
                <a:ext cx="477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6156360" y="5373720"/>
                <a:ext cx="474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419640" y="3500280"/>
                <a:ext cx="474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635280" y="2924280"/>
                <a:ext cx="474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402080" y="4237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012000" y="4221000"/>
                <a:ext cx="504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4916520" y="2997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84880" y="2987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37000" y="1630440"/>
            <a:ext cx="1508040" cy="1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114800" y="1646280"/>
            <a:ext cx="1341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62480" y="11826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19640" y="119700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43280" y="234936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56160" y="2332080"/>
            <a:ext cx="869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6400" y="3514680"/>
            <a:ext cx="60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21800" y="242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672000" y="2335320"/>
                <a:ext cx="447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4358160" y="2386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71720" y="2943360"/>
            <a:ext cx="240048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00640" y="2943000"/>
            <a:ext cx="257040" cy="1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48360" y="1989000"/>
            <a:ext cx="463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21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80000" y="249228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57680" y="3471840"/>
            <a:ext cx="204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306864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43560" y="4186080"/>
            <a:ext cx="87156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443560" y="4200480"/>
            <a:ext cx="1600200" cy="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21800" y="422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4724280"/>
            <a:ext cx="30816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572080" y="4729320"/>
            <a:ext cx="144324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0788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5080" y="5357880"/>
            <a:ext cx="210492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643280" y="537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A02-BE30-4DA3-A0FD-7D1A5263B5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o grafiko analizė Excel aplinkoj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piuteris naudojamas sudarius tinklinį grafik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liami tokie analizės tiksla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tatyti viso nagrinėjamo komplekso darbų trukm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kuoti komplekso darbų svarbiausius darbus, vadinamuosius kritinius dar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skaičiuoti atskirų komplekso darbų įvykių (etapų) rezerv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i kiekvieno paprastojo darbo rezerv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ieti visų darbų planą su konkrečiomis kalendorinėmis dato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tatyti, kokius paprastuosius darbus ir kiek reikia trumpinti, norint pasiekti optimalaus visų darbų atlikimo grafik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FC8-ED81-4F04-BB20-E9ED8F6A00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rmojo etapo tur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kirstyti visą numatomų atlikti darbų kompleksą į paprasčiausius darbus. Tai darbai, kuriuos dėl tam tikrų priežasčių neverta toliau smulki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statyti kiekvieno paprasčiausio darbo trukmę. Tai preliminarūs vertinimai, kurie, sudarius kompiuterinį modelį, gali būti kaitaliojami daugybę kart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statyti ryšį tarp visų paprastųjų darbų, t.y. kokie paprastieji darbai turi būti atlikti, kad būtų galima pradėti konkretų darb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DA0-C87B-414F-9DB3-50A8325571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rojo etapo tur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aromas tinklinio grafiko analizės mode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Šio modelio algoritmas susideda iš 6 dali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omenų pareng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kstyvųjų įvykių pabaigų apskaičiavim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ėlyvųjų įvykių pabaigų apskaičiav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Įvykių rezervų nustaty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bų rezervų nustaty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ritinių darbų ir kritinio kelio identifikavim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F79-8DFF-40CD-9FE7-EE7672517B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Duomenų pareng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Įjungiame Excel programą ir pasirenkame duomenų išdėstymo tvark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ekvienam paprastajam darbui skirta viena eilut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kslinga pakeisti paprastųjų darbų indeksus (žr. darbų sąrašą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arbu priskiriant tokius simbolius, vadovautis taisykle: pirmasis simbolis parodo, iš kokio įvykio išeina šis darbas, antrasis – į kokį įvykį jis ate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lpelyje B surašome darbų indek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lpelyje C surašome darbų truk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lpelyje A surašome darbų, kurie turi būti atlikti anksčiau, simboli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5DF-409C-4360-9E38-5B87839C99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omos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nkstyvoji įvykio paba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476360" y="3068640"/>
                <a:ext cx="4038480" cy="22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EBD-4B8A-489D-84AC-A4A4CCA045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lanavimo esm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slas – surasti geriaus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ie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bū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rinktam sprendimui įgyvend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29264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lanas – tai strate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E38-F19D-45B4-9F91-27724737C0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omos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Vėlyvoji įvykių paba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1619280" y="2516040"/>
                <a:ext cx="338436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DB3-1F5B-40BD-8D0E-186E233D19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omos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Įvykių rezerv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bų rezerv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484360" y="2205000"/>
                <a:ext cx="2158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124000" y="4437000"/>
                <a:ext cx="328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317-7C3E-4BE4-A442-78443FBB12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lanavimo etapa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oblemos esmės, tikslo formulavimas ir kriterijų pasirin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3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   Priežasčių diagnos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8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   Problemos struktūriz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   Galimybių analizė ir alternatyvų paieš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5.    Iškylančių problemų geriausių sprendimų atr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76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6.    Dalinių sprendimų suderinimas ir priėm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198-B4AF-4B49-AB13-2B8A7EEB0A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lane numatoma: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ą, kiek, kur reikia atli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34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Kas turi atli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Kada reikia atli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86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Kokių resursų, kiek ir kada rei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72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5. Koks turi būti rezul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AEF-8158-4E91-95D8-FAB993F3D0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Organizavimo esmė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ldymo struktūrų sukū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Technologinių procesų parin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Procesų suskirstymas į operaci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8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Resursų paskirs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5. Darbo vietų nustatymas ir jų pareng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19112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6. Užduočių vykdytojams konkretiz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724280"/>
            <a:ext cx="86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7. Atsakomybės ir atskaitomybės paskirs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C59-4F65-43A8-8CA1-DF14B9BB06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Vadovavimo esmė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arbų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19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einamųjų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sprendimų,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surs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34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kirstymo koregav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99E-DF2C-40FC-BE77-2F4881E7A6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lanų form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eksti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00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nto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rafi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nklini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pl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967-EA49-4E40-896C-5F66229F76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Ganto grafikas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1089000"/>
                <a:gridCol w="1175040"/>
                <a:gridCol w="1176120"/>
                <a:gridCol w="1174680"/>
                <a:gridCol w="1176480"/>
              </a:tblGrid>
              <a:tr h="90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a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ikas, die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5800" y="3505320"/>
                <a:ext cx="990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5800" y="4419720"/>
                <a:ext cx="9144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5800" y="5257800"/>
                <a:ext cx="934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0C3-7E8C-4CE3-BC3F-B725052DD0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0:01:54Z</dcterms:created>
  <dc:creator>-</dc:creator>
  <dc:description/>
  <dc:language>en-US</dc:language>
  <cp:lastModifiedBy>user</cp:lastModifiedBy>
  <dcterms:modified xsi:type="dcterms:W3CDTF">2008-01-29T06:31:24Z</dcterms:modified>
  <cp:revision>51</cp:revision>
  <dc:subject/>
  <dc:title>3 tema. Tinklinis plamavimas</dc:title>
</cp:coreProperties>
</file>