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3C4-1153-4918-B489-3C3D43957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CA3E-92D1-42F4-B2FD-D28C174D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A11B-84FB-48F6-B7CB-62BF84BF4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3FB2-DFBB-4C10-BD79-6048D1870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D1D1-7A9F-4D9C-85A4-E5AF30B4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A5D0-C411-4DF6-9054-BAB8F0199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0465-7841-4AD4-B183-539FCBBD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71D-8073-4887-B61A-9157FD11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8EDD-0E4B-4969-B9DC-11AC47A1A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AC16-AAE4-4A32-9D94-57CAB320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B1A7-D44C-4EF3-ACEE-3E25160A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0F7E-D633-4DBD-AB10-3F91FB113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4AC9D-DCB5-4D71-A21E-DB8CB3556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 tema. Masinio aptarnavimo siste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916280"/>
            <a:ext cx="8964720" cy="46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teratūra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. Puškorius. Sprendimų priėmimo teorija. Kiekybiniai metodai: Vadovėlis: – Vilnius: Lietuvos teisės universiteto Leidybos centras, 2001. p.p.70-9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. Puškorius. Matematiniai metodai vadyboje:   Vadovėlis: – Vilnius: TEV, 2001. p.p.235-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F2EC-46A4-436C-A47F-8DC3B29E21B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Daugiakanalė MAS su atsaku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inomi trys parametr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sraut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aptarnavim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tarnaujančių kanalų skaičius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6597720" y="2603520"/>
                <a:ext cx="495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7380360" y="3716280"/>
                <a:ext cx="57636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1454-286F-4EC5-97A3-6C7A1F2793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tsako tikimyb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556000" y="2276640"/>
                <a:ext cx="3433680" cy="15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771640" y="4365720"/>
                <a:ext cx="2448000" cy="15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550-B52B-4C6A-B08E-0FDB90825B4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Santykinė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bsoliuti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Vidutinis užimtų kanalų skaič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132000" y="2276640"/>
                <a:ext cx="249732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3419640" y="3933720"/>
                <a:ext cx="265572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3492360" y="5300640"/>
                <a:ext cx="147168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98CB-5099-4F5B-8709-19CF3B0C8A0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Žinomi keturi parametr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1. Paraiškų sraut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Paraiškų aptarnavim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Aptarnaujančių kanalų skaičius 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 Eilės ilgis –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6108840" y="3095640"/>
                <a:ext cx="514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7034040" y="4102200"/>
                <a:ext cx="598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88FD-738D-4720-998F-A78EE68682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tsako tikimyb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e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2124000" y="2682720"/>
                <a:ext cx="89532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4054320" y="2367000"/>
                <a:ext cx="2986200" cy="11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2124000" y="4292640"/>
                <a:ext cx="98748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4083120" y="3997440"/>
                <a:ext cx="213336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996920" y="4925880"/>
                <a:ext cx="1594080" cy="12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187-4487-4CBC-8626-11921DA13B4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Santykinė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Absoliuti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911320" y="2678040"/>
                <a:ext cx="260532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987640" y="4508640"/>
                <a:ext cx="2656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270B-7704-48E0-AAE9-2AB69EFC817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Vidutinis laukiančių eilės paraiškų skaič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Vidutinis paraiškos laukimo eilėje lai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619280" y="1992240"/>
                <a:ext cx="10080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218040" y="1782720"/>
                <a:ext cx="4033800" cy="103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α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541520" y="3328920"/>
                <a:ext cx="8650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06600" y="3152880"/>
                <a:ext cx="21844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362400" y="5208480"/>
                <a:ext cx="1263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945-1C5B-406F-9B63-5CC738BCF98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3. Vienkanalė MAS su eile, jei laukimo laikas neribo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Rodikliai apskaičiuojami tik, j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2.         </a:t>
            </a:r>
            <a:r>
              <a:rPr b="0" i="1" lang="lt-LT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5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227640" y="1557360"/>
                <a:ext cx="21607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2077920" y="1917720"/>
                <a:ext cx="154800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2097000" y="3089160"/>
                <a:ext cx="12844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2050920" y="3564000"/>
                <a:ext cx="159876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2222640" y="5246640"/>
                <a:ext cx="1263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7965-ACE1-4AEE-9CC6-D48AFEF0D30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Daugiakanalė MAS su e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inomi keturi parametr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Paraiškų sraut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Paraiškų aptarnavimo intensyvu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Aptarnaujančių kanalų skaičius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Eilės ilgis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6372360" y="2421000"/>
                <a:ext cx="50940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7380360" y="3459240"/>
                <a:ext cx="576360" cy="52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005A-B796-4A15-A7D2-54FEBFD5E7A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Atsako tikimybė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Tikimybė, kad visi kanalai laisv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                          ,   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ei                   , 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135400" y="1685880"/>
                <a:ext cx="3275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∗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417680" y="4052880"/>
                <a:ext cx="224640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α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5478480" y="3882960"/>
                <a:ext cx="340848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m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1332000" y="5600880"/>
                <a:ext cx="1278000" cy="73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067280" y="5229360"/>
                <a:ext cx="4584600" cy="14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k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>
                                <m:r>
                                  <m:t xml:space="preserve">k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k</m:t>
                            </m:r>
                            <m:r>
                              <m:t xml:space="preserve">!</m:t>
                            </m:r>
                          </m:den>
                        </m:f>
                      </m:e>
                    </m:nary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γ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m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r>
                          <m:t xml:space="preserve">)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D13B-01A6-414B-8EB1-67887612022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sistemų pavyzdžiai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lefono stot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monto organ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aldymo punk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o uost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uitinio aptarnavimo kombinat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lietų kasos ir t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B194-18E3-427A-AF6D-E8BAFA5D4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Santykinė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Absoliuti aptarnavimo ge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Vidutinis užimtų kanalų skaič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2747880" y="2184480"/>
                <a:ext cx="217800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827440" y="3424320"/>
                <a:ext cx="220644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946240" y="4606920"/>
                <a:ext cx="1357560" cy="123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1737-558D-41BF-9542-B081F8670C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. Vidutinis laukiančių aptarnavimo paraiškų skaič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               , 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i                , 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. Vidutinis paraiškos laukimo eilėje laik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627200" y="1946160"/>
                <a:ext cx="968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63800" y="1511280"/>
                <a:ext cx="449928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mγ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γ</m:t>
                            </m:r>
                          </m:e>
                          <m:sup>
                            <m:r>
                              <m:t xml:space="preserve">m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n</m:t>
                        </m:r>
                        <m:r>
                          <m:t xml:space="preserve">!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293840" y="3289320"/>
                <a:ext cx="968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3171960" y="2755800"/>
                <a:ext cx="3267000" cy="128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m</m:t>
                        </m:r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∗</m:t>
                        </m:r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3233880" y="4651200"/>
                <a:ext cx="126360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199-B99D-46D3-8EA3-579AC4130F8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9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1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4358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Kai paraiška laukia aptarnavimo pradžios neribotą laiką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davinys išsprendžiamas, j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odiklia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q=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6705720" y="1611360"/>
                <a:ext cx="1008000" cy="5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538200" y="2705040"/>
                <a:ext cx="154764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492120" y="3924360"/>
                <a:ext cx="1539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2771640" y="4221000"/>
                <a:ext cx="2264040" cy="143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m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α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γ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39640" y="4869000"/>
                <a:ext cx="12636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m</m:t>
                            </m:r>
                          </m:e>
                        </m:acc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2843280" y="5734080"/>
                <a:ext cx="147168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¯"/>
                      </m:accPr>
                      <m:e>
                        <m:r>
                          <m:t xml:space="preserve">n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2EE1-A5DE-41D9-AD8B-706C4B99B0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Vienkanalė MAS be ei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jungiame Excel programą ir pasirenkame duomenų išdėstymo tvark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1 užrašome paraiškų srauto intensyvumo reikšmę , gardelėje A2 – paraiškų aptarnavimo intensyvumo reikšmę . Būtina, kad šių reikšmių mato vienetai būtų vieno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tsako tikimybė apskaičiuojama surinkus gardelėje C2 formulę = a1/(a1+a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nė aptarnavimo geb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randama gardelėje C3, surinkus joje formulę =1- C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bsoliuti aptarnavimo geba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randama gardelėje C4, surinkus joje formulę = a1*c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62BB-4387-47AF-88CC-6D469C9EBB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7" dur="indefinite" restart="never" nodeType="tmRoot">
          <p:childTnLst>
            <p:seq>
              <p:cTn id="1058" dur="indefinite" nodeType="mainSeq">
                <p:childTnLst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Daugiakanalė MAS be ei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1 užrašome paraiškų srauto intensyvumo reikšmę , gardelėje A2 – paraiškų aptarnavimo intensyvumo reikšmę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3 užrašome koeficientą =a1/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4 užrašome bendrą aptarnaujančių kanalų skai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1 užrašom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2 surenkame formulę =b1*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3 surenkame formulę =b2*a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utinėje gardelėje BNr.(n+1) surenkame formulę =bNr.n*a3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C8A6-6C38-455C-AC88-C7C3249E3D5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3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9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0" dur="5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3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9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Daugiakanalė MAS be ei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skutinis gardelės numeris turi būti vienetu didesnis, nei turime aptarnaujančių kanal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rdelėje C1 surenkame formulę =1/sum(b1:bNr.(n+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Ten pamatysime tikimybės , kad visi aptarnavimo kanalai yra laisvi, reikšmę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o tikimybė apskaičiuojama surinkus gardelėje C2 formulę =a3^a4*c1/insert/function/FACT(n)/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antykinė aptarnavimo geba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q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andama gardelėje C3, surinkus joje formulę =1- 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i aptarnavimo geba </a:t>
            </a:r>
            <a:r>
              <a:rPr b="1" i="1" lang="lt-LT" sz="24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randama gardelėje C4, surinkus joje formulę =a1*c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užimtų aptarnaujančių kanalų skaičius apskaičiuojamas surinkus gardelėje C5 formulę =c4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43DA-82BD-42CD-83FD-750C6BCC910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3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4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9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0" dur="5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5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6" dur="5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2" dur="500" fill="hold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7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3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9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1 užrašome paraiškų srauto intensyvumo reikšmę , gardelėje A2 – paraiškų aptarnavimo intensyvumo reikšmę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ūtina, kad šių reikšmių mato vienetai būtų identišk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3 užrašome koeficientą , surinkę joje formulę =a1/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4 užrašome bendrą aptarnaujančių kanalų skaičių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A5 užrašome paraiškų skaičių eilėje </a:t>
            </a:r>
            <a:r>
              <a:rPr b="1" i="1" lang="lt-LT" sz="2800" spc="-1" strike="noStrike">
                <a:solidFill>
                  <a:srgbClr val="000000"/>
                </a:solidFill>
                <a:latin typeface="Arial"/>
              </a:rPr>
              <a:t>m.</a:t>
            </a:r>
            <a:r>
              <a:rPr b="0" lang="lt-L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C039-2C26-4CA0-983F-DB04FA0B65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7" dur="indefinite" restart="never" nodeType="tmRoot">
          <p:childTnLst>
            <p:seq>
              <p:cTn id="1218" dur="indefinite" nodeType="mainSeq">
                <p:childTnLst>
                  <p:par>
                    <p:cTn id="1219" fill="hold">
                      <p:stCondLst>
                        <p:cond delay="indefinite"/>
                      </p:stCondLst>
                      <p:childTnLst>
                        <p:par>
                          <p:cTn id="1220" fill="hold">
                            <p:stCondLst>
                              <p:cond delay="0"/>
                            </p:stCondLst>
                            <p:childTnLst>
                              <p:par>
                                <p:cTn id="1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7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8" dur="500" fill="hold"/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fill="hold">
                      <p:stCondLst>
                        <p:cond delay="indefinite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9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0" dur="500" fill="hold"/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000000"/>
                </a:solidFill>
                <a:latin typeface="Arial"/>
              </a:rPr>
              <a:t>3.1. G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rdelėje A3 atsiranda viene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Gardelėse A1:A5 surenkame išeities duomenis – konkrečius skaičius, o gardelėje A3 – formulę =a1/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tsako tikimybė randama surinkus gardelėje B1 formulę =1/(A5+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Santykinė aptarnavimo geba randama surinkus gardelėje B2 formulę =1-B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Absoliuti aptarnavimo geba randama surinkus gardelėje B3 formulę =a1*b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laukiantis eilės klientų skaičius randamas surinkus gardelėje B4 formulę =a5/2*((a5+1)/(a3+2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kliento laukimo eilėje laikas randamas surinkus gardelėje B5 formulę =b4/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kliento buvimas kontoroje laikas randamas surinkus gardelėje B6 formulę =b4/a1+b2/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užimtų notarų skaičius randamas surinkus gardelėje B7 formulę =b3/a2</a:t>
            </a:r>
            <a:r>
              <a:rPr b="0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CE7A-6D94-49F1-BC9D-7E5EB750C17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9" fill="hold">
                      <p:stCondLst>
                        <p:cond delay="indefinite"/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3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4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7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8" dur="5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5" fill="hold">
                      <p:stCondLst>
                        <p:cond delay="indefinite"/>
                      </p:stCondLst>
                      <p:childTnLst>
                        <p:par>
                          <p:cTn id="1316" fill="hold">
                            <p:stCondLst>
                              <p:cond delay="0"/>
                            </p:stCondLst>
                            <p:childTnLst>
                              <p:par>
                                <p:cTn id="1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0" dur="500" fill="hold"/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5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6" dur="500" fill="hold"/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Vien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2. Gardelėje A3 ne vien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tsako tikimybė – gardelėje B1 =a3^(a5+1)*(1-a3)/(1-a3^(a5+2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antykinė aptarnavimo geba – gardelėje B2 =1-B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bsoliuti aptarnavimo geba – gardelėje B3 =a1*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laukiantis eilės klientų skaičius – gardelėje B4 =A3^2*((1-A3^A5*(A5+1-A5*A3)))/((1-A3)*((1-A3^(A5+2))))</a:t>
            </a: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Dėmesio, atidaromų ir uždaromų skliaustelių skaičius turi būti vienodas!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laukimo eilėje laikas – gardelėje B5 =b4/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buvimo sistemoje laikas – gardelėje B6 =B5+B2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000" spc="-1" strike="noStrike">
                <a:solidFill>
                  <a:srgbClr val="000000"/>
                </a:solidFill>
                <a:latin typeface="Arial"/>
              </a:rPr>
              <a:t>Vidutinis užimtų aptarnaujančių kanalų skaičius – gardelėje B7 =b3/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110D-389E-47CA-AF04-1F63564B985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7" dur="indefinite" restart="never" nodeType="tmRoot">
          <p:childTnLst>
            <p:seq>
              <p:cTn id="1328" dur="indefinite" nodeType="mainSeq">
                <p:childTnLst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5" fill="hold">
                      <p:stCondLst>
                        <p:cond delay="indefinite"/>
                      </p:stCondLst>
                      <p:childTnLst>
                        <p:par>
                          <p:cTn id="1336" fill="hold">
                            <p:stCondLst>
                              <p:cond delay="0"/>
                            </p:stCondLst>
                            <p:childTnLst>
                              <p:par>
                                <p:cTn id="1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3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4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9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0" dur="5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1" fill="hold">
                      <p:stCondLst>
                        <p:cond delay="indefinite"/>
                      </p:stCondLst>
                      <p:childTnLst>
                        <p:par>
                          <p:cTn id="1352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7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8" dur="5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fill="hold">
                      <p:stCondLst>
                        <p:cond delay="indefinite"/>
                      </p:stCondLst>
                      <p:childTnLst>
                        <p:par>
                          <p:cTn id="1382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5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Gardelėje A1 užrašome paraiškų srauto intensyvumo reikšmę , gardelėje A2 – paraiškų aptarnavimo intensyvumo reikšmę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3 užrašome koeficientą alfa, surinkę joje formulę =a1/a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4 užrašome bendrą aptarnaujančių kanalų skaičių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5 užrašome paraiškų skaičių eilėj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rdelėje A6 užrašome koeficientą gama, =a3/a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alimi du atvejai: 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4284720" y="5913360"/>
                <a:ext cx="223848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523880" y="1397160"/>
                <a:ext cx="6096240" cy="40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FD0-54C2-4C62-B39F-AFC25B244E5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5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6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1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2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7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8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3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4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5" fill="hold">
                      <p:stCondLst>
                        <p:cond delay="indefinite"/>
                      </p:stCondLst>
                      <p:childTnLst>
                        <p:par>
                          <p:cTn id="1426" fill="hold">
                            <p:stCondLst>
                              <p:cond delay="0"/>
                            </p:stCondLst>
                            <p:childTnLst>
                              <p:par>
                                <p:cTn id="1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9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0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5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fill="hold">
                      <p:stCondLst>
                        <p:cond delay="indefinite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rindinės samp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90756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ptarnavimo kanalas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us žmonių ar (ir) techninių priemonių skaičius, galintis aptarnauti vieną paraišk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iška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liento poreikis kokiai nors operacijai atlikti (sujungti su reikiamu abonementu, suderinti muzikos instrumentą, suremontuoti kokį nors prietaisą ir t.t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iškų srautas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pasiskirstymas laiko atžvilgi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raiškų srauto intensyvumas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dutinis paraiškų skaičius per vieną laiko vienet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Vienos paraiškos aptarnavimo laikas -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aikas nuo paraiškos aptarnavimo pradžios iki jos pabai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973-D7E7-416A-962A-FAA4B7BF3F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1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1 užrašom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2 surenkame formulę =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3 surenkame formulę =b2*a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4 surenkame formulę =b3*a3/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kutinėje gardelėje bNr.(n+1) surenkame formulę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=bNr.n*a3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440480" y="1201680"/>
                <a:ext cx="93672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0005-4A2C-414E-A5AE-5DCBC38E63D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9" dur="indefinite" restart="never" nodeType="tmRoot">
          <p:childTnLst>
            <p:seq>
              <p:cTn id="1450" dur="indefinite" nodeType="mainSeq">
                <p:childTnLst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5" fill="hold">
                      <p:stCondLst>
                        <p:cond delay="indefinite"/>
                      </p:stCondLst>
                      <p:childTnLst>
                        <p:par>
                          <p:cTn id="1476" fill="hold">
                            <p:stCondLst>
                              <p:cond delay="0"/>
                            </p:stCondLst>
                            <p:childTnLst>
                              <p:par>
                                <p:cTn id="1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9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5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6" dur="5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7" fill="hold">
                      <p:stCondLst>
                        <p:cond delay="indefinite"/>
                      </p:stCondLst>
                      <p:childTnLst>
                        <p:par>
                          <p:cTn id="1488" fill="hold">
                            <p:stCondLst>
                              <p:cond delay="0"/>
                            </p:stCondLst>
                            <p:childTnLst>
                              <p:par>
                                <p:cTn id="1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1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2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5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1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2" dur="500" fill="hold"/>
                                        <p:tgtEl>
                                          <p:spTgt spid="1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1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1 surenkame =a5*a3^a4/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i laisvojo nario reikšmė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2 surenkame formulę  =(c1+sum(b1: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r.(n+1)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))^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3 surenkame formulę =A3^(A4+A5)*C2/(A4^A5*FACT(A4)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antykinė šios sistemos aptarnavimo geba randama surinkus gardelėje C4 formulę =1-c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Absoliuti sistemos aptarnavimo geba randama surinkus gardelėje C5 formulę =a1*c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899320" y="1598760"/>
                <a:ext cx="86328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FFA2-8F11-4FF1-A624-5F4314BA8A0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3" dur="indefinite" restart="never" nodeType="tmRoot">
          <p:childTnLst>
            <p:seq>
              <p:cTn id="1504" dur="indefinite" nodeType="mainSeq">
                <p:childTnLst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fill="hold">
                      <p:stCondLst>
                        <p:cond delay="indefinite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7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5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1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7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4.1. Daugia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užimtų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anal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ų skaičius randamas surinkus gardelėje C6 formulę =c5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ė užimtų kanalų dalis randama surinkus gardelėje C7 formulę =c6/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laukiančių aptarnavimo klientų skaičiu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gardelėje C8 formulę =a3^(a4+1)*c2*a5*(a5+1)/(2*a4*.Fact(a4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laukimo eilėje laikas apskaičiuojamas gardelėje C9 pagal formulę =c8/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dutinis kliento buvimo kontoroje laikas apskaičiuojamas surinkus gardelėje C10 formulę =c9+c4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4932360" y="1557360"/>
                <a:ext cx="86364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141-5F75-401E-A9C4-E1BA30279AB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9" dur="indefinite" restart="never" nodeType="tmRoot">
          <p:childTnLst>
            <p:seq>
              <p:cTn id="1560" dur="indefinite" nodeType="mainSeq">
                <p:childTnLst>
                  <p:par>
                    <p:cTn id="1561" fill="hold">
                      <p:stCondLst>
                        <p:cond delay="indefinite"/>
                      </p:stCondLst>
                      <p:childTnLst>
                        <p:par>
                          <p:cTn id="1562" fill="hold">
                            <p:stCondLst>
                              <p:cond delay="0"/>
                            </p:stCondLst>
                            <p:childTnLst>
                              <p:par>
                                <p:cTn id="15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5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9" fill="hold">
                      <p:stCondLst>
                        <p:cond delay="indefinite"/>
                      </p:stCondLst>
                      <p:childTnLst>
                        <p:par>
                          <p:cTn id="1580" fill="hold">
                            <p:stCondLst>
                              <p:cond delay="0"/>
                            </p:stCondLst>
                            <p:childTnLst>
                              <p:par>
                                <p:cTn id="1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3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4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9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0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9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0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5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6" dur="500" fill="hold"/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7" fill="hold">
                      <p:stCondLst>
                        <p:cond delay="indefinite"/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1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2" dur="500" fill="hold"/>
                                        <p:tgtEl>
                                          <p:spTgt spid="2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4.2. Daugiakanalė MAS su e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1 užrašom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2 surenkame formulę =a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B3 surenkame formulę =b2*a3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ndru atveju paskutinėje B(Nr.(n+1)) gardelėje surenkame formulę = b(Nr.n)*a3/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1 surenkame =a3^a4*(a6-a6^(a5+1))/((1-a6)*FACT(a4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Gardelėje C2 surenkame formulę  =(c1+sum(b1:bNr.(n+1)))^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7308720" y="1484280"/>
                <a:ext cx="129240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9EE-5CBF-4920-8CDD-CBEA7052A186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3" dur="indefinite" restart="never" nodeType="tmRoot">
          <p:childTnLst>
            <p:seq>
              <p:cTn id="1614" dur="indefinite" nodeType="mainSeq">
                <p:childTnLst>
                  <p:par>
                    <p:cTn id="1615" fill="hold">
                      <p:stCondLst>
                        <p:cond delay="indefinite"/>
                      </p:stCondLst>
                      <p:childTnLst>
                        <p:par>
                          <p:cTn id="1616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7" fill="hold">
                      <p:stCondLst>
                        <p:cond delay="indefinite"/>
                      </p:stCondLst>
                      <p:childTnLst>
                        <p:par>
                          <p:cTn id="1628" fill="hold">
                            <p:stCondLst>
                              <p:cond delay="0"/>
                            </p:stCondLst>
                            <p:childTnLst>
                              <p:par>
                                <p:cTn id="1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3" fill="hold">
                      <p:stCondLst>
                        <p:cond delay="indefinite"/>
                      </p:stCondLst>
                      <p:childTnLst>
                        <p:par>
                          <p:cTn id="1634" fill="hold">
                            <p:stCondLst>
                              <p:cond delay="0"/>
                            </p:stCondLst>
                            <p:childTnLst>
                              <p:par>
                                <p:cTn id="1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7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8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3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4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fill="hold">
                      <p:stCondLst>
                        <p:cond delay="indefinite"/>
                      </p:stCondLst>
                      <p:childTnLst>
                        <p:par>
                          <p:cTn id="1646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9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0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4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0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1" fill="hold">
                      <p:stCondLst>
                        <p:cond delay="indefinite"/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5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6" dur="500" fill="hold"/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1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MAS rodiklių apskaičiavimas kompiuteriu Excel aplink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2. Daugiakanalė MA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sako tikimybė – gardelė C3, formulė A3^(A4+A5)*C2/(A4^A5*FACT(A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ntykinė šios sistemos aptarnavimo geba – gardelė C4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ulė =1-c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oliuti sistemos aptarnavimo geba – gardelė C5, formulė =a1*c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užimtų notarų skaičius – gardelė C6, formulė =c5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ė užimtų kanalų dalis – gardelė C7, formulė =c6/a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laukiančių aptarnavimo klientų skaičius – gardelė C8, formulė =a3^(a4+1)*c2*((1-(a5+1-a5*a6)*a6^a4))/(a4*(1-a6)^2*FACT(a4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kliento laukimo eilėje laikas – gardelė C9, formulė =c8/a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dutinis kliento buvimo kontoroje laikas – gardelė C10, formulė =c9+c4/a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7205760" y="1001880"/>
                <a:ext cx="865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4011-E20B-4512-9683-17845D7C612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3" dur="indefinite" restart="never" nodeType="tmRoot">
          <p:childTnLst>
            <p:seq>
              <p:cTn id="1674" dur="indefinite" nodeType="mainSeq">
                <p:childTnLst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6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8" dur="5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4" dur="5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7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fill="hold">
                      <p:stCondLst>
                        <p:cond delay="indefinite"/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3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9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0" dur="5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1" fill="hold">
                      <p:stCondLst>
                        <p:cond delay="indefinite"/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5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6" dur="5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1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2" dur="5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7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8" dur="5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fill="hold">
                      <p:stCondLst>
                        <p:cond delay="indefinite"/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3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4" dur="500" fill="hold"/>
                                        <p:tgtEl>
                                          <p:spTgt spid="2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privalum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lima apskaičiuot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k paraiškų bus aptarn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kia dalis paraiškų bus aptarnau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k vidutiniškai kanalų bus užim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okią laiko dalį sistema neturės darb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iek laiko paraiška lauks eilėje ir kt. rodikl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3D3A-2CC1-4A3A-8DED-B81AC31809A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alima spręsti ir optimizacinius uždaviniu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timizuoti aptarnaujančių kanalų kiek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grįsti techninį aprūpinim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komenduoti aptarnavimo trukm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statyti racionalią paraiškų aptarnavimo tvarką ir kt. uždavini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ADA3-05FC-4FC0-90EE-4E5A58DFEFF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elaid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1. Teigiama, kad MAS vyksta Markovo proces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Šio proceso pagrindinė savybė 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Bet kuriuo momentu tikimybė, kad ateityje MAS bus konkrečios būsenos, priklauso nuo šios sistemos dabartinės būsenos ir nepriklauso nuo to, kaip sistema pateko į šią būsen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943F-6A18-418B-860F-7F01E95D08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elaido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Teigiama, kad paraiškų srautas yra paprasčiausia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utas yr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tacionar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paraiškų skaičiu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einantis į sistemą, priklauso nuo nagrinėjamo intervalo trukmės ir nepriklauso nuo jo padėti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utui būding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epriklausomumo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vybė, jei paraiškų, patenkančių į bet kuriuos du nesikertančius laiko intervalus, skaičius nepriklauso nuo to, kiek paraiškų pateko į vieną iš tų intervalų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rautas yra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rdinaru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jei tikimybė, kad mažame intervale bus daugiau nei viena paraiška, yra be galo maža, palyginti su tikimybe, kad jame bus viena paraiš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A97F-17D3-4A81-ACCD-90836A44258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S klasifikaci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aptarnaujančių kanalų kiek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Vienkanal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Daugiakanal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klientų nekantrumo lygmen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os be eil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Sistemos su e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eilės ilgį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ai laukia eilėje, jei joje yra ne daugiau n klient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ai laukia eilėje, jei aptarnavimo laikas neviršija ri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ai laukia eilėje, jei buvimas joje neviršija rib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Pagal paslaugų tipų skaičių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ui reikia vienos paslau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Klientui reikia kelių paslaug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1F2F-710B-4FD3-B909-407B9AE3158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I. Vienkanalė MAS be ei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Žinomi du parametr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sraut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raiškų aptarnavimo intensyvu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skaičiuojami tokie rodiklia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tykinė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bsoliuti aptarnavimo ge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sako tikimyb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6300720" y="1628640"/>
                <a:ext cx="4525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7236000" y="2205000"/>
                <a:ext cx="715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5651640" y="3284640"/>
                <a:ext cx="298764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μ</m:t>
                        </m:r>
                      </m:num>
                      <m:den>
                        <m:r>
                          <m:t xml:space="preserve">λ</m:t>
                        </m:r>
                        <m:r>
                          <m:t xml:space="preserve">+</m:t>
                        </m:r>
                        <m:r>
                          <m:t xml:space="preserve">μ</m:t>
                        </m:r>
                      </m:den>
                    </m:f>
                    <m:r>
                      <m:t xml:space="preserve">,</m:t>
                    </m:r>
                    <m:r>
                      <m:t xml:space="preserve">μ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419640" y="4724280"/>
                <a:ext cx="15112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λ</m:t>
                    </m:r>
                    <m:r>
                      <m:t xml:space="preserve">∗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2050920" y="5805360"/>
                <a:ext cx="216072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t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270-FFEF-4C85-AE30-8562909708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07:04:53Z</dcterms:created>
  <dc:creator>-</dc:creator>
  <dc:description/>
  <dc:language>en-US</dc:language>
  <cp:lastModifiedBy>user</cp:lastModifiedBy>
  <dcterms:modified xsi:type="dcterms:W3CDTF">2008-02-18T07:00:54Z</dcterms:modified>
  <cp:revision>66</cp:revision>
  <dc:subject/>
  <dc:title>4 tema. Masinio aptarnavimo sistemos</dc:title>
</cp:coreProperties>
</file>