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075-52E1-4733-8336-45A4B217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0F6-2609-42AF-BD6E-ADD0F127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B4E-E9E4-42EB-A2B0-96AAE05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2EE-BE89-44A8-8EA4-9EC26794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41C-BCBE-44AF-9B6A-9A935DA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0C4-F793-42FE-9241-2CCE5DF9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E88-A9D1-4E86-86DF-B40CFEAD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B98-96BA-4F53-B728-84E06111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E7F-CD31-43F4-A335-092247A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B1B-6093-49CB-B614-B533494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D00-DEE2-4271-9522-8430401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61B-2D1A-4124-BA29-DB68C26B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044B-FA31-41B6-B9BF-07A2D99EE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tema. Masinio aptarnavimo sis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8964720" cy="46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. Puškorius. Sprendimų priėmimo teorija. Kiekybiniai metodai: Vadovėlis: – Vilnius: Lietuvos teisės universiteto Leidybos centras, 2001. p.p.70-9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. Puškorius. Matematiniai metodai vadyboje:   Vadovėlis: – Vilnius: TEV, 2001. p.p.235-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4E2-65C9-429A-ABBA-6F390C827D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augiakanalė MAS su atsa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inomi trys parametr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sraut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aptarnavim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tarnaujančių kanalų skaičius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97720" y="2603520"/>
                <a:ext cx="495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380360" y="3716280"/>
                <a:ext cx="576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A36-B675-435A-A7BF-BB777039CB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tsako tikimyb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56000" y="2276640"/>
                <a:ext cx="343368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71640" y="4365720"/>
                <a:ext cx="24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BA7-89DD-4D1E-B3C4-62B0F9820D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antykinė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bsoliuti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Vidutinis užimtų kanal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132000" y="2276640"/>
                <a:ext cx="2497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419640" y="3933720"/>
                <a:ext cx="2655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492360" y="5300640"/>
                <a:ext cx="14716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470-6B3A-4A2D-A30A-60C81DEC69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Žinomi keturi paramet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Paraiškų sraut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Paraiškų aptarnavim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Aptarnaujančių kanalų skaičius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Eilės ilgis –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108840" y="3095640"/>
                <a:ext cx="514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34040" y="4102200"/>
                <a:ext cx="59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58D-8149-43CF-B9D0-B62BB82052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tsako tikimyb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24000" y="2682720"/>
                <a:ext cx="895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4320" y="2367000"/>
                <a:ext cx="29862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24000" y="4292640"/>
                <a:ext cx="98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083120" y="3997440"/>
                <a:ext cx="2133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96920" y="4925880"/>
                <a:ext cx="15940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F4B-FE09-416C-BD07-D5BDDE5A43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antykinė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bsoliuti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11320" y="2678040"/>
                <a:ext cx="2605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87640" y="4508640"/>
                <a:ext cx="2656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2C4-8603-4863-B15A-119A79A5E4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Vidutinis laukiančių eilės paraiškų skaič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Vidutinis paraiškos laukimo eilėje lai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19280" y="1992240"/>
                <a:ext cx="1008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18040" y="1782720"/>
                <a:ext cx="40338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α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41520" y="3328920"/>
                <a:ext cx="865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06600" y="3152880"/>
                <a:ext cx="2184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62400" y="5208480"/>
                <a:ext cx="1263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E6D-8EB3-481C-B333-F0C5E32DC8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. Vienkanalė MAS su eile, jei laukimo laikas nerib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odikliai apskaičiuojami tik, j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2.        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27640" y="1557360"/>
                <a:ext cx="216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077920" y="1917720"/>
                <a:ext cx="1548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97000" y="3089160"/>
                <a:ext cx="1284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50920" y="3564000"/>
                <a:ext cx="15987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22640" y="5246640"/>
                <a:ext cx="1263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DEC-0AB3-44DC-92E9-B99E86DFA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augiakanalė MAS su 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inomi keturi parametr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araiškų sraut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araiškų aptarnavim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ptarnaujančių kanalų skaičius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Eilės ilgis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72360" y="2421000"/>
                <a:ext cx="50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380360" y="3459240"/>
                <a:ext cx="576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D60-8149-4504-8D6E-87E8111C9E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tsako tikimyb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ikimybė, kad visi kanalai lais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                          ,   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                   , 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135400" y="1685880"/>
                <a:ext cx="3275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17680" y="4052880"/>
                <a:ext cx="2246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478480" y="3882960"/>
                <a:ext cx="34084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5600880"/>
                <a:ext cx="12780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67280" y="5229360"/>
                <a:ext cx="45846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A1E-60BE-4158-B610-9720631FC2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sistemų pavyzdžiai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fono stot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nto organ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dymo punk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o uos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tinio aptarnavimo kombina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ietų kasos ir t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2D8-7EBA-44A6-B6F3-297FDFF39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antykinė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bsoliuti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Vidutinis užimtų kanalų skaič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47880" y="2184480"/>
                <a:ext cx="2178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27440" y="3424320"/>
                <a:ext cx="2206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46240" y="4606920"/>
                <a:ext cx="135756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A87-08A9-44B8-A80D-E18525EAEE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Vidutinis laukiančių aptarnavimo paraiškų skaič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               , 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               , 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Vidutinis paraiškos laukimo eilėje lai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27200" y="1946160"/>
                <a:ext cx="968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63800" y="1511280"/>
                <a:ext cx="44992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γ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93840" y="3289320"/>
                <a:ext cx="968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71960" y="2755800"/>
                <a:ext cx="326700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33880" y="4651200"/>
                <a:ext cx="1263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814-2907-4501-8ED1-39B3806E57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Kai paraiška laukia aptarnavimo pradžios neribotą laik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davinys išsprendžiamas, j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705720" y="1611360"/>
                <a:ext cx="1008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38200" y="2705040"/>
                <a:ext cx="1547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92120" y="3924360"/>
                <a:ext cx="153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771640" y="4221000"/>
                <a:ext cx="22640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869000"/>
                <a:ext cx="1263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843280" y="5734080"/>
                <a:ext cx="147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0C0-3356-440A-8FB3-A1013E9A20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Vienkanalė MAS be ei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jungiame Excel programą ir pasirenkame duomenų išdėstymo tvark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1 užrašome paraiškų srauto intensyvumo reikšmę , gardelėje A2 – paraiškų aptarnavimo intensyvumo reikšmę . Būtina, kad šių reikšmių mato vienetai būtų vieno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ako tikimybė apskaičiuojama surinkus gardelėje C2 formulę = a1/(a1+a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nė aptarnavimo geb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andama gardelėje C3, surinkus joje formulę =1-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bsoliuti aptarnavimo geb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randama gardelėje C4, surinkus joje formulę = a1*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79D-A436-4385-B2D4-D2916BA682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Daugiakanalė MAS be ei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1 užrašome paraiškų srauto intensyvumo reikšmę , gardelėje A2 – paraiškų aptarnavimo intensyvumo reikšmę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3 užrašome koeficientą =a1/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4 užrašome bendrą aptarnaujančių kanalų skai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1 užrašom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2 surenkame formulę =b1*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3 surenkame formulę =b2*a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utinėje gardelėje BNr.(n+1) surenkame formulę =bNr.n*a3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622-FB39-4612-A25D-62E6413C47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Daugiakanalė MAS be ei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utinis gardelės numeris turi būti vienetu didesnis, nei turime aptarnaujančių kanal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rdelėje C1 surenkame formulę =1/sum(b1:bNr.(n+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n pamatysime tikimybės , kad visi aptarnavimo kanalai yra laisvi, reikšm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o tikimybė apskaičiuojama surinkus gardelėje C2 formulę =a3^a4*c1/insert/function/FACT(n)/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antykinė aptarnavimo geba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andama gardelėje C3, surinkus joje formulę =1- 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i aptarnavimo geba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andama gardelėje C4, surinkus joje formulę =a1*c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užimtų aptarnaujančių kanalų skaičius apskaičiuojamas surinkus gardelėje C5 formulę =c4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441-FC6A-42C1-96A9-64077E2CFC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1 užrašome paraiškų srauto intensyvumo reikšmę , gardelėje A2 – paraiškų aptarnavimo intensyvumo reikšmę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ūtina, kad šių reikšmių mato vienetai būtų identiš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3 užrašome koeficientą , surinkę joje formulę =a1/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4 užrašome bendrą aptarnaujančių kanalų skai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5 užrašome paraiškų skaičių eilėje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C7C-B099-4126-B6B8-E245DDBEB8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3.1. G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rdelėje A3 atsiranda vien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Gardelėse A1:A5 surenkame išeities duomenis – konkrečius skaičius, o gardelėje A3 – formulę =a1/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ako tikimybė randama surinkus gardelėje B1 formulę =1/(A5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antykinė aptarnavimo geba randama surinkus gardelėje B2 formulę =1-B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bsoliuti aptarnavimo geba randama surinkus gardelėje B3 formulę =a1*b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laukiantis eilės klientų skaičius randamas surinkus gardelėje B4 formulę =a5/2*((a5+1)/(a3+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kliento laukimo eilėje laikas randamas surinkus gardelėje B5 formulę =b4/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kliento buvimas kontoroje laikas randamas surinkus gardelėje B6 formulę =b4/a1+b2/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užimtų notarų skaičius randamas surinkus gardelėje B7 formulę =b3/a2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80A-F691-489F-9F14-FE3BDC7FDD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2. Gardelėje A3 ne vien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o tikimybė – gardelėje B1 =a3^(a5+1)*(1-a3)/(1-a3^(a5+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antykinė aptarnavimo geba – gardelėje B2 =1-B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i aptarnavimo geba – gardelėje B3 =a1*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laukiantis eilės klientų skaičius – gardelėje B4 =A3^2*((1-A3^A5*(A5+1-A5*A3)))/((1-A3)*((1-A3^(A5+2))))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Dėmesio, atidaromų ir uždaromų skliaustelių skaičius turi būti vienoda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laukimo eilėje laikas – gardelėje B5 =b4/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buvimo sistemoje laikas – gardelėje B6 =B5+B2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užimtų aptarnaujančių kanalų skaičius – gardelėje B7 =b3/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03A-9EBE-4666-95B1-46B2DAD605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Gardelėje A1 užrašome paraiškų srauto intensyvumo reikšmę , gardelėje A2 – paraiškų aptarnavimo intensyvumo reikšm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3 užrašome koeficientą alfa, surinkę joje formulę =a1/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4 užrašome bendrą aptarnaujančių kanalų skaičių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5 užrašome paraiškų skaičių eilėj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6 užrašome koeficientą gama, =a3/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limi du atvejai: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284720" y="5913360"/>
                <a:ext cx="2238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C5F-0520-4B24-868F-ADBEB37113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rindinės samp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tarnavimo kanalas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us žmonių ar (ir) techninių priemonių skaičius, galintis aptarnauti vieną paraiš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iška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iento poreikis kokiai nors operacijai atlikti (sujungti su reikiamu abonementu, suderinti muzikos instrumentą, suremontuoti kokį nors prietaisą ir t.t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iškų srautas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pasiskirstymas laiko atžvilg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iškų srauto intensyvumas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utinis paraiškų skaičius per vieną laiko viene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nos paraiškos aptarnavimo laikas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ikas nuo paraiškos aptarnavimo pradžios iki jos paba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7A0-2C00-4FA0-A394-2F4B086D2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1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1 užrašom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2 surenkame formulę =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3 surenkame formulę =b2*a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4 surenkame formulę =b3*a3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utinėje gardelėje bNr.(n+1) surenkame formul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bNr.n*a3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440480" y="1201680"/>
                <a:ext cx="93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83C-F80F-4E64-A877-40D5F80342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1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1 surenkame =a5*a3^a4/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 laisvojo nario reikšm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2 surenkame formulę  =(c1+sum(b1: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r.(n+1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))^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3 surenkame formulę =A3^(A4+A5)*C2/(A4^A5*FACT(A4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nė šios sistemos aptarnavimo geba randama surinkus gardelėje C4 formulę =1-c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bsoliuti sistemos aptarnavimo geba randama surinkus gardelėje C5 formulę =a1*c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899320" y="1598760"/>
                <a:ext cx="86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01C-A849-40F7-A6AD-F031CB5AFE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1. Daugia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užimt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al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ų skaičius randamas surinkus gardelėje C6 formulę =c5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ė užimtų kanalų dalis randama surinkus gardelėje C7 formulę =c6/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laukiančių aptarnavimo klientų skaičiu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rdelėje C8 formulę =a3^(a4+1)*c2*a5*(a5+1)/(2*a4*.Fact(a4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laukimo eilėje laikas apskaičiuojamas gardelėje C9 pagal formulę =c8/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buvimo kontoroje laikas apskaičiuojamas surinkus gardelėje C10 formulę =c9+c4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932360" y="1557360"/>
                <a:ext cx="863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64D-8A2F-4986-910F-6F5050F058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2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1 užrašom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2 surenkame formulę =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3 surenkame formulę =b2*a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ndru atveju paskutinėje B(Nr.(n+1)) gardelėje surenkame formulę = b(Nr.n)*a3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1 surenkame =a3^a4*(a6-a6^(a5+1))/((1-a6)*FACT(a4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2 surenkame formulę  =(c1+sum(b1:bNr.(n+1)))^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08720" y="1484280"/>
                <a:ext cx="12924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8C0-F770-4306-B615-05ADC3856C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. Daugia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sako tikimybė – gardelė C3, formulė A3^(A4+A5)*C2/(A4^A5*FACT(A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tykinė šios sistemos aptarnavimo geba – gardelė C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ė =1-c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iuti sistemos aptarnavimo geba – gardelė C5, formulė =a1*c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užimtų notarų skaičius – gardelė C6, formulė =c5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ė užimtų kanalų dalis – gardelė C7, formulė =c6/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laukiančių aptarnavimo klientų skaičius – gardelė C8, formulė =a3^(a4+1)*c2*((1-(a5+1-a5*a6)*a6^a4))/(a4*(1-a6)^2*FACT(a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kliento laukimo eilėje laikas – gardelė C9, formulė =c8/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kliento buvimo kontoroje laikas – gardelė C10, formulė =c9+c4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205760" y="1001880"/>
                <a:ext cx="865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970-947B-4ECB-B515-39D272791E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privalu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lima apskaičiuo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k paraiškų bus aptarn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kia dalis paraiškų bus aptarn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k vidutiniškai kanalų bus užim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kią laiko dalį sistema neturės da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k laiko paraiška lauks eilėje ir kt. rodik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635-7BE0-4274-A273-2B23D55AB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lima spręsti ir optimizacinius uždaviniu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uoti aptarnaujančių kanalų kiek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rįsti techninį aprūpinim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komenduoti aptarnavimo trukm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statyti racionalią paraiškų aptarnavimo tvarką ir kt. uždavi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07E-C032-455A-B55F-9883D827C9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elaid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Teigiama, kad MAS vyksta Markovo proc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Šio proceso pagrindinė savybė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t kuriuo momentu tikimybė, kad ateityje MAS bus konkrečios būsenos, priklauso nuo šios sistemos dabartinės būsenos ir nepriklauso nuo to, kaip sistema pateko į šią būsen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493-CD1C-4838-AE4E-5A8F4B18B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elaid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Teigiama, kad paraiškų srautas yra paprasčiausi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utas yr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cionar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araiškų skaič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inantis į sistemą, priklauso nuo nagrinėjamo intervalo trukmės ir nepriklauso nuo jo padė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utui būding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priklausomu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ybė, jei paraiškų, patenkančių į bet kuriuos du nesikertančius laiko intervalus, skaičius nepriklauso nuo to, kiek paraiškų pateko į vieną iš tų interval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utas yr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dinar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jei tikimybė, kad mažame intervale bus daugiau nei viena paraiška, yra be galo maža, palyginti su tikimybe, kad jame bus viena paraiš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001-F2B4-4D9A-B7C2-BC6CD243E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klas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aptarnaujančių kanalų kiek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nkanal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iakanal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klientų nekantrumo lygmen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os be eil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o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eilės ilg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ai laukia eilėje, jei joje yra ne daugiau n klien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ai laukia eilėje, jei aptarnavimo laikas neviršija ri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ai laukia eilėje, jei buvimas joje neviršija ri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paslaugų tipų skaič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ui reikia vienos paslau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ui reikia kelių paslaug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417-92C4-4FC4-9D5C-4FAA8306C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Vienkanalė MAS be ei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inomi du parametr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sraut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aptarnavim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tykinė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iuti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sako tikimyb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00720" y="162864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236000" y="2205000"/>
                <a:ext cx="715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651640" y="3284640"/>
                <a:ext cx="2987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4724280"/>
                <a:ext cx="1511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50920" y="5805360"/>
                <a:ext cx="216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BEE-BFAE-4337-98A9-1D5ACF58D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7:04:53Z</dcterms:created>
  <dc:creator>-</dc:creator>
  <dc:description/>
  <dc:language>en-US</dc:language>
  <cp:lastModifiedBy>user</cp:lastModifiedBy>
  <dcterms:modified xsi:type="dcterms:W3CDTF">2008-02-18T07:00:54Z</dcterms:modified>
  <cp:revision>66</cp:revision>
  <dc:subject/>
  <dc:title>4 tema. Masinio aptarnavimo sistemos</dc:title>
</cp:coreProperties>
</file>