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1A3A-F204-4A0E-99D6-8ED5FA9E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F371-3AB1-4CEE-BD28-D2CC66DD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E144-A387-4E64-B791-EDAACE6E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A16F-8DA6-41E2-B88A-AB1BBEFDE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3DD2-5581-435B-A3DA-FFD1EB0AC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9AD9-3AB9-4D19-B2AF-36271C57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1640-434E-4B07-83A2-40F75829D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5742-5B52-4406-A11B-A6119A836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F81B-1830-471B-A19B-869232D36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9883-4238-4EAD-8F0F-01B86A25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4E95-A0D6-40C4-B8C6-FE91BD8C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3AA3-8630-4D51-BC0D-D9E922B1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6DCA-54EF-420C-8DED-017CFEDBE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 tema. Lošimų teorijos metod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teratūra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. Puškorius. Sprendimų priėmimo teorija. Kiekybiniai metodai: Vadovėlis: – Vilnius: Lietuvos teisės universiteto Leidybos centras, 2001. p.p.115-14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. Puškorius. Matematiniai metodai vadyboje:   Vadovėlis: – Vilnius: TEV, 2001. p.p.263-29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8205-1EEB-44C1-B370-D919B353D84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makso principo taikymo formul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ešininko pralošimų reikšmė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ksimalus taikant konkrečią priešininko strategij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iausia priešininko strate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ibendrin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348000" y="2997360"/>
                <a:ext cx="194472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203640" y="4076640"/>
                <a:ext cx="25272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700360" y="5157720"/>
                <a:ext cx="4392720" cy="108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7919-5FC1-4F1C-B108-66B6C446DF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varbiausios sampra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atinė lošimo vertė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šutinė lošimo vertė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ynoji lošimo vertė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ntykis tarp šių rodikli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5092560" y="1641600"/>
                <a:ext cx="576360" cy="52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5048280" y="2610000"/>
                <a:ext cx="9064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5076720" y="3751200"/>
                <a:ext cx="71136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043520" y="5300640"/>
                <a:ext cx="21589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≤</m:t>
                    </m:r>
                    <m:r>
                      <m:t xml:space="preserve">ν</m:t>
                    </m:r>
                    <m:r>
                      <m:t xml:space="preserve">≤</m:t>
                    </m:r>
                    <m:r>
                      <m:t xml:space="preserve">β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CE15-0C11-4D7F-B50A-5EF29914E1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vyzdžio analiz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atinė lošimo vertė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šutinė lošimo vertė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švados: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1. Grynoji lošimo vertė yra tarp 0 ir 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Norint išlošti daugiau, reikia taikyti  strategijų    rinkin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Reikia nustatyti, kiek dažnai būtina kaitalioti savo aktyviąsias strategij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 Kai taikomos kelios strategijos – mišrios strategij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F159-3435-497D-86CA-26E4415FE47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šimas 2x2. Analitinis sprend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457200" y="1600200"/>
          <a:ext cx="8686440" cy="4924080"/>
        </p:xfrm>
        <a:graphic>
          <a:graphicData uri="http://schemas.openxmlformats.org/drawingml/2006/table">
            <a:tbl>
              <a:tblPr/>
              <a:tblGrid>
                <a:gridCol w="2171880"/>
                <a:gridCol w="2171160"/>
                <a:gridCol w="2171520"/>
                <a:gridCol w="2171880"/>
              </a:tblGrid>
              <a:tr h="12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187280" y="2997360"/>
                <a:ext cx="7113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276720" y="1916280"/>
                <a:ext cx="71280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187280" y="4216320"/>
                <a:ext cx="7207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5219640" y="1916280"/>
                <a:ext cx="1040040" cy="77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7683480" y="1917720"/>
                <a:ext cx="61128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33440" y="5508720"/>
                <a:ext cx="519120" cy="65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D8EC-1FD4-4CFB-A9C7-75C914825D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šimas 2x2. Analitinis sprend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ulė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ūsų strategijų tikimyb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ešininko strategijų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kimyb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ynoji lošimo vert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5292720" y="2133720"/>
                <a:ext cx="3095640" cy="13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5148360" y="3716280"/>
                <a:ext cx="3240000" cy="15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</m:den>
                        </m:f>
                        <m:r>
                          <m:t xml:space="preserve">,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211640" y="5445000"/>
                <a:ext cx="328140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DB79-E8D4-4EBF-8DB2-05454E5A1D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tinis sprend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411280" y="1484280"/>
                <a:ext cx="29005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,5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0,5</m:t>
                        </m:r>
                        <m:r>
                          <m:t xml:space="preserve">=</m:t>
                        </m:r>
                        <m:r>
                          <m:t xml:space="preserve">0,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2484360" y="2852640"/>
                <a:ext cx="320364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2627280" y="4508640"/>
                <a:ext cx="24084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ν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A300-6ADE-4623-8AF1-DCB7218639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finis sprendinys. Lošimai 2xn ir mx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600200"/>
          <a:ext cx="8686440" cy="5257440"/>
        </p:xfrm>
        <a:graphic>
          <a:graphicData uri="http://schemas.openxmlformats.org/drawingml/2006/table">
            <a:tbl>
              <a:tblPr/>
              <a:tblGrid>
                <a:gridCol w="1737360"/>
                <a:gridCol w="1737360"/>
                <a:gridCol w="1737000"/>
                <a:gridCol w="1737360"/>
                <a:gridCol w="1737360"/>
              </a:tblGrid>
              <a:tr h="175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4500720" y="2114640"/>
                <a:ext cx="6300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1060560" y="5445000"/>
                <a:ext cx="69840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042920" y="3645000"/>
                <a:ext cx="771480" cy="93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"/>
              <p:cNvSpPr txBox="1"/>
              <p:nvPr/>
            </p:nvSpPr>
            <p:spPr>
              <a:xfrm>
                <a:off x="2787480" y="2089080"/>
                <a:ext cx="58752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084720" y="2112840"/>
                <a:ext cx="630360" cy="7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7956720" y="2133720"/>
                <a:ext cx="63000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FD3D-4F5B-4309-822C-2FA8E7C6DE0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finio sprendinio algorit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1. Ant ašies 0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žymime vieneto ilgio atkarpą bet kokiu masteliu. Tos atkarpos galuose brėžiame statmenas ašiai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Ox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tieses. Vienodu masteliu ant šių tiesių pažymime taškus, kurių aibė turi apimti didžiausius ir mažiausius mokesčių matricos element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2. Nagrinėjame pirmą kito lošėjo strategiją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B1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. Ant kairės ašies pažymime tašką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a11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, ant dešinės –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a21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. Šiuos taškus sujungiame tiese ir tiesės galus pažymime raidėmis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B1B1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.Taip pat braižome visas kitas tieses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BjBj , j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= 2, 3, ...,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3. Iš 2 punkte gautų tiesių </a:t>
            </a:r>
            <a:r>
              <a:rPr b="1" i="1" lang="lt-LT" sz="2800" spc="-1" strike="noStrike">
                <a:solidFill>
                  <a:srgbClr val="000000"/>
                </a:solidFill>
                <a:latin typeface="Times New Roman"/>
              </a:rPr>
              <a:t>BjBj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ibės išskiriame laužtinę, esančią žemiausiai visų kitų galimų laužtinių. Pažymime tos laužtinės tašką su didžiausia ordinate. Šis taškas S interpretuoja uždavinio sprendin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0F20-E82F-43FB-AD26-B38B3187C8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finio sprendinio algorit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 Iš tašk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nubrėžiame statmenį į ašį 0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Šis statmuo dalija vienetinę atkarpą į dvi dalis. Pažymime to taško projekciją raid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To taško atstumas iki dešinės ašies yra proporcingas strategijo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aikymo tikimybei, o iki kairės ašies – strategijo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aikymo tikimybei. Išmatavus tų atkarpų ilgius ir padalijus iš mastelio, gaunamos tikimybė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1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r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Tašk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rojekcija ant ordinačių ašių nustato grynąją lošimo vertę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. Kito lošėjo aktyviosios strategijos yra tos, kurios eina per tašką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 Jei jų yra daugiau kaip dvi, pasirenkamos bet kurios dvi strategij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7. Lošėj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dviejų grynųjų strategijų taikymo tikimybės apskaičiuojamos taip. Naudodamiesi viena bet kuria ordinačių ašimi, nustatome visą atkarpos ilgį tarp jo aktyviųjų strategijų. Tašk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projekcija ant tos ašies dalija šią atkarpą į dvi dalis, kurių ilgiai proporcingi aktyviųjų strategijų taikymo tikimybė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6704-A1FE-481A-B1F4-6FE1332A4E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748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Lošimų 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sprendimo metodai</a:t>
            </a:r>
            <a:br>
              <a:rPr sz="3200"/>
            </a:b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. Lošimo uždavinių sprendimas iteraciniu metod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Esm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Šis metodas paprastai taikomas tada, kai tikslus sprendimas nebūtin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tliekamas teorinis eksperimentas, t.y. be realių veiksm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rkime, lošėjas A atsitiktiniu būdu pasirenka vieną iš savo strategijų Ai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itas lošėjas B daro tokį ėjimą, kuris mažiausiai naudingas lošėjui 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ošėjas A, žinodamas konkrečią lošėjo B strategiją, pasirenka tokią strategiją, kuri leidžia išlošti daugiausia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abar lošėjas B žino du lošėjo A ėjim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Įvertinęs pirmąsias dvi lošėjo A pasirinktas strategijas, jis atsako tokia strategija, kuri minimizuoja lošėjo A vidutinį išloš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C547-6B9E-45EB-A48B-AB287C484B5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Įv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šimų teorija – sprendimai konfliktinėje situacijoj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šimai su nuline suma – vienas išlošia tiek, kiek pralošia ki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šimų matrica – analizės šaltin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Ėjimai – variantų pasirinkimai. Jie bū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uo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sitiktini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šrū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ja – vieno arba kokio nors derinio variantų pasirinkim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timali strategija – rekomendacija, kokias strategijas                                          ir kiek dažnai taikyti, norint maksimizuoti savo išloš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grindinis žaidimo principas – priešininkas ne mažiau proting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5BD1-4761-499C-9132-8BC41520C8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686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Lošimų 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sprendimo metodai</a:t>
            </a:r>
            <a:br>
              <a:rPr sz="3200"/>
            </a:b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. Lošimo uždavinių sprendimas iteraciniu metodu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Times New Roman"/>
              </a:rPr>
              <a:t>2. Iteracijos metu kiekvienas lošėjas, įvertinęs visus kito lošėjo ėjimus, į kitą priešininko ėjimą atsako optimaliąja strategija. Padaryti ėjimai sudaro kokią nors mišriąją strategiją, susidedančia iš grynųjų strategijų su jų panaudojimo dažnia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t-LT" sz="3200" spc="-1" strike="noStrike">
                <a:solidFill>
                  <a:srgbClr val="000000"/>
                </a:solidFill>
                <a:latin typeface="Times New Roman"/>
              </a:rPr>
              <a:t>3. Vidutinė lošimo vertė, gauta iteraciniu metodu (</a:t>
            </a:r>
            <a:r>
              <a:rPr b="1" i="1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i="1" lang="lt-LT" sz="3200" spc="-1" strike="noStrike">
                <a:solidFill>
                  <a:srgbClr val="000000"/>
                </a:solidFill>
                <a:latin typeface="Times New Roman"/>
              </a:rPr>
              <a:t>*), artėja prie grynosios lošimo vertės, o lošėjų strategijų taikymo tikimybės artėja prie tikslių jų reikšmių p1 ,  p2 ,  …,  pm  ir  q1 ,  q2 ,  …,  qn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2F91-1A67-45D9-8810-81F6D31E8F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Lošimų 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sprendimo metodai</a:t>
            </a:r>
            <a:br>
              <a:rPr sz="3200"/>
            </a:b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. Lošimo uždavinių sprendimas iteraciniu meto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8964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vyzdys. Žinomas jo tikslus sprendin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476360" y="2924280"/>
          <a:ext cx="6408360" cy="3313080"/>
        </p:xfrm>
        <a:graphic>
          <a:graphicData uri="http://schemas.openxmlformats.org/drawingml/2006/table">
            <a:tbl>
              <a:tblPr/>
              <a:tblGrid>
                <a:gridCol w="1602360"/>
                <a:gridCol w="1601640"/>
                <a:gridCol w="1602000"/>
                <a:gridCol w="1602360"/>
              </a:tblGrid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476360" y="2070000"/>
                <a:ext cx="640872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,5</m:t>
                    </m:r>
                    <m:r>
                      <m:t xml:space="preserve">;</m:t>
                    </m:r>
                    <m:r>
                      <m:t xml:space="preserve">0,5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7</m:t>
                    </m:r>
                    <m:r>
                      <m:t xml:space="preserve">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ν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2004840" y="3860640"/>
                <a:ext cx="5335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031840" y="4724280"/>
                <a:ext cx="57168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5219640" y="2997360"/>
                <a:ext cx="571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583080" y="2997360"/>
                <a:ext cx="533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6732720" y="2997360"/>
                <a:ext cx="64764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2028960" y="5427720"/>
                <a:ext cx="6937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6389-18A5-48AF-ADDD-2333C35C25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Lošimų 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sprendimo metodai</a:t>
            </a:r>
            <a:br>
              <a:rPr sz="3200"/>
            </a:b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. Lošimo uždavinių sprendimas iteraciniu meto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eracinė lentel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0" y="2205000"/>
          <a:ext cx="9144000" cy="4653000"/>
        </p:xfrm>
        <a:graphic>
          <a:graphicData uri="http://schemas.openxmlformats.org/drawingml/2006/table">
            <a:tbl>
              <a:tblPr/>
              <a:tblGrid>
                <a:gridCol w="912960"/>
                <a:gridCol w="917280"/>
                <a:gridCol w="911520"/>
                <a:gridCol w="917280"/>
                <a:gridCol w="912960"/>
                <a:gridCol w="912960"/>
                <a:gridCol w="917280"/>
                <a:gridCol w="911520"/>
                <a:gridCol w="917280"/>
                <a:gridCol w="912960"/>
              </a:tblGrid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/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/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/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/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/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1908000" y="2287440"/>
                <a:ext cx="533520" cy="6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2768760" y="2306520"/>
                <a:ext cx="571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4788000" y="2276640"/>
                <a:ext cx="53316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5651640" y="2276640"/>
                <a:ext cx="5713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6659640" y="2205000"/>
                <a:ext cx="550800" cy="7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bot"/>
                      </m:barPr>
                      <m:e>
                        <m:r>
                          <m:t xml:space="preserve">ν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8459640" y="2349360"/>
                <a:ext cx="432000" cy="57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ν</m:t>
                        </m:r>
                      </m:e>
                    </m:ba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"/>
              <p:cNvSpPr txBox="1"/>
              <p:nvPr/>
            </p:nvSpPr>
            <p:spPr>
              <a:xfrm>
                <a:off x="7451640" y="2349360"/>
                <a:ext cx="60480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ν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D31D-F6D0-4A2B-9FB2-B900FC17E8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915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Lošimų 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sprendimo metodai</a:t>
            </a:r>
            <a:br>
              <a:rPr sz="3200"/>
            </a:b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2. Lošimo uždavinių sprendimas tiesinio programavimo meto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Uždavinio formulav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Formuluojame lošimo uždavinį taip, kad rastume lošėjo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optimaliąją strategiją  = (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p1 ,  p2 ,  ... ,  pm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ši optimalioji mišrioji strategija turi suteikti galimybę lošėjui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 išlošti ne mažiau grynosios lošimo vertės </a:t>
            </a:r>
            <a:r>
              <a:rPr b="1" i="1" lang="lt-LT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aikant tiesinio programavimo metodą reikia, kad būtų teisinga sąlyga, jog </a:t>
            </a:r>
            <a:r>
              <a:rPr b="1" i="1" lang="lt-LT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&gt; 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Kadangi mokesčių matrica gali turėti ir neigiamų elementų, tai grynoji lošimo vertė irgi gali būti neigiama. Bet šį trūkumą nesunku pašalinti pridėjus mažiausią mokesčių matricos elementą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prie kiekvieno mokesčių matricos ele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Gaunama nauja matrica, kuria naudojantis apskaičiuojamos visos strategijų 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pi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ikimybės (jos nuo tos operacijos nesikeičia), o grynoji lošimo vertė yra </a:t>
            </a:r>
            <a:r>
              <a:rPr b="1" i="1" lang="lt-LT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 + R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. Atlikę tokią mokesčių matricos transformaciją įvykdysime sąlygą, kad </a:t>
            </a:r>
            <a:r>
              <a:rPr b="1" i="1" lang="lt-LT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i="1" lang="lt-LT" sz="2400" spc="-1" strike="noStrike">
                <a:solidFill>
                  <a:srgbClr val="000000"/>
                </a:solidFill>
                <a:latin typeface="Times New Roman"/>
              </a:rPr>
              <a:t>’ </a:t>
            </a: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&gt;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AEF1-EA67-43FA-9020-A911BC4FAC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Lošimų 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sprendimo metodai</a:t>
            </a:r>
            <a:br>
              <a:rPr sz="3200"/>
            </a:b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2. Lošimo uždavinių sprendimas tiesinio programavimo metod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ulė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2411280" y="2190600"/>
                <a:ext cx="5747040" cy="238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≥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 ,</m:t>
                            </m:r>
                          </m:e>
                          <m:e/>
                        </m:d>
                        <m:d>
                          <m:dPr>
                            <m:begChr m:val="{"/>
                            <m:endChr m:val="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  <m:r>
                              <m:t xml:space="preserve">−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411280" y="4508640"/>
                <a:ext cx="2403720" cy="105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ν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3276720" y="5516640"/>
                <a:ext cx="460188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ν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</m:den>
                    </m:f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m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5435640" y="4724280"/>
                <a:ext cx="216072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ν</m:t>
                        </m:r>
                      </m:e>
                      <m:sup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ν</m:t>
                    </m:r>
                    <m:r>
                      <m:t xml:space="preserve">+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28CA7-A42C-4559-8696-CC74519C177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7" dur="indefinite" restart="never" nodeType="tmRoot">
          <p:childTnLst>
            <p:seq>
              <p:cTn id="648" dur="indefinite" nodeType="mainSeq">
                <p:childTnLst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Lošimų 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sprendimo metodai</a:t>
            </a:r>
            <a:br>
              <a:rPr sz="3200"/>
            </a:b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3. Lošimo uždavinių sprendimas taikant kompiuter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Standartizuojame uždavin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isos nelygybės yra ribinės sąlyg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L yra tikslo funkcij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Uždavinys sprendžia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sitelkus programą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BB14-DBC0-4233-8EA3-739B157598C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Lošimų 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sprendimo metodai</a:t>
            </a:r>
            <a:br>
              <a:rPr sz="3200"/>
            </a:b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3. Lošimo uždavinių sprendimas taikant kompiuter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rengiamasis etap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Įjungiame Excel programą: Start /Microsoft Exc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sirenkame langelius, kuriuose užrašomos kintamųjų  reikšmės. Pirmoje (viršutinėje) – kintamųjų simboliai, antroje – jų reikš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Tarkime, kintamųjų simbolius užrašysime langeliuose C1:W1, o jų reikšmes – langeliuose C2:W2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radinės kintamųjų reikšmės pasirinktos lygios nuliu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Langeliuose C3:W5 užrašome ribinių sąlygų koeficient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15F0-4F03-42DA-8B2C-6BBB9243AE5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Lošimų 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sprendimo metodai</a:t>
            </a:r>
            <a:br>
              <a:rPr sz="3200"/>
            </a:b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3. Lošimo uždavinių sprendimas taikant kompiuter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2. Parengiamasis etap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Langeliuose A3:An užrašome ribinių sąlygų laisvuosius nari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Langeliuose B3:Bn užrašome ribinių sąlygų apskaičiavimo formu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Bet kokiame laisvame langelyje (tarkime, W1) užrašome tikslo funkcijos apskaičiavimo formulč =C2 +D2 +E2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Visi reikiami duomenys įves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Arial"/>
              </a:rPr>
              <a:t>Pavedame kompiuteriui sprčsti šį uždavin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99AB-8391-4707-9CB0-720D8FB7B4B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Lošimų 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sprendimo metodai</a:t>
            </a:r>
            <a:br>
              <a:rPr sz="3200"/>
            </a:b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3. Lošimo uždavinių sprendimas taikant kompiuter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4000" spc="-1" strike="noStrike">
                <a:solidFill>
                  <a:srgbClr val="000000"/>
                </a:solidFill>
                <a:latin typeface="Arial"/>
              </a:rPr>
              <a:t>2. Sprendima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Tools / Solver. Dialogo langelyje atlikti tokius veiksmu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Set Target Cell: W1 (žymeklį uždėti ant langelio W1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ažymėti Min, nes norima minimizuoti tikslo funkcij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Changing Cells: C2: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(nuoroda į visus kintamuosiu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Add (nuorodos į ribines sąlyga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19EC0-FCDE-40A6-A6DF-F3AD657A72F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Lošimų 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lt-LT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i="1" lang="lt-LT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 sprendimo metodai</a:t>
            </a:r>
            <a:br>
              <a:rPr sz="3200"/>
            </a:b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3. Lošimo uždavinių sprendimas taikant kompiuter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Reference: B3:B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(nuorodos į ribinių sąlygų formul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&gt;= 1 (visose ribinėse sąlygose yra ženklai daugiau arba lygu vienetu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Constraints: A3:An (nuorodos į ribinių sąlygų laisvuosius nariu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Add (nuorodos, kad visi kintamieji turi būti neneigiami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 Reference:C2:</a:t>
            </a:r>
            <a:r>
              <a:rPr b="1" lang="lt-LT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&gt;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ve / Keep Solver Solution / 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0E98-0FCF-46CF-92A8-FCF8ADA73A0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1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1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1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1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kesčių mat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0" y="1600200"/>
          <a:ext cx="9143280" cy="4997160"/>
        </p:xfrm>
        <a:graphic>
          <a:graphicData uri="http://schemas.openxmlformats.org/drawingml/2006/table">
            <a:tbl>
              <a:tblPr/>
              <a:tblGrid>
                <a:gridCol w="1523880"/>
                <a:gridCol w="1523520"/>
                <a:gridCol w="1524240"/>
                <a:gridCol w="1524240"/>
                <a:gridCol w="1524240"/>
                <a:gridCol w="1523160"/>
              </a:tblGrid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,,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395280" y="3716280"/>
                <a:ext cx="571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469800" y="5661000"/>
                <a:ext cx="5414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24000" y="2781360"/>
                <a:ext cx="8632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050920" y="1839960"/>
                <a:ext cx="474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3489480" y="1870200"/>
                <a:ext cx="5094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4916520" y="1900080"/>
                <a:ext cx="507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"/>
              <p:cNvSpPr txBox="1"/>
              <p:nvPr/>
            </p:nvSpPr>
            <p:spPr>
              <a:xfrm>
                <a:off x="6499080" y="1882800"/>
                <a:ext cx="49536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"/>
              <p:cNvSpPr txBox="1"/>
              <p:nvPr/>
            </p:nvSpPr>
            <p:spPr>
              <a:xfrm>
                <a:off x="7940520" y="1827360"/>
                <a:ext cx="50832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"/>
              <p:cNvSpPr txBox="1"/>
              <p:nvPr/>
            </p:nvSpPr>
            <p:spPr>
              <a:xfrm>
                <a:off x="2050920" y="2898720"/>
                <a:ext cx="4748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3419640" y="2924280"/>
                <a:ext cx="4744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5060880" y="2960640"/>
                <a:ext cx="4748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516720" y="2941560"/>
                <a:ext cx="47448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8028000" y="2928960"/>
                <a:ext cx="4744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965240" y="3895560"/>
                <a:ext cx="5050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3492360" y="3860640"/>
                <a:ext cx="50508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003640" y="3919680"/>
                <a:ext cx="50508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6573960" y="3922560"/>
                <a:ext cx="53496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8013600" y="3919680"/>
                <a:ext cx="534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2036880" y="5791320"/>
                <a:ext cx="5349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119560" y="5791320"/>
                <a:ext cx="5637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533760" y="5791320"/>
                <a:ext cx="5652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m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6545160" y="5786280"/>
                <a:ext cx="50508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8172360" y="5851440"/>
                <a:ext cx="5637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E636-D2D9-456A-855D-AEA7B68B1F7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ošimo uždavinių sprendimo metoda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ikant minimakso princip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finiu b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tini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eraciniu meto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formulavus tiesinio programavimo uždavin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rendimas taikant kompiuterį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6336-4EDB-48F7-884E-4461D324A4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ždavinio formulavima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vo ir priešininko strategijų numaty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 Lošimo matricos sudary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 Matricos redukavim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5021-1104-4179-BFA7-A0313B871AC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Pavyzdys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Arial"/>
              </a:rPr>
              <a:t>Turime mokesčių matric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0" y="1600200"/>
          <a:ext cx="9143280" cy="4997160"/>
        </p:xfrm>
        <a:graphic>
          <a:graphicData uri="http://schemas.openxmlformats.org/drawingml/2006/table">
            <a:tbl>
              <a:tblPr/>
              <a:tblGrid>
                <a:gridCol w="1523880"/>
                <a:gridCol w="1523520"/>
                <a:gridCol w="1524240"/>
                <a:gridCol w="1524240"/>
                <a:gridCol w="1524240"/>
                <a:gridCol w="1523160"/>
              </a:tblGrid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395280" y="3716280"/>
                <a:ext cx="571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85640" y="5843520"/>
                <a:ext cx="5079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24000" y="2781360"/>
                <a:ext cx="8632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2050920" y="1839960"/>
                <a:ext cx="474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3489480" y="1870200"/>
                <a:ext cx="5094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916520" y="1900080"/>
                <a:ext cx="507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499080" y="1916280"/>
                <a:ext cx="49536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7924680" y="1965240"/>
                <a:ext cx="5079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493560" y="4724280"/>
                <a:ext cx="5382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F6AF-D6D2-4DF9-875F-EB9A9E5A389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 redukav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0" y="1600200"/>
          <a:ext cx="9143280" cy="4997160"/>
        </p:xfrm>
        <a:graphic>
          <a:graphicData uri="http://schemas.openxmlformats.org/drawingml/2006/table">
            <a:tbl>
              <a:tblPr/>
              <a:tblGrid>
                <a:gridCol w="1523880"/>
                <a:gridCol w="1523520"/>
                <a:gridCol w="1524240"/>
                <a:gridCol w="1524240"/>
                <a:gridCol w="1524240"/>
                <a:gridCol w="1523160"/>
              </a:tblGrid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050920" y="1839960"/>
                <a:ext cx="474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395280" y="3716280"/>
                <a:ext cx="571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324000" y="2781360"/>
                <a:ext cx="8632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4916520" y="1900080"/>
                <a:ext cx="5079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516720" y="1949400"/>
                <a:ext cx="495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7956720" y="1989000"/>
                <a:ext cx="50796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493560" y="4724280"/>
                <a:ext cx="5382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5FFC-2791-4B41-8365-1370DDC6B6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makso principo taiky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0" y="1600200"/>
          <a:ext cx="9143280" cy="4997160"/>
        </p:xfrm>
        <a:graphic>
          <a:graphicData uri="http://schemas.openxmlformats.org/drawingml/2006/table">
            <a:tbl>
              <a:tblPr/>
              <a:tblGrid>
                <a:gridCol w="1523880"/>
                <a:gridCol w="1523520"/>
                <a:gridCol w="1524240"/>
                <a:gridCol w="1524240"/>
                <a:gridCol w="1524240"/>
                <a:gridCol w="1523160"/>
              </a:tblGrid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95280" y="3716280"/>
                <a:ext cx="5716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11200" y="5843520"/>
                <a:ext cx="4557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324000" y="2781360"/>
                <a:ext cx="863280" cy="62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2050920" y="1839960"/>
                <a:ext cx="474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489480" y="1852560"/>
                <a:ext cx="5094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916520" y="1917720"/>
                <a:ext cx="50796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6499080" y="1900080"/>
                <a:ext cx="49536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7958160" y="1827360"/>
                <a:ext cx="473040" cy="61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493560" y="4724280"/>
                <a:ext cx="5382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0516-1D8E-4B26-9C83-1542AAA184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inimakso principo taikymo formul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ūsų išlošių reikšmė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malus taikant konkrečią savo strategij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riausia mūsų strateg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pibendrin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440080" y="2735280"/>
                <a:ext cx="2879640" cy="73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570040" y="4003560"/>
                <a:ext cx="274500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2484360" y="5445000"/>
                <a:ext cx="374328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C537-0F0A-48F0-B894-3CE90C89D2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9T08:09:06Z</dcterms:created>
  <dc:creator>-</dc:creator>
  <dc:description/>
  <dc:language>en-US</dc:language>
  <cp:lastModifiedBy>user</cp:lastModifiedBy>
  <dcterms:modified xsi:type="dcterms:W3CDTF">2009-01-19T08:35:56Z</dcterms:modified>
  <cp:revision>64</cp:revision>
  <dc:subject/>
  <dc:title>5 tema. Lošimų teorija</dc:title>
</cp:coreProperties>
</file>