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1B2-4320-4186-9B0D-F79BE8AA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182-4025-4046-8E40-28F3F0C9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123-1DF2-4423-A11D-26191BC8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E68-715B-45FD-9E3F-EB9AEDA4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4AF-7F9D-42B1-8BA5-AAB038BB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A41-56B6-4D9F-92AA-58FDD2B4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610-639A-4DE8-BCF2-DE58756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74E-3118-4D1B-8948-8A037A65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89E-6E15-4492-9559-BAA008E7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CFC-5DCD-4110-B91E-96961267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6A1-DBCF-4062-A6A4-A9F209C7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6E8-A2F7-4EB6-8938-DBDC4CE3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A2B-16F7-4B7E-9DD7-2ADA7101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tema. Lošimų teorijos meto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tū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Puškorius. Sprendimų priėmimo teorija. Kiekybiniai metodai: Vadovėlis: – Vilnius: Lietuvos teisės universiteto Leidybos centras, 2001. p.p.115-1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Puškorius. Matematiniai metodai vadyboje:   Vadovėlis: – Vilnius: TEV, 2001. p.p.263-2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4D6-47F1-451C-8FBF-2CA2FC44C6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kso principo taikymo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ešininko pralošimų reikšm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simalus taikant konkrečią priešininko strategi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iausia priešininko strate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bendri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348000" y="2997360"/>
                <a:ext cx="19447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03640" y="4076640"/>
                <a:ext cx="2527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700360" y="5157720"/>
                <a:ext cx="43927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824-C549-482B-9BCB-1677FD8240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arbiausios samp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tinė lošimo vertė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šutinė lošimo vertė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ynoji lošimo vertė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tykis tarp šių rodikl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092560" y="1641600"/>
                <a:ext cx="576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48280" y="2610000"/>
                <a:ext cx="906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76720" y="3751200"/>
                <a:ext cx="711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043520" y="5300640"/>
                <a:ext cx="21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E02-CD86-4DB4-9291-7EBD39A90E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vyzdžio analiz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tinė lošimo vertė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šutinė lošimo vertė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švado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. Grynoji lošimo vertė yra tarp 0 ir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Norint išlošti daugiau, reikia taikyti  strategijų    rinkin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Reikia nustatyti, kiek dažnai būtina kaitalioti savo aktyviąsias strategi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Kai taikomos kelios strategijos – mišrios strateg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26F-34C8-45D7-9DAC-E82D771C6D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šimas 2x2. Analitinis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686440" cy="4924080"/>
        </p:xfrm>
        <a:graphic>
          <a:graphicData uri="http://schemas.openxmlformats.org/drawingml/2006/table">
            <a:tbl>
              <a:tblPr/>
              <a:tblGrid>
                <a:gridCol w="2171880"/>
                <a:gridCol w="2171160"/>
                <a:gridCol w="2171520"/>
                <a:gridCol w="217188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7280" y="2997360"/>
                <a:ext cx="711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1916280"/>
                <a:ext cx="712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87280" y="4216320"/>
                <a:ext cx="7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19640" y="1916280"/>
                <a:ext cx="104004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683480" y="1917720"/>
                <a:ext cx="611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33440" y="5508720"/>
                <a:ext cx="5191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064-5863-478F-8D17-9CB23888D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šimas 2x2. Analitinis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ūsų strategijų tikimyb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ešininko strategij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kimyb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ynoji lošimo vert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292720" y="2133720"/>
                <a:ext cx="30956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148360" y="3716280"/>
                <a:ext cx="32400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11640" y="5445000"/>
                <a:ext cx="32814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6B6-5702-405B-BD4C-71BE557EA8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tinis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1280" y="1484280"/>
                <a:ext cx="29005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2852640"/>
                <a:ext cx="3203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508640"/>
                <a:ext cx="2408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9D3-8B28-48D9-98B8-E8AA5F333B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s sprendinys. Lošimai 2xn ir m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686440" cy="5257440"/>
        </p:xfrm>
        <a:graphic>
          <a:graphicData uri="http://schemas.openxmlformats.org/drawingml/2006/table">
            <a:tbl>
              <a:tblPr/>
              <a:tblGrid>
                <a:gridCol w="1737360"/>
                <a:gridCol w="1737360"/>
                <a:gridCol w="1737000"/>
                <a:gridCol w="1737360"/>
                <a:gridCol w="1737360"/>
              </a:tblGrid>
              <a:tr h="17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00720" y="2114640"/>
                <a:ext cx="630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060560" y="5445000"/>
                <a:ext cx="698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42920" y="3645000"/>
                <a:ext cx="771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87480" y="2089080"/>
                <a:ext cx="5875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084720" y="2112840"/>
                <a:ext cx="6303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956720" y="2133720"/>
                <a:ext cx="6300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44D-405B-4D48-A531-6EE18233BA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o sprendinio algori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1. Ant ašies 0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žymime vieneto ilgio atkarpą bet kokiu masteliu. Tos atkarpos galuose brėžiame statmenas aš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tieses. Vienodu masteliu ant šių tiesių pažymime taškus, kurių aibė turi apimti didžiausius ir mažiausius mokesčių matricos element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2. Nagrinėjame pirmą kito lošėjo strategiją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 Ant kairės ašies pažymime tašką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1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, ant dešinės –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2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 Šiuos taškus sujungiame tiese ir tiesės galus pažymime raidėmi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1B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Taip pat braižome visas kitas tiese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jBj , j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= 2, 3, ...,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3. Iš 2 punkte gautų tiesi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jBj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ės išskiriame laužtinę, esančią žemiausiai visų kitų galimų laužtinių. Pažymime tos laužtinės tašką su didžiausia ordinate. Šis taškas S interpretuoja uždavinio sprendin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0AC-6AEB-4CB9-B289-F092C342F3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o sprendinio algori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š tašk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brėžiame statmenį į ašį 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Šis statmuo dalija vienetinę atkarpą į dvi dalis. Pažymime to taško projekciją rai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o taško atstumas iki dešinės ašies yra proporcingas strategijo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ikymo tikimybei, o iki kairės ašies – strategijo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ikymo tikimybei. Išmatavus tų atkarpų ilgius ir padalijus iš mastelio, gaunamos tikimybė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ašk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jekcija ant ordinačių ašių nustato grynąją lošimo ve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Kito lošėjo aktyviosios strategijos yra tos, kurios eina per tašk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Jei jų yra daugiau kaip dvi, pasirenkamos bet kurios dvi strateg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Lošėj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viejų grynųjų strategijų taikymo tikimybės apskaičiuojamos taip. Naudodamiesi viena bet kuria ordinačių ašimi, nustatome visą atkarpos ilgį tarp jo aktyviųjų strategijų. Tašk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jekcija ant tos ašies dalija šią atkarpą į dvi dalis, kurių ilgiai proporcingi aktyviųjų strategijų taikymo tikimybė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AAC-BBE6-4ABB-A4EC-62F73C055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is metodas paprastai taikomas tada, kai tikslus sprendimas nebūti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liekamas teorinis eksperimentas, t.y. be realių veiksm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kime, lošėjas A atsitiktiniu būdu pasirenka vieną iš savo strategijų Ai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tas lošėjas B daro tokį ėjimą, kuris mažiausiai naudingas lošėjui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šėjas A, žinodamas konkrečią lošėjo B strategiją, pasirenka tokią strategiją, kuri leidžia išlošti daugiausi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bar lošėjas B žino du lošėjo A ėjim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ertinęs pirmąsias dvi lošėjo A pasirinktas strategijas, jis atsako tokia strategija, kuri minimizuoja lošėjo A vidutinį išloš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D00-D6FA-4BCB-B816-970F0674C4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Įv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šimų teorija – sprendimai konfliktinėje situacijo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šimai su nuline suma – vienas išlošia tiek, kiek pralošia k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šimų matrica – analizės šalti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Ėjimai – variantų pasirinkimai. Jie bū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uo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sitiktin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šrū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ja – vieno arba kokio nors derinio variantų pasirink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 strategija – rekomendacija, kokias strategijas                                          ir kiek dažnai taikyti, norint maksimizuoti savo išloš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rindinis žaidimo principas – priešininkas ne mažiau protin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63-96D3-40CB-B64C-1F93DB4D6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2. Iteracijos metu kiekvienas lošėjas, įvertinęs visus kito lošėjo ėjimus, į kitą priešininko ėjimą atsako optimaliąja strategija. Padaryti ėjimai sudaro kokią nors mišriąją strategiją, susidedančia iš grynųjų strategijų su jų panaudojimo dažni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3. Vidutinė lošimo vertė, gauta iteraciniu metodu (</a:t>
            </a:r>
            <a:r>
              <a:rPr b="1" i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*), artėja prie grynosios lošimo vertės, o lošėjų strategijų taikymo tikimybės artėja prie tikslių jų reikšmių p1 ,  p2 ,  …,  pm  ir  q1 ,  q2 ,  …,  q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9CB-474E-429A-A6B5-3633A822C3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vyzdys. Žinomas jo tikslus sprendin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76360" y="2924280"/>
          <a:ext cx="6408360" cy="3313080"/>
        </p:xfrm>
        <a:graphic>
          <a:graphicData uri="http://schemas.openxmlformats.org/drawingml/2006/table">
            <a:tbl>
              <a:tblPr/>
              <a:tblGrid>
                <a:gridCol w="1602360"/>
                <a:gridCol w="1601640"/>
                <a:gridCol w="1602000"/>
                <a:gridCol w="160236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76360" y="2070000"/>
                <a:ext cx="6408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5</m:t>
                    </m:r>
                    <m:r>
                      <m:t xml:space="preserve">;</m:t>
                    </m:r>
                    <m:r>
                      <m:t xml:space="preserve">0,5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04840" y="3860640"/>
                <a:ext cx="533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31840" y="4724280"/>
                <a:ext cx="57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219640" y="299736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83080" y="2997360"/>
                <a:ext cx="53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32720" y="299736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28960" y="5427720"/>
                <a:ext cx="693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508-677E-43F3-AA16-3EFEDCAA43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cinė lentel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2205000"/>
          <a:ext cx="9144000" cy="4653000"/>
        </p:xfrm>
        <a:graphic>
          <a:graphicData uri="http://schemas.openxmlformats.org/drawingml/2006/table">
            <a:tbl>
              <a:tblPr/>
              <a:tblGrid>
                <a:gridCol w="912960"/>
                <a:gridCol w="917280"/>
                <a:gridCol w="911520"/>
                <a:gridCol w="917280"/>
                <a:gridCol w="912960"/>
                <a:gridCol w="912960"/>
                <a:gridCol w="917280"/>
                <a:gridCol w="911520"/>
                <a:gridCol w="917280"/>
                <a:gridCol w="91296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8000" y="2287440"/>
                <a:ext cx="533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68760" y="2306520"/>
                <a:ext cx="57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788000" y="2276640"/>
                <a:ext cx="53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51640" y="2276640"/>
                <a:ext cx="57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659640" y="2205000"/>
                <a:ext cx="550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ν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2349360"/>
                <a:ext cx="43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ν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451640" y="2349360"/>
                <a:ext cx="604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ν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478-303A-48CB-AA0E-C544D38F06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Lošimo uždavinių sprendimas tiesinio programavimo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Uždavinio formul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ormuluojame lošimo uždavinį taip, kad rastume lošėj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optimaliąją strategiją  = 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p1 ,  p2 ,  ... ,  p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ši optimalioji mišrioji strategija turi suteikti galimybę lošėjui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išlošti ne mažiau grynosios lošimo vertės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aikant tiesinio programavimo metodą reikia, kad būtų teisinga sąlyga, jog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&gt;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dangi mokesčių matrica gali turėti ir neigiamų elementų, tai grynoji lošimo vertė irgi gali būti neigiama. Bet šį trūkumą nesunku pašalinti pridėjus mažiausią mokesčių matricos elementą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 kiekvieno mokesčių matricos ele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aunama nauja matrica, kuria naudojantis apskaičiuojamos visos strategij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p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kimybės (jos nuo tos operacijos nesikeičia), o grynoji lošimo vertė yra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 + 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Atlikę tokią mokesčių matricos transformaciją įvykdysime sąlygą, kad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446-EC84-420F-A5E3-89BC8E227A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Lošimo uždavinių sprendimas tiesinio programavimo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11280" y="2190600"/>
                <a:ext cx="5747040" cy="23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11280" y="4508640"/>
                <a:ext cx="24037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76720" y="5516640"/>
                <a:ext cx="4601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35640" y="4724280"/>
                <a:ext cx="216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F45-0394-4F75-9177-7488808A3D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ndartizuojame uždavin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os nelygybės yra ribinės sąly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 yra tikslo funk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avinys sprendži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telkus program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2E9-40D5-40F8-BDFE-1E30735FBA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rengiamasis etap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jungiame Excel programą: Start /Microsoft Exc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enkame langelius, kuriuose užrašomos kintamųjų  reikšmės. Pirmoje (viršutinėje) – kintamųjų simboliai, antroje – jų reikš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rkime, kintamųjų simbolius užrašysime langeliuose C1:W1, o jų reikšmes – langeliuose C2:W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dinės kintamųjų reikšmės pasirinktos lygios nuliu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ngeliuose C3:W5 užrašome ribinių sąlygų koeficien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9FC-B35F-4ADC-91B9-5A86CB46CE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Parengiamasis etap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ngeliuose A3:An užrašome ribinių sąlygų laisvuosius nar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ngeliuose B3:Bn užrašome ribinių sąlygų apskaičiavimo form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t kokiame laisvame langelyje (tarkime, W1) užrašome tikslo funkcijos apskaičiavimo formulč =C2 +D2 +E2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i reikiami duomenys įve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vedame kompiuteriui sprčsti šį uždavin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CA8-CF90-47A5-B771-272DD43FBD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2. Sprendim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ools / Solver. Dialogo langelyje atlikti tokius veiksm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et Target Cell: W1 (žymeklį uždėti ant langelio W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žymėti Min, nes norima minimizuoti tikslo funkcij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Changing Cells: C2: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(nuoroda į visus kintamuosi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dd (nuorodos į ribines sąlyg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A11-D8D2-4606-B693-729C3A001A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Reference: B3:B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nuorodos į ribinių sąlygų formu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&gt;= 1 (visose ribinėse sąlygose yra ženklai daugiau arba lygu vienetu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onstraints: A3:An (nuorodos į ribinių sąlygų laisvuosius nari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dd (nuorodos, kad visi kintamieji turi būti neneigiam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Reference:C2: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/ Keep Solver Solution / 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645-EB12-4298-9020-6F6C2B9B04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kesčių ma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9800" y="5661000"/>
                <a:ext cx="5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89480" y="1870200"/>
                <a:ext cx="509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916520" y="1900080"/>
                <a:ext cx="50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99080" y="1882800"/>
                <a:ext cx="495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940520" y="1827360"/>
                <a:ext cx="5083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050920" y="2898720"/>
                <a:ext cx="474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19640" y="2924280"/>
                <a:ext cx="474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060880" y="2960640"/>
                <a:ext cx="47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16720" y="2941560"/>
                <a:ext cx="4744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028000" y="2928960"/>
                <a:ext cx="474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65240" y="389556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92360" y="386064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03640" y="3919680"/>
                <a:ext cx="505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573960" y="3922560"/>
                <a:ext cx="534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013600" y="3919680"/>
                <a:ext cx="534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036880" y="5791320"/>
                <a:ext cx="534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19560" y="5791320"/>
                <a:ext cx="563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33760" y="5791320"/>
                <a:ext cx="565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545160" y="5786280"/>
                <a:ext cx="505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172360" y="5851440"/>
                <a:ext cx="563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AF0-C597-471D-9095-56EB963DCC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šimo uždavinių sprendimo metoda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ant minimakso princip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u b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ti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raciniu met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formulavus tiesinio programavimo uždavin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ndimas taikant kompiuter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2CF-414B-49CF-8C4D-12513A74E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davinio formulavim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vo ir priešininko strategijų numa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ošimo matricos sudar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atricos redukavi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F4F-EC32-44B8-BA0E-01542E17BA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vyzdy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urime mokesčių matric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5640" y="5843520"/>
                <a:ext cx="507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89480" y="1870200"/>
                <a:ext cx="509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16520" y="1900080"/>
                <a:ext cx="50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499080" y="1916280"/>
                <a:ext cx="495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924680" y="1965240"/>
                <a:ext cx="507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93560" y="4724280"/>
                <a:ext cx="538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202-2F98-4F21-9255-066822786E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 redukav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916520" y="1900080"/>
                <a:ext cx="50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516720" y="1949400"/>
                <a:ext cx="495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956720" y="1989000"/>
                <a:ext cx="507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3560" y="4724280"/>
                <a:ext cx="538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302-7A3E-4A4F-9855-BEDFE2E56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kso principo 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11200" y="584352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89480" y="1852560"/>
                <a:ext cx="5094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16520" y="1917720"/>
                <a:ext cx="507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499080" y="1900080"/>
                <a:ext cx="49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958160" y="1827360"/>
                <a:ext cx="473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93560" y="4724280"/>
                <a:ext cx="538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9E2-997D-41F5-BECE-3373606F9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kso principo taikymo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ūsų išlošių reikšm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alus taikant konkrečią savo strategi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iausia mūsų strate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bendri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40080" y="2735280"/>
                <a:ext cx="2879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70040" y="4003560"/>
                <a:ext cx="2745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84360" y="5445000"/>
                <a:ext cx="3743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B77-8DAD-4CC6-8597-8BCD9B4D1B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8:09:06Z</dcterms:created>
  <dc:creator>-</dc:creator>
  <dc:description/>
  <dc:language>en-US</dc:language>
  <cp:lastModifiedBy>user</cp:lastModifiedBy>
  <dcterms:modified xsi:type="dcterms:W3CDTF">2009-01-19T08:35:56Z</dcterms:modified>
  <cp:revision>64</cp:revision>
  <dc:subject/>
  <dc:title>5 tema. Lošimų teorija</dc:title>
</cp:coreProperties>
</file>