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41CD-36A1-40B8-B418-340C741B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6764-8607-45D2-A9C3-0751D72C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374B-F148-4E78-B436-019FFB18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3903-1DEF-4C80-A226-BC701C8A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4447-71BF-4C0E-84F6-63694A84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9962-280E-49FE-9988-559F732F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B6D4-FD9C-4295-9DB1-8C7D7A9E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AFA4-F42D-43F6-9126-B45C69CE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0D50-5F6C-4C6A-909F-8A6994DD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3BEA-1B76-47A4-8035-F261D88C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B1A7-BD47-4224-A194-F45FAB98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DB25-4CB2-4264-BD63-35FD311D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D709-70F3-427D-9A3A-E4C522DAE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 tema. Sprendimų medži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teratū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S. Puškorius. Sprendimų priėmimo teorija. Kiekybiniai metodai: Vadovėlis: – Vilnius: Lietuvos teisės universiteto Leidybos centras, 2001. p.p.96-1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S. Puškorius. Matematiniai metodai vadyboje: Vadovėlis: – Vilnius: TEV, 2001. p.p.303-324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18CC-757E-4E08-A8AB-D76A097643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pildomos informacijos vertin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ejeso formul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kirta įvykių tikimybėms tiksli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am atliekamas specialus eksperimentas. Jo esmė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yra grupė nesutaikomų hipotezių H1, H2, ..., H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ų hipotezių tikimybės iki bandymo P(Hi), i=1, 2, ..., n žino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liktas eksperimentas, kurio metu įvyko įvykis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Reikia apskaičiuoti naujas tų hipotezių tikimybių reikš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Jos randamos pagal Bejeso formulę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64AB-BF66-457B-93CE-A510495411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Bejeso formu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ikimybių reikšmės po eksper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čia               - sąlyginė tikimybė, kad teisinga hipotezė Hi, jei įvyko įvykis 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(A/Hi) - sąlyginė tikimybė, kad įvyks įvyki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ki eksperimento pradžios, kai teisinga hipotezė H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038240" y="2098800"/>
                <a:ext cx="5843520" cy="17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/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/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476360" y="4071960"/>
                <a:ext cx="10098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1B10-C7A6-4015-8FF2-5CC0AAD49C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pildomos informacijos į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ždavinys.</a:t>
            </a:r>
            <a:r>
              <a:rPr b="1" lang="en-US" sz="2800" spc="-1" strike="noStrike">
                <a:solidFill>
                  <a:srgbClr val="000000"/>
                </a:solidFill>
                <a:latin typeface="TimesL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Žemės sklypo savininkas kreipiasi į ekonomist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uris už 100 Lt įvertina visų pretendent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konominę padėtį ir nusta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urį iš jų pasirink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r kokia yra pasirinkto nuomininko nemokumo (vadinasi, ir mokumo) tikimybė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vininkas gali pasinaudoti šiomis rekomendacijomis arba nepasinaudo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ikia sudaryti sprendimų medį ir pagrįsti sprendim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4C54-2514-42DF-AFB6-68E606164F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cijos šalti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kspertas. Jo paskirt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ikslinti nuomininkų mokos tikimy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ksperto kvalifikacija – jo prognozių rezulta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2997360"/>
          <a:ext cx="9036000" cy="4151160"/>
        </p:xfrm>
        <a:graphic>
          <a:graphicData uri="http://schemas.openxmlformats.org/drawingml/2006/table">
            <a:tbl>
              <a:tblPr/>
              <a:tblGrid>
                <a:gridCol w="2340000"/>
                <a:gridCol w="2108160"/>
                <a:gridCol w="2428920"/>
                <a:gridCol w="215892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kom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ci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Įvyki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dras skaič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o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eig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eig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dras skaiči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438280" y="3678120"/>
                <a:ext cx="6480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22680" y="3616200"/>
                <a:ext cx="7416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11240" y="5175360"/>
                <a:ext cx="5760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41120" y="4484520"/>
                <a:ext cx="60804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7AC9-916C-4564-9AA5-8403F81636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udojami simboli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Įvykis – privatus nuomininkas sumo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Įvykis – privatus nuomininkas nesumo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kspertas praeityje rekomendavo nuomoti privači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kspertas praeityje nerekomendavo nuomoti privači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kimybė, kad privatus sumokė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kimybė, kad privatus nesumokė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kimybė, kad kartu pasirodė įvykia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ksperto rekomendacijų praeityje pasiskirsty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potezių (nuomininkai sumokės, nesumokės),       atsižvelgus į eksperto rekomendaciją, reikšmė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830160" y="1541520"/>
                <a:ext cx="474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808200" y="2044800"/>
                <a:ext cx="504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47600" y="2409840"/>
                <a:ext cx="474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2400" y="2852640"/>
                <a:ext cx="509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00080" y="3341520"/>
                <a:ext cx="10508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00080" y="3770280"/>
                <a:ext cx="11192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4280" y="4216320"/>
                <a:ext cx="11876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0" y="4653000"/>
                <a:ext cx="14590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4280" y="5116680"/>
                <a:ext cx="14590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63F0-0F23-4F7B-883B-85D021F815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cijos šalti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ksperto kvalifikacija – jo prognozių rezulta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ąlyginės tikimybė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2852640"/>
          <a:ext cx="9144000" cy="4116600"/>
        </p:xfrm>
        <a:graphic>
          <a:graphicData uri="http://schemas.openxmlformats.org/drawingml/2006/table">
            <a:tbl>
              <a:tblPr/>
              <a:tblGrid>
                <a:gridCol w="3111480"/>
                <a:gridCol w="2803680"/>
                <a:gridCol w="322884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komen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ci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eig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eig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0" y="5084640"/>
                <a:ext cx="576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0" y="4221000"/>
                <a:ext cx="60804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276960" y="1990800"/>
                <a:ext cx="14590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100480" y="2867040"/>
                <a:ext cx="17305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765600" y="3522600"/>
                <a:ext cx="13683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624720" y="3510000"/>
                <a:ext cx="13953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246480" y="4172040"/>
                <a:ext cx="87156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282840" y="4987800"/>
                <a:ext cx="8715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445080" y="4154400"/>
                <a:ext cx="6778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588000" y="5013360"/>
                <a:ext cx="6778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E8E4-B4B8-4D29-9317-F0B296A309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kimybių              reikšm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kimybių, kad kartu pasirodė įvykiai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A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siskirsty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983040" y="558720"/>
                <a:ext cx="13381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6" name=""/>
          <p:cNvGraphicFramePr/>
          <p:nvPr/>
        </p:nvGraphicFramePr>
        <p:xfrm>
          <a:off x="0" y="3213000"/>
          <a:ext cx="9144000" cy="26924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552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komen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ci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Įvyki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o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eig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6x0,75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0,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x0,25=0,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eig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4x0,75=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x0,25=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28520" y="5329080"/>
                <a:ext cx="65088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38240" y="4632480"/>
                <a:ext cx="6080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484360" y="3857760"/>
                <a:ext cx="5731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726080" y="3887640"/>
                <a:ext cx="509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473960" y="3573360"/>
                <a:ext cx="11271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7B8C-8B94-4325-BB01-65196AB4EF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kimybių              reikšm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ąlyginė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ominink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ų mokos tikimybių pasiskirsty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sižvelgus į eksperto vertini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995640" y="631800"/>
                <a:ext cx="1224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5" name=""/>
          <p:cNvGraphicFramePr/>
          <p:nvPr/>
        </p:nvGraphicFramePr>
        <p:xfrm>
          <a:off x="250920" y="3068640"/>
          <a:ext cx="8353440" cy="3240000"/>
        </p:xfrm>
        <a:graphic>
          <a:graphicData uri="http://schemas.openxmlformats.org/drawingml/2006/table">
            <a:tbl>
              <a:tblPr/>
              <a:tblGrid>
                <a:gridCol w="2784240"/>
                <a:gridCol w="2784600"/>
                <a:gridCol w="2784600"/>
              </a:tblGrid>
              <a:tr h="734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komen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ci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Įvyki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o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eig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eig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95280" y="4724280"/>
                <a:ext cx="6080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74760" y="5516640"/>
                <a:ext cx="6508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276720" y="3933720"/>
                <a:ext cx="5731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012000" y="3933720"/>
                <a:ext cx="5731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90F8-EA37-4F6D-80D5-C5A9A82336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ksperto nuomonės į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ag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2060640"/>
            <a:ext cx="9143640" cy="4608000"/>
            <a:chOff x="0" y="2060640"/>
            <a:chExt cx="9143640" cy="4608000"/>
          </a:xfrm>
        </p:grpSpPr>
        <p:sp>
          <p:nvSpPr>
            <p:cNvPr id="143" name=""/>
            <p:cNvSpPr/>
            <p:nvPr/>
          </p:nvSpPr>
          <p:spPr>
            <a:xfrm>
              <a:off x="3206520" y="3793680"/>
              <a:ext cx="2657880" cy="2874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3510720" y="3709440"/>
              <a:ext cx="2029680" cy="2690280"/>
              <a:chOff x="3510720" y="3709440"/>
              <a:chExt cx="2029680" cy="2690280"/>
            </a:xfrm>
          </p:grpSpPr>
          <p:sp>
            <p:nvSpPr>
              <p:cNvPr id="145" name=""/>
              <p:cNvSpPr/>
              <p:nvPr/>
            </p:nvSpPr>
            <p:spPr>
              <a:xfrm>
                <a:off x="4193640" y="3709440"/>
                <a:ext cx="731160" cy="505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657240" y="4625640"/>
                <a:ext cx="585000" cy="37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845960" y="4625640"/>
                <a:ext cx="585000" cy="37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943440" y="4214880"/>
                <a:ext cx="1182600" cy="410400"/>
              </a:xfrm>
              <a:custGeom>
                <a:avLst/>
                <a:gdLst/>
                <a:ahLst/>
                <a:rect l="l" t="t" r="r" b="b"/>
                <a:pathLst>
                  <a:path w="1164" h="468">
                    <a:moveTo>
                      <a:pt x="0" y="468"/>
                    </a:moveTo>
                    <a:lnTo>
                      <a:pt x="600" y="0"/>
                    </a:lnTo>
                    <a:lnTo>
                      <a:pt x="1164" y="46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3510720" y="4983480"/>
                <a:ext cx="310680" cy="141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065480" y="4993920"/>
                <a:ext cx="280080" cy="140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4705200" y="4983480"/>
                <a:ext cx="310680" cy="141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260320" y="4993920"/>
                <a:ext cx="280080" cy="140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249000" y="3819240"/>
              <a:ext cx="335160" cy="26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97640" y="4377600"/>
              <a:ext cx="15667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j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0320" y="4677480"/>
              <a:ext cx="18651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50                  38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3242880" y="5115600"/>
              <a:ext cx="2172960" cy="1231200"/>
              <a:chOff x="3242880" y="5115600"/>
              <a:chExt cx="2172960" cy="1231200"/>
            </a:xfrm>
          </p:grpSpPr>
          <p:sp>
            <p:nvSpPr>
              <p:cNvPr id="157" name=""/>
              <p:cNvSpPr/>
              <p:nvPr/>
            </p:nvSpPr>
            <p:spPr>
              <a:xfrm>
                <a:off x="3242880" y="5115600"/>
                <a:ext cx="344160" cy="12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rot="-54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/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=0,8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870720" y="5115600"/>
                <a:ext cx="344160" cy="12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rot="-54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/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=0,1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474080" y="5115600"/>
                <a:ext cx="344160" cy="12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rot="-54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/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=0,9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71680" y="5115600"/>
                <a:ext cx="344160" cy="12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rot="-54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/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=0,0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230640" y="6432120"/>
              <a:ext cx="254196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00               0    4000            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3793680"/>
              <a:ext cx="2657520" cy="2874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304200" y="3709440"/>
              <a:ext cx="2029680" cy="2690280"/>
              <a:chOff x="304200" y="3709440"/>
              <a:chExt cx="2029680" cy="2690280"/>
            </a:xfrm>
          </p:grpSpPr>
          <p:sp>
            <p:nvSpPr>
              <p:cNvPr id="164" name=""/>
              <p:cNvSpPr/>
              <p:nvPr/>
            </p:nvSpPr>
            <p:spPr>
              <a:xfrm>
                <a:off x="987120" y="3709440"/>
                <a:ext cx="731160" cy="505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0720" y="4625640"/>
                <a:ext cx="585000" cy="37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639440" y="4625640"/>
                <a:ext cx="585000" cy="37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36920" y="4214880"/>
                <a:ext cx="1182600" cy="410400"/>
              </a:xfrm>
              <a:custGeom>
                <a:avLst/>
                <a:gdLst/>
                <a:ahLst/>
                <a:rect l="l" t="t" r="r" b="b"/>
                <a:pathLst>
                  <a:path w="1164" h="468">
                    <a:moveTo>
                      <a:pt x="0" y="468"/>
                    </a:moveTo>
                    <a:lnTo>
                      <a:pt x="600" y="0"/>
                    </a:lnTo>
                    <a:lnTo>
                      <a:pt x="1164" y="46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304200" y="4983480"/>
                <a:ext cx="310680" cy="141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58960" y="4993920"/>
                <a:ext cx="280080" cy="140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1498680" y="4983480"/>
                <a:ext cx="310680" cy="141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053800" y="4993920"/>
                <a:ext cx="280080" cy="140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1880" y="3814200"/>
              <a:ext cx="3351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99720" y="4208760"/>
              <a:ext cx="88992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           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1120" y="4377600"/>
              <a:ext cx="15667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j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83800" y="4677480"/>
              <a:ext cx="18651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750                  38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36360" y="5115600"/>
              <a:ext cx="2172960" cy="1231200"/>
              <a:chOff x="36360" y="5115600"/>
              <a:chExt cx="2172960" cy="1231200"/>
            </a:xfrm>
          </p:grpSpPr>
          <p:sp>
            <p:nvSpPr>
              <p:cNvPr id="177" name=""/>
              <p:cNvSpPr/>
              <p:nvPr/>
            </p:nvSpPr>
            <p:spPr>
              <a:xfrm>
                <a:off x="36360" y="5115600"/>
                <a:ext cx="344160" cy="12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rot="-54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=0,7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4200" y="5115600"/>
                <a:ext cx="344160" cy="12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rot="-54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=0,2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267560" y="5115600"/>
                <a:ext cx="344160" cy="12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rot="-54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=0,9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865160" y="5115600"/>
                <a:ext cx="344160" cy="12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rot="-54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=0,0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24120" y="6432120"/>
              <a:ext cx="254196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00               0    4000            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94680" y="3793680"/>
              <a:ext cx="2657880" cy="2874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6698880" y="3709440"/>
              <a:ext cx="2030400" cy="2690280"/>
              <a:chOff x="6698880" y="3709440"/>
              <a:chExt cx="2030400" cy="2690280"/>
            </a:xfrm>
          </p:grpSpPr>
          <p:sp>
            <p:nvSpPr>
              <p:cNvPr id="184" name=""/>
              <p:cNvSpPr/>
              <p:nvPr/>
            </p:nvSpPr>
            <p:spPr>
              <a:xfrm>
                <a:off x="7381800" y="3709440"/>
                <a:ext cx="731520" cy="505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845400" y="4625640"/>
                <a:ext cx="585000" cy="37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034120" y="4625640"/>
                <a:ext cx="585000" cy="37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131960" y="4214880"/>
                <a:ext cx="1182600" cy="410400"/>
              </a:xfrm>
              <a:custGeom>
                <a:avLst/>
                <a:gdLst/>
                <a:ahLst/>
                <a:rect l="l" t="t" r="r" b="b"/>
                <a:pathLst>
                  <a:path w="1164" h="468">
                    <a:moveTo>
                      <a:pt x="0" y="468"/>
                    </a:moveTo>
                    <a:lnTo>
                      <a:pt x="600" y="0"/>
                    </a:lnTo>
                    <a:lnTo>
                      <a:pt x="1164" y="46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6698880" y="4983480"/>
                <a:ext cx="310680" cy="141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253640" y="4993920"/>
                <a:ext cx="280440" cy="140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7893720" y="4983480"/>
                <a:ext cx="311040" cy="141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448840" y="4993920"/>
                <a:ext cx="280440" cy="140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6425280" y="3824640"/>
              <a:ext cx="335160" cy="26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85800" y="4377600"/>
              <a:ext cx="15667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j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78480" y="4677480"/>
              <a:ext cx="18651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500                  38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6431040" y="5115600"/>
              <a:ext cx="2172960" cy="1231200"/>
              <a:chOff x="6431040" y="5115600"/>
              <a:chExt cx="2172960" cy="1231200"/>
            </a:xfrm>
          </p:grpSpPr>
          <p:sp>
            <p:nvSpPr>
              <p:cNvPr id="196" name=""/>
              <p:cNvSpPr/>
              <p:nvPr/>
            </p:nvSpPr>
            <p:spPr>
              <a:xfrm>
                <a:off x="6431040" y="5115600"/>
                <a:ext cx="344160" cy="12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rot="-54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/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=0,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058880" y="5115600"/>
                <a:ext cx="344160" cy="12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rot="-54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/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=0,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62240" y="5115600"/>
                <a:ext cx="344160" cy="12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rot="-54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/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=0,9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59840" y="5115600"/>
                <a:ext cx="344160" cy="12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rot="-54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/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=0,0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6418800" y="6432120"/>
              <a:ext cx="254196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00               0    4000            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1352520" y="2060640"/>
              <a:ext cx="6382800" cy="1637640"/>
              <a:chOff x="1352520" y="2060640"/>
              <a:chExt cx="6382800" cy="1637640"/>
            </a:xfrm>
          </p:grpSpPr>
          <p:sp>
            <p:nvSpPr>
              <p:cNvPr id="202" name=""/>
              <p:cNvSpPr/>
              <p:nvPr/>
            </p:nvSpPr>
            <p:spPr>
              <a:xfrm>
                <a:off x="4199400" y="2060640"/>
                <a:ext cx="731520" cy="505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98880" y="2612520"/>
                <a:ext cx="578880" cy="362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1352520" y="2287080"/>
                <a:ext cx="2846520" cy="141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930920" y="2287080"/>
                <a:ext cx="1785960" cy="426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4547160" y="2908440"/>
                <a:ext cx="2200320" cy="78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05040" y="2918880"/>
                <a:ext cx="530280" cy="77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284800" y="2634480"/>
                <a:ext cx="755640" cy="32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5662440" y="2449800"/>
                <a:ext cx="0" cy="18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5443560" y="2792520"/>
              <a:ext cx="65196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6200" y="4967280"/>
              <a:ext cx="261504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       A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       A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       A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21320" y="2697840"/>
              <a:ext cx="11764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00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81760" y="4219560"/>
              <a:ext cx="88992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           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57680" y="4208760"/>
              <a:ext cx="88992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           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4E8D-835D-415E-82B3-4C840EEB01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lno vidurkiai 2 ir 3 stačiakampiu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stačiakampy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(S1)=50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,81+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,19=4050 L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(S2)=40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,95+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,05=3800 L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stačiakampy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(S1)=50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,5+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,05=2500 L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(S2)=40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,95+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,05=3800 L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čia W(S1) - vidurkis, kurį skaičiuojant panaudota papildoma informaci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A068-B215-4B18-AD64-CD3F96D734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limyb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irenkant situacijos analizės metodą, reik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žvelgti galimų sprendimų variantų aibę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kaupti kuo daugiau informacijos apie kiekvieną iš jų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skaičiuoti (jei tai įmanoma) kiekvieno sprendimo pasek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r pasiūlyti vieno iš tų variantų pasirinkimo metodik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ba bent jau suteikti galimybę logiškai analizuoti tų sprendimų aibę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8E49-8867-4679-A7C7-26EDF1E877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lutinės rekomendaci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ndame pelno vidurki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Kai naudojamasi eksperto rekomendacijomis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(I1)=405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,8+38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,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=3900 L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Kai ekspertas nekviečia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(I2)=3800 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lutinis atsakymas yra tok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inaudoti eksperto paslaugomis, nes gauna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lnas yra didesnis: 3900 Lt vietoj 3800 L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to, matome, kad ekspertui galima mokėti ne daugiau kaip 200 Lt (40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800), nes mokant daugiau pelnas bus mažesnis už 3800 L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i eksperto rekomendacija yra teigiam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ikia pasirinkti pirmą strategij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.y. išnuomoti žemės sklypą privačiam savininkui, jei ta rekomendacija yra neigiama - išnuomoti sklypą žemės ūkio bendrij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1C78-7E89-4803-882C-D932408E1D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ždavinių sprendimas Excel aplinkoj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Įjungiame Excel program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rdelėse C2, D2, E2,... surenkame hipotezių tikimy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rdelėse C3, D3, E3,...surenkame atitinkamai sąlygines įvyki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ikimy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rdelėje C4 – =c2*c3, D4 – =d2*d3, E4 –=e2*e4,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rdelėje B2 –=c4+d4+e4,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rdelėse – C5 – = c4/b2, D5 – =d4/b2, E5 – =e4/b2,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i ieškomos tikimybė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E911-736C-4C0C-957B-E0FA3427F7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cialistų atrankos atvejis pagal anglų kalbos  žinių lygmen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roblemos sprendimo planas. Reik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agrinėti tik tuos pretendentus, kurių išsilavinimas, patirtis, karjera, asmeninės savybės atitinka šioms pareigoms keliamus reikalavim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statyti pretendentų anglų kalbos žinių lygmenį kaip papildomą 1 punkto reikalavim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psispręsti, kaip tas lygmuo bus vertina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daryti pretendentų atrankos sprendimų med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pskaičiuoti įvairių sprendimų variantų pasek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grįsti papildomos informacijos paieškos poreik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koreguoti sprendimų priėmimo med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daryti išvadas ir pateikti rekomendacij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4CD8-BD33-439C-8F68-F089FABF20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ikiamas anglų kalbos lygmu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klauso nuo pareigybinių funkcijų, kurias turi vykdyti pretendent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šskiriami 3 lygmeny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rmas – žemiausi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tras – vidutin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r trečias – aukščiausia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CBAF-0243-4EF7-BB9B-4F9AD1B315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tendentų grup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udijavę anglų kalbą mokykloje ir tobulinęsi savarankiškai (Strategija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nkę specialius kursus (Strategija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urintys aukštąjį anglų kalbos specialybės išsilavinimą (Strategija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bę (dirbantys) užsienyje (Strategija 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5756-CD28-4D7A-B0C5-B4FD324C95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rankos etap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Kai pasitikima turimais apie pretendentus duomenim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Kai pretendentai atrankos metu laiko vieną test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Kai sėkmingai įveikę pirmąjį testą pretendentai laiko antrą testą ir t.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0D52-AA1C-4FC1-A23E-98E313FD014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ndimų medžio diagrama be testav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rimi duomen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195640" y="2708280"/>
                <a:ext cx="495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1619280" y="3516480"/>
            <a:ext cx="749160" cy="531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24600" y="3444840"/>
            <a:ext cx="750960" cy="531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33720" y="3527280"/>
            <a:ext cx="7509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29240" y="3527280"/>
            <a:ext cx="749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239920" y="2727360"/>
            <a:ext cx="2013120" cy="81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516480" y="2727360"/>
            <a:ext cx="736560" cy="8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53040" y="2727360"/>
            <a:ext cx="647640" cy="7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53040" y="2727360"/>
            <a:ext cx="1807920" cy="83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20960" y="3019320"/>
            <a:ext cx="34920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27320" y="3127320"/>
            <a:ext cx="37476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56120" y="3119400"/>
            <a:ext cx="36036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34040" y="3054240"/>
            <a:ext cx="37296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945880" y="4086360"/>
            <a:ext cx="43668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19640" y="4092480"/>
            <a:ext cx="2196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62480" y="4086360"/>
            <a:ext cx="403200" cy="72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79840" y="4886280"/>
            <a:ext cx="73980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49640" y="4886280"/>
            <a:ext cx="63036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97200" y="4886280"/>
            <a:ext cx="58752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541400" y="4073400"/>
            <a:ext cx="43812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16600" y="4078440"/>
            <a:ext cx="21960" cy="69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57640" y="4073400"/>
            <a:ext cx="403200" cy="72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76800" y="4873680"/>
            <a:ext cx="58248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45160" y="4873680"/>
            <a:ext cx="54756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92720" y="4873680"/>
            <a:ext cx="64764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916240" y="3971880"/>
            <a:ext cx="43812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91440" y="3978360"/>
            <a:ext cx="2196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34280" y="3971880"/>
            <a:ext cx="401400" cy="72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580000" y="4653000"/>
            <a:ext cx="64764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05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84720" y="4869000"/>
            <a:ext cx="648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486080" y="4064040"/>
            <a:ext cx="43632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59120" y="4068720"/>
            <a:ext cx="2052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00160" y="4064040"/>
            <a:ext cx="403200" cy="72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09600" y="4857840"/>
            <a:ext cx="84132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92360" y="5157720"/>
            <a:ext cx="86652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050920" y="4869000"/>
            <a:ext cx="72072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28880" y="2160720"/>
            <a:ext cx="1130400" cy="56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ran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test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04000" y="4724280"/>
            <a:ext cx="50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927840" y="244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5772240" y="2894040"/>
                <a:ext cx="4158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189240" y="2997360"/>
                <a:ext cx="41580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197240" y="3127320"/>
                <a:ext cx="416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F7A6-35FA-4435-841E-E95BFCBCE822}" type="slidenum">
              <a:t>26</a:t>
            </a:fld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ndimų medžio diagrama 1 te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enas te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195640" y="2708280"/>
                <a:ext cx="495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1619280" y="3516480"/>
            <a:ext cx="749160" cy="531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24600" y="3444840"/>
            <a:ext cx="750960" cy="531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33720" y="3527280"/>
            <a:ext cx="7509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29240" y="3527280"/>
            <a:ext cx="749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2239920" y="2727360"/>
            <a:ext cx="2013120" cy="81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516480" y="2727360"/>
            <a:ext cx="736560" cy="8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53040" y="2727360"/>
            <a:ext cx="647640" cy="7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253040" y="2727360"/>
            <a:ext cx="1807920" cy="83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20960" y="3019320"/>
            <a:ext cx="34920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27320" y="3127320"/>
            <a:ext cx="37476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056120" y="3119400"/>
            <a:ext cx="36036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34040" y="3054240"/>
            <a:ext cx="37296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945880" y="4086360"/>
            <a:ext cx="43668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4092480"/>
            <a:ext cx="2196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462480" y="4086360"/>
            <a:ext cx="403200" cy="72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27280" y="4581360"/>
            <a:ext cx="73980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149640" y="4886280"/>
            <a:ext cx="63036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97200" y="4886280"/>
            <a:ext cx="58752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4541400" y="4073400"/>
            <a:ext cx="43812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16600" y="4078440"/>
            <a:ext cx="21960" cy="69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057640" y="4073400"/>
            <a:ext cx="403200" cy="72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40360" y="4724280"/>
            <a:ext cx="64764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43280" y="5084640"/>
            <a:ext cx="64800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92720" y="4873680"/>
            <a:ext cx="64764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5916240" y="3971880"/>
            <a:ext cx="43812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91440" y="3978360"/>
            <a:ext cx="2196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434280" y="3971880"/>
            <a:ext cx="401400" cy="72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80000" y="4653000"/>
            <a:ext cx="64764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03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84720" y="4869000"/>
            <a:ext cx="648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1486080" y="4064040"/>
            <a:ext cx="43632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959120" y="4068720"/>
            <a:ext cx="2052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000160" y="4064040"/>
            <a:ext cx="403200" cy="72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209600" y="4857840"/>
            <a:ext cx="84132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92360" y="5157720"/>
            <a:ext cx="86652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24000" y="4941720"/>
            <a:ext cx="72072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08360" y="1989000"/>
            <a:ext cx="113040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e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04000" y="4724280"/>
            <a:ext cx="72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8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27840" y="244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5772240" y="2894040"/>
                <a:ext cx="4158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189240" y="2997360"/>
                <a:ext cx="41580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197240" y="3127320"/>
                <a:ext cx="416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5F0A-BA4A-4400-987A-4CF54B8C86E5}" type="slidenum">
              <a:t>27</a:t>
            </a:fld>
          </a:p>
        </p:txBody>
      </p:sp>
    </p:spTree>
  </p:cSld>
  <p:transition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ndimų medžio diagrama 2 test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 tes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195640" y="2708280"/>
                <a:ext cx="495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1619280" y="3516480"/>
            <a:ext cx="749160" cy="531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24600" y="3444840"/>
            <a:ext cx="750960" cy="531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33720" y="3527280"/>
            <a:ext cx="7509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29240" y="3527280"/>
            <a:ext cx="749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239920" y="2727360"/>
            <a:ext cx="2013120" cy="81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3516480" y="2727360"/>
            <a:ext cx="736560" cy="8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253040" y="2727360"/>
            <a:ext cx="647640" cy="7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253040" y="2727360"/>
            <a:ext cx="1807920" cy="83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20960" y="3019320"/>
            <a:ext cx="34920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27320" y="3127320"/>
            <a:ext cx="37476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056120" y="3119400"/>
            <a:ext cx="36036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34040" y="3054240"/>
            <a:ext cx="37296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945880" y="4086360"/>
            <a:ext cx="43668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419640" y="4092480"/>
            <a:ext cx="2196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462480" y="4086360"/>
            <a:ext cx="403200" cy="72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627280" y="4581360"/>
            <a:ext cx="73980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49640" y="4886280"/>
            <a:ext cx="63036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697200" y="4886280"/>
            <a:ext cx="6588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541400" y="4073400"/>
            <a:ext cx="43812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016600" y="4078440"/>
            <a:ext cx="21960" cy="69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057640" y="4073400"/>
            <a:ext cx="403200" cy="72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140360" y="4653000"/>
            <a:ext cx="64764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43280" y="5084640"/>
            <a:ext cx="64800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292720" y="4873680"/>
            <a:ext cx="64764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916240" y="3971880"/>
            <a:ext cx="43812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391440" y="3978360"/>
            <a:ext cx="2196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434280" y="3971880"/>
            <a:ext cx="401400" cy="72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580000" y="4653000"/>
            <a:ext cx="64764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02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84720" y="4869000"/>
            <a:ext cx="648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1486080" y="4064040"/>
            <a:ext cx="43632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959120" y="4068720"/>
            <a:ext cx="2052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00160" y="4064040"/>
            <a:ext cx="403200" cy="72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09600" y="4857840"/>
            <a:ext cx="84132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692360" y="5157720"/>
            <a:ext cx="86652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124000" y="4941720"/>
            <a:ext cx="72072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708360" y="1989000"/>
            <a:ext cx="113040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804000" y="4724280"/>
            <a:ext cx="72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8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927840" y="244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5772240" y="2894040"/>
                <a:ext cx="4158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3189240" y="2997360"/>
                <a:ext cx="41580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4197240" y="3127320"/>
                <a:ext cx="416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4759-E04C-465E-914A-D00CECD7EEF2}" type="slidenum">
              <a:t>28</a:t>
            </a:fld>
          </a:p>
        </p:txBody>
      </p:sp>
    </p:spTree>
  </p:cSld>
  <p:transition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šv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Matome, kad situacija pateikus vieną testą ženkliai pasikeitė. Net prasčiausios pirmos grupės pirmo žinių lygmens pretendentai bus pripažinti tinkamais pusantro karto rečiau nei netestuoj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Geriausias sprendimas yra pasirinkti pretendentą iš ketvirtos grupės, nes tuo atveju net 84 proc. atrinktų tikrai atitiks norimą lygmenį. Nedaug skiriasi ir pretendentai iš trečios grupės – 77 proc. iš jų yra tinka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Jei norima dar daugiau patikimų rezultatų, galima pateikti dar vieną testą tiems, kurie išlaikė pirmąj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Matome, kad tikimybės jau nebesikeičia taip, kaip tikėtasi. Tai reiškia, kad testavimo procedūra turi savo taikymo riba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D3BE-0247-4AAA-ABEC-F529800D0E1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ks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grindinis sprendimų medžio tikslas – pavaizduoti visus sprendimus ir situacij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sijusias tarpusavyje įvairiais būda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ad būtų galima pastebėti visus sprendimų variantus ir svarbiausius veiksnius bei pasirinkti atitinkamus analizės metod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ks vaizdas yra vadina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prendimų medžio dia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75DF-34F2-492E-A08D-62FA7A7D7E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ežastys, dėl kurių šis metodas retai taiko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žnas specialistas nėra susipažinęs su šio metodo galimybėm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sigendama literatūros šiuo klausimu ir sėkmingų šios diagramos taikytų pavyzdžių praktinėje valdymo veikloj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žnai manoma, kad tai tik abstraktūs samprotavimai, neturintys apčiuopiamos praktinės naud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pakankamai suvokiami kiekybiniai priimamų sprendimų vertinimo metodai, būtinybė juos itin kruopščiai atrinkti, siejant juos su konkrečia situacija ir priimamų sprendimų pasekmėm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5AA5-C9CD-4D67-8E2D-241E93E199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prendimų medžio diagramos element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šaka – vienintelė galima linija, sujungianti arba du mazgus, arba mazgą ir sprendimo rezultatą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sprendimų mazgas – priimamų sprendimų taškas. Žymimas stačiakampi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įvykių mazgas– taškas, žymintis galimų situacijų aibę. Žymimas apskritim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ir sprendimų rezultatas – kiekybinis konkrečių sprendimų ir situacijų įvertis, einant vieninteliu keliu nuo pradžios iki ga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Sprendimų medžio diagrama– įvairių sprendimų, situacijų ir jų pasekmių vaizd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5DD9-FFD7-41FB-A03A-35F56A16D8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ždav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Žemės sklypo savininkas sprendžia klausimą, kam jį nuomo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ra du variantai: išnuomoti privačiam savininkui ir gauti 5000 Lt pelno (strategija S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ba išnuomoti žemės ūkio bendrijai ir gauti 4000 Lt pel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strategija S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omojant žemę kiekvienu atveju galimi du variantai: nuomininkai gali sumokėti nuom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ba nesumokėti jos (bankrutuoti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Įvertintos tokių įvykių tikimybės: privatus savininkas sumokės nuomą su tikimybe P(A1)=0,75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nkrutuos (ir, vadinasi, nesumokės nuomos) su tikimybe P(A2)=0,25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žemės ūkio bendrija sumokės nuomą su tikimybe P(A3)=0,95, nesumokės jos - P(A4)=0,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2FDD-6316-44CA-A747-6AAA1C6F39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klypo nuomos dia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rendimų med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5440" y="1647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1700280"/>
            <a:ext cx="914400" cy="77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3500280"/>
            <a:ext cx="1008000" cy="843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32720" y="35002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606400" y="2484360"/>
            <a:ext cx="1965240" cy="11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468520"/>
            <a:ext cx="2255760" cy="12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92360" y="2276640"/>
            <a:ext cx="158436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j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2000" y="2205000"/>
            <a:ext cx="158436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j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417320" y="4343400"/>
            <a:ext cx="762120" cy="12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92200" y="4313160"/>
            <a:ext cx="81144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21000"/>
            <a:ext cx="576360" cy="50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21000"/>
            <a:ext cx="576360" cy="50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4797360"/>
            <a:ext cx="108108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P(A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,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4797360"/>
            <a:ext cx="129564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P(A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,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141960" y="4373640"/>
            <a:ext cx="852480" cy="12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31040" y="4419720"/>
            <a:ext cx="770040" cy="11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4221000"/>
            <a:ext cx="576000" cy="50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67640" y="4221000"/>
            <a:ext cx="576360" cy="50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03640" y="4797360"/>
            <a:ext cx="108108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,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812000" y="4797360"/>
            <a:ext cx="108108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,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5734080"/>
            <a:ext cx="720720" cy="431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416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80000" y="5734080"/>
            <a:ext cx="863640" cy="431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082360" y="568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0D01-E8C0-41DE-9E9D-BF1C169811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klypo nuomos dia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ikomos formul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(S1)=50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75+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25=3750 L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(S2)=40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95+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05=3800 L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šv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lyginę šio kriterijaus reikšmes, matome, kad tikslinga nuomoti žemę žemės ūkio bendrija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Šis sprendimas daugiausia priklauso nuo bankroto tikimybių. Jei jos būtų žinomos, būtų gali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sirinkti geresnę strategiją ir gauti daugiau pel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L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0C88-12DA-4B15-8659-D7EE874481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pildomos informacijos paskir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okios situacijos neapibrėžtumą reikia mažin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okių veiksnių įtaką reikia tikslin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okie informacijos šaltiniai gali būti panaudo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iek tam gali prireikti laik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iek tai gali kainuo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iek tam prireiks personalo ir kitų resursų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aip pasikeistų veiklos rezultatai, jei papildoma informacija būtų panaudo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E6F5-C287-4FCE-BE63-FF918CFE51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30T12:55:19Z</dcterms:created>
  <dc:creator>-</dc:creator>
  <dc:description/>
  <dc:language>en-US</dc:language>
  <cp:lastModifiedBy>user</cp:lastModifiedBy>
  <dcterms:modified xsi:type="dcterms:W3CDTF">2009-01-19T08:41:12Z</dcterms:modified>
  <cp:revision>75</cp:revision>
  <dc:subject/>
  <dc:title>6 tema. Sprendimų medžiai</dc:title>
</cp:coreProperties>
</file>