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F15AD-32BD-46F8-90DA-42C1593A9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1208-C01C-4E8E-BC8E-9235CAF05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DE4F-50D7-44FF-9D5A-53EA8BAAC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1E5C-FBC1-4FBC-8864-88B487D9E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AD61-D3C3-4D09-909E-E81C93597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A1390-CA22-4A4F-A7A6-FD7AB707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B18A-F63C-41A6-AB73-1CBB139A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B309-D453-411A-82A9-EF915F341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72A-2DAE-4C50-AC11-30287751E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1EC6-1E63-43D7-85C4-A42D92E2D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6111-A074-467B-A159-5616A5AFC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21FB-0A1D-4141-BCAC-287928958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EBE3E-DE5E-48B6-8132-CC9D9053E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 tema. Sprendimų medži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iteratū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 S. Puškorius. Sprendimų priėmimo teorija. Kiekybiniai metodai: Vadovėlis: – Vilnius: Lietuvos teisės universiteto Leidybos centras, 2001. p.p.96-1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 S. Puškorius. Matematiniai metodai vadyboje: Vadovėlis: – Vilnius: TEV, 2001. p.p.303-324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9175-2BB4-46B5-9500-012B0B833C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pildomos informacijos vertini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Bejeso formul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Skirta įvykių tikimybėms tiksli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am atliekamas specialus eksperimentas. Jo esmė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yra grupė nesutaikomų hipotezių H1, H2, ..., H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Tų hipotezių tikimybės iki bandymo P(Hi), i=1, 2, ..., n žino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liktas eksperimentas, kurio metu įvyko įvykis 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Reikia apskaičiuoti naujas tų hipotezių tikimybių reikš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Jos randamos pagal Bejeso formulę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116D-D5F4-448F-80EA-CD3C2674442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Bejeso formu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00000"/>
                </a:solidFill>
                <a:latin typeface="Times New Roman"/>
              </a:rPr>
              <a:t>Tikimybių reikšmės po eksper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čia               - sąlyginė tikimybė, kad teisinga hipotezė Hi, jei įvyko įvykis 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(A/Hi) - sąlyginė tikimybė, kad įvyks įvykis 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iki eksperimento pradžios, kai teisinga hipotezė H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1038240" y="2098800"/>
                <a:ext cx="5843520" cy="17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/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P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/H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d>
                          </m:e>
                        </m:nary>
                      </m:den>
                    </m:f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476360" y="4071960"/>
                <a:ext cx="10098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1D80-C369-45E9-AC11-9C898620903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pildomos informacijos į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ždavinys.</a:t>
            </a:r>
            <a:r>
              <a:rPr b="1" lang="en-US" sz="2800" spc="-1" strike="noStrike">
                <a:solidFill>
                  <a:srgbClr val="000000"/>
                </a:solidFill>
                <a:latin typeface="TimesL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Žemės sklypo savininkas kreipiasi į ekonomistą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uris už 100 Lt įvertina visų pretendent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konominę padėtį ir nustato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urį iš jų pasirink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r kokia yra pasirinkto nuomininko nemokumo (vadinasi, ir mokumo) tikimybė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vininkas gali pasinaudoti šiomis rekomendacijomis arba nepasinaudo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ikia sudaryti sprendimų medį ir pagrįsti sprendim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3675-4181-4472-A3EB-C9B5AD37F5C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cijos šalti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kspertas. Jo paskirt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tikslinti nuomininkų mokos tikimyb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ksperto kvalifikacija – jo prognozių rezulta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0" y="2997360"/>
          <a:ext cx="9036000" cy="4151160"/>
        </p:xfrm>
        <a:graphic>
          <a:graphicData uri="http://schemas.openxmlformats.org/drawingml/2006/table">
            <a:tbl>
              <a:tblPr/>
              <a:tblGrid>
                <a:gridCol w="2340000"/>
                <a:gridCol w="2108160"/>
                <a:gridCol w="2428920"/>
                <a:gridCol w="215892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komen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cij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Įvyki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dras skaič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o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eig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eig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dras skaiči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438280" y="3678120"/>
                <a:ext cx="6480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4522680" y="3616200"/>
                <a:ext cx="741600" cy="63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111240" y="5175360"/>
                <a:ext cx="57600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41120" y="4484520"/>
                <a:ext cx="60804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69B3-4392-4F86-89A8-9A5BE412A88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udojami simboli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Įvykis – privatus nuomininkas sumo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Įvykis – privatus nuomininkas nesumo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kspertas praeityje rekomendavo nuomoti privači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kspertas praeityje nerekomendavo nuomoti privači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kimybė, kad privatus sumokė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kimybė, kad privatus nesumokė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ikimybė, kad kartu pasirodė įvykiai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ksperto rekomendacijų praeityje pasiskirsty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        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ipotezių (nuomininkai sumokės, nesumokės),       atsižvelgus į eksperto rekomendaciją, reikšmė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830160" y="1541520"/>
                <a:ext cx="474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808200" y="2044800"/>
                <a:ext cx="5047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147600" y="2409840"/>
                <a:ext cx="474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122400" y="2852640"/>
                <a:ext cx="509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100080" y="3341520"/>
                <a:ext cx="10508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100080" y="3770280"/>
                <a:ext cx="111924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44280" y="4216320"/>
                <a:ext cx="118764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0" y="4653000"/>
                <a:ext cx="14590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44280" y="5116680"/>
                <a:ext cx="14590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DFDD-0C94-444D-AC74-B7580CA93F0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ormacijos šaltin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91440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ksperto kvalifikacija – jo prognozių rezultat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ąlyginės tikimybė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0" y="2852640"/>
          <a:ext cx="9144000" cy="4116600"/>
        </p:xfrm>
        <a:graphic>
          <a:graphicData uri="http://schemas.openxmlformats.org/drawingml/2006/table">
            <a:tbl>
              <a:tblPr/>
              <a:tblGrid>
                <a:gridCol w="3111480"/>
                <a:gridCol w="2803680"/>
                <a:gridCol w="3228840"/>
              </a:tblGrid>
              <a:tr h="52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komen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ci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eig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eig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0" y="5084640"/>
                <a:ext cx="57636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0" y="4221000"/>
                <a:ext cx="608040" cy="57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6276960" y="1990800"/>
                <a:ext cx="1459080" cy="45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5100480" y="2867040"/>
                <a:ext cx="173052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765600" y="3522600"/>
                <a:ext cx="13683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624720" y="3510000"/>
                <a:ext cx="13953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3246480" y="4172040"/>
                <a:ext cx="87156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282840" y="4987800"/>
                <a:ext cx="87156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445080" y="4154400"/>
                <a:ext cx="6778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6588000" y="5013360"/>
                <a:ext cx="67788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AB2C-F297-41F4-AE4B-70C1FC793E5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kimybių              reikšm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kimybių, kad kartu pasirodė įvykiai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A,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iskirsty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3983040" y="558720"/>
                <a:ext cx="133812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R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26" name=""/>
          <p:cNvGraphicFramePr/>
          <p:nvPr/>
        </p:nvGraphicFramePr>
        <p:xfrm>
          <a:off x="0" y="3213000"/>
          <a:ext cx="9144000" cy="269244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2286000"/>
                <a:gridCol w="2286000"/>
              </a:tblGrid>
              <a:tr h="5522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komen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ci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Įvyki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o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eig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6x0,75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=0,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x0,25=0,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eig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4x0,75=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x0,25=0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28520" y="5329080"/>
                <a:ext cx="65088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38240" y="4632480"/>
                <a:ext cx="6080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484360" y="3857760"/>
                <a:ext cx="573120" cy="57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4726080" y="3887640"/>
                <a:ext cx="5094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7473960" y="3573360"/>
                <a:ext cx="11271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7B00-3CC2-4A56-B28F-CC4FDC5081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kimybių              reikšm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ąlyginė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ominink</a:t>
            </a: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ų mokos tikimybių pasiskirsty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tsižvelgus į eksperto vertini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3995640" y="631800"/>
                <a:ext cx="12240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35" name=""/>
          <p:cNvGraphicFramePr/>
          <p:nvPr/>
        </p:nvGraphicFramePr>
        <p:xfrm>
          <a:off x="250920" y="3068640"/>
          <a:ext cx="8353440" cy="3240000"/>
        </p:xfrm>
        <a:graphic>
          <a:graphicData uri="http://schemas.openxmlformats.org/drawingml/2006/table">
            <a:tbl>
              <a:tblPr/>
              <a:tblGrid>
                <a:gridCol w="2784240"/>
                <a:gridCol w="2784600"/>
                <a:gridCol w="2784600"/>
              </a:tblGrid>
              <a:tr h="7347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komen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cij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Įvykia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mok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teig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lt-LT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eig.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395280" y="4724280"/>
                <a:ext cx="60804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374760" y="5516640"/>
                <a:ext cx="650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3276720" y="3933720"/>
                <a:ext cx="573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"/>
              <p:cNvSpPr txBox="1"/>
              <p:nvPr/>
            </p:nvSpPr>
            <p:spPr>
              <a:xfrm>
                <a:off x="6012000" y="3933720"/>
                <a:ext cx="57312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2623-D4EC-4226-97D4-452285C28D6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ksperto nuomonės įta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34100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a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2060640"/>
            <a:ext cx="9143640" cy="4608000"/>
            <a:chOff x="0" y="2060640"/>
            <a:chExt cx="9143640" cy="4608000"/>
          </a:xfrm>
        </p:grpSpPr>
        <p:sp>
          <p:nvSpPr>
            <p:cNvPr id="143" name=""/>
            <p:cNvSpPr/>
            <p:nvPr/>
          </p:nvSpPr>
          <p:spPr>
            <a:xfrm>
              <a:off x="3206520" y="3793680"/>
              <a:ext cx="2657880" cy="2874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3510720" y="3709440"/>
              <a:ext cx="2029680" cy="2690280"/>
              <a:chOff x="3510720" y="3709440"/>
              <a:chExt cx="2029680" cy="2690280"/>
            </a:xfrm>
          </p:grpSpPr>
          <p:sp>
            <p:nvSpPr>
              <p:cNvPr id="145" name=""/>
              <p:cNvSpPr/>
              <p:nvPr/>
            </p:nvSpPr>
            <p:spPr>
              <a:xfrm>
                <a:off x="4193640" y="3709440"/>
                <a:ext cx="731160" cy="505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657240" y="4625640"/>
                <a:ext cx="585000" cy="37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845960" y="4625640"/>
                <a:ext cx="585000" cy="37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943440" y="4214880"/>
                <a:ext cx="1182600" cy="410400"/>
              </a:xfrm>
              <a:custGeom>
                <a:avLst/>
                <a:gdLst/>
                <a:ahLst/>
                <a:rect l="l" t="t" r="r" b="b"/>
                <a:pathLst>
                  <a:path w="1164" h="468">
                    <a:moveTo>
                      <a:pt x="0" y="468"/>
                    </a:moveTo>
                    <a:lnTo>
                      <a:pt x="600" y="0"/>
                    </a:lnTo>
                    <a:lnTo>
                      <a:pt x="1164" y="46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flipH="1">
                <a:off x="3510720" y="4983480"/>
                <a:ext cx="310680" cy="141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065480" y="4993920"/>
                <a:ext cx="280080" cy="140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4705200" y="4983480"/>
                <a:ext cx="310680" cy="141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260320" y="4993920"/>
                <a:ext cx="280080" cy="140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249000" y="3819240"/>
              <a:ext cx="335160" cy="268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797640" y="4377600"/>
              <a:ext cx="15667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j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090320" y="4677480"/>
              <a:ext cx="18651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50                  38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3242880" y="5115600"/>
              <a:ext cx="2172960" cy="1231200"/>
              <a:chOff x="3242880" y="5115600"/>
              <a:chExt cx="2172960" cy="1231200"/>
            </a:xfrm>
          </p:grpSpPr>
          <p:sp>
            <p:nvSpPr>
              <p:cNvPr id="157" name=""/>
              <p:cNvSpPr/>
              <p:nvPr/>
            </p:nvSpPr>
            <p:spPr>
              <a:xfrm>
                <a:off x="3242880" y="5115600"/>
                <a:ext cx="344160" cy="12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-54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/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=0,8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870720" y="5115600"/>
                <a:ext cx="344160" cy="12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-54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/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=0,19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474080" y="5115600"/>
                <a:ext cx="344160" cy="12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-54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/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=0,9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5071680" y="5115600"/>
                <a:ext cx="344160" cy="12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-54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/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=0,0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230640" y="6432120"/>
              <a:ext cx="254196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00               0    4000            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0" y="3793680"/>
              <a:ext cx="2657520" cy="2874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304200" y="3709440"/>
              <a:ext cx="2029680" cy="2690280"/>
              <a:chOff x="304200" y="3709440"/>
              <a:chExt cx="2029680" cy="2690280"/>
            </a:xfrm>
          </p:grpSpPr>
          <p:sp>
            <p:nvSpPr>
              <p:cNvPr id="164" name=""/>
              <p:cNvSpPr/>
              <p:nvPr/>
            </p:nvSpPr>
            <p:spPr>
              <a:xfrm>
                <a:off x="987120" y="3709440"/>
                <a:ext cx="731160" cy="505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0720" y="4625640"/>
                <a:ext cx="585000" cy="37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39440" y="4625640"/>
                <a:ext cx="585000" cy="37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36920" y="4214880"/>
                <a:ext cx="1182600" cy="410400"/>
              </a:xfrm>
              <a:custGeom>
                <a:avLst/>
                <a:gdLst/>
                <a:ahLst/>
                <a:rect l="l" t="t" r="r" b="b"/>
                <a:pathLst>
                  <a:path w="1164" h="468">
                    <a:moveTo>
                      <a:pt x="0" y="468"/>
                    </a:moveTo>
                    <a:lnTo>
                      <a:pt x="600" y="0"/>
                    </a:lnTo>
                    <a:lnTo>
                      <a:pt x="1164" y="46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304200" y="4983480"/>
                <a:ext cx="310680" cy="141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58960" y="4993920"/>
                <a:ext cx="280080" cy="140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1498680" y="4983480"/>
                <a:ext cx="310680" cy="141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53800" y="4993920"/>
                <a:ext cx="280080" cy="140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11880" y="3814200"/>
              <a:ext cx="3351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99720" y="4208760"/>
              <a:ext cx="88992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           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91120" y="4377600"/>
              <a:ext cx="15667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j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83800" y="4677480"/>
              <a:ext cx="18651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750                  38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36360" y="5115600"/>
              <a:ext cx="2172960" cy="1231200"/>
              <a:chOff x="36360" y="5115600"/>
              <a:chExt cx="2172960" cy="1231200"/>
            </a:xfrm>
          </p:grpSpPr>
          <p:sp>
            <p:nvSpPr>
              <p:cNvPr id="177" name=""/>
              <p:cNvSpPr/>
              <p:nvPr/>
            </p:nvSpPr>
            <p:spPr>
              <a:xfrm>
                <a:off x="36360" y="5115600"/>
                <a:ext cx="344160" cy="12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-54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=0,7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64200" y="5115600"/>
                <a:ext cx="344160" cy="12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-54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=0,2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267560" y="5115600"/>
                <a:ext cx="344160" cy="12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-54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=0,9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865160" y="5115600"/>
                <a:ext cx="344160" cy="12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-54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=0,0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>
              <a:off x="24120" y="6432120"/>
              <a:ext cx="254196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00               0    4000            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394680" y="3793680"/>
              <a:ext cx="2657880" cy="2874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6698880" y="3709440"/>
              <a:ext cx="2030400" cy="2690280"/>
              <a:chOff x="6698880" y="3709440"/>
              <a:chExt cx="2030400" cy="2690280"/>
            </a:xfrm>
          </p:grpSpPr>
          <p:sp>
            <p:nvSpPr>
              <p:cNvPr id="184" name=""/>
              <p:cNvSpPr/>
              <p:nvPr/>
            </p:nvSpPr>
            <p:spPr>
              <a:xfrm>
                <a:off x="7381800" y="3709440"/>
                <a:ext cx="731520" cy="505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845400" y="4625640"/>
                <a:ext cx="585000" cy="37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034120" y="4625640"/>
                <a:ext cx="585000" cy="3790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131960" y="4214880"/>
                <a:ext cx="1182600" cy="410400"/>
              </a:xfrm>
              <a:custGeom>
                <a:avLst/>
                <a:gdLst/>
                <a:ahLst/>
                <a:rect l="l" t="t" r="r" b="b"/>
                <a:pathLst>
                  <a:path w="1164" h="468">
                    <a:moveTo>
                      <a:pt x="0" y="468"/>
                    </a:moveTo>
                    <a:lnTo>
                      <a:pt x="600" y="0"/>
                    </a:lnTo>
                    <a:lnTo>
                      <a:pt x="1164" y="46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6698880" y="4983480"/>
                <a:ext cx="310680" cy="141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253640" y="4993920"/>
                <a:ext cx="280440" cy="140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7893720" y="4983480"/>
                <a:ext cx="311040" cy="141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448840" y="4993920"/>
                <a:ext cx="280440" cy="140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6425280" y="3824640"/>
              <a:ext cx="335160" cy="26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85800" y="4377600"/>
              <a:ext cx="15667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tegij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78480" y="4677480"/>
              <a:ext cx="186516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500                  38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6431040" y="5115600"/>
              <a:ext cx="2172960" cy="1231200"/>
              <a:chOff x="6431040" y="5115600"/>
              <a:chExt cx="2172960" cy="1231200"/>
            </a:xfrm>
          </p:grpSpPr>
          <p:sp>
            <p:nvSpPr>
              <p:cNvPr id="196" name=""/>
              <p:cNvSpPr/>
              <p:nvPr/>
            </p:nvSpPr>
            <p:spPr>
              <a:xfrm>
                <a:off x="6431040" y="5115600"/>
                <a:ext cx="344160" cy="12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-54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/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=0,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058880" y="5115600"/>
                <a:ext cx="344160" cy="12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-54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/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=0,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62240" y="5115600"/>
                <a:ext cx="344160" cy="12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-54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/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=0,9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59840" y="5115600"/>
                <a:ext cx="344160" cy="123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-54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0" i="1" lang="en-US" sz="1200" spc="-1" strike="noStrike">
                    <a:solidFill>
                      <a:srgbClr val="000000"/>
                    </a:solidFill>
                    <a:latin typeface="Arial"/>
                  </a:rPr>
                  <a:t>/R</a:t>
                </a:r>
                <a:r>
                  <a:rPr b="0" i="1" lang="en-US" sz="12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)=0,0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0" name=""/>
            <p:cNvSpPr/>
            <p:nvPr/>
          </p:nvSpPr>
          <p:spPr>
            <a:xfrm>
              <a:off x="6418800" y="6432120"/>
              <a:ext cx="2541960" cy="18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00               0    4000             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1352520" y="2060640"/>
              <a:ext cx="6382800" cy="1637640"/>
              <a:chOff x="1352520" y="2060640"/>
              <a:chExt cx="6382800" cy="1637640"/>
            </a:xfrm>
          </p:grpSpPr>
          <p:sp>
            <p:nvSpPr>
              <p:cNvPr id="202" name=""/>
              <p:cNvSpPr/>
              <p:nvPr/>
            </p:nvSpPr>
            <p:spPr>
              <a:xfrm>
                <a:off x="4199400" y="2060640"/>
                <a:ext cx="731520" cy="50544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698880" y="2612520"/>
                <a:ext cx="578880" cy="3628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flipH="1">
                <a:off x="1352520" y="2287080"/>
                <a:ext cx="2846520" cy="1411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930920" y="2287080"/>
                <a:ext cx="1785960" cy="426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4547160" y="2908440"/>
                <a:ext cx="2200320" cy="789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205040" y="2918880"/>
                <a:ext cx="530280" cy="779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284800" y="2634480"/>
                <a:ext cx="755640" cy="3211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5662440" y="2449800"/>
                <a:ext cx="0" cy="183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5443560" y="2792520"/>
              <a:ext cx="65196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6200" y="4967280"/>
              <a:ext cx="2615040" cy="19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     A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     A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        A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321320" y="2697840"/>
              <a:ext cx="117648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400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181760" y="4219560"/>
              <a:ext cx="88992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           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57680" y="4208760"/>
              <a:ext cx="889920" cy="24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            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5E9D-1A25-4E08-829C-FCD84C22AEC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lno vidurkiai 2 ir 3 stačiakampiu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 stačiakampy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(S1)=50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,81+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,19=4050 L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(S2)=40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,95+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,05=3800 L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 stačiakampy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(S1)=50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,5+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,05=2500 L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(S2)=40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,95+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,05=3800 L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čia W(S1) - vidurkis, kurį skaičiuojant panaudota papildoma informacij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47CD-5466-463A-88F2-4ABF791C41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5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2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limyb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sirenkant situacijos analizės metodą, reik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žvelgti galimų sprendimų variantų aibę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kaupti kuo daugiau informacijos apie kiekvieną iš jų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skaičiuoti (jei tai įmanoma) kiekvieno sprendimo pasekm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r pasiūlyti vieno iš tų variantų pasirinkimo metodik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ba bent jau suteikti galimybę logiškai analizuoti tų sprendimų aibę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2D5E8-84FD-4DA4-A697-2FCF2C81693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alutinės rekomendacij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ndame pelno vidurki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Kai naudojamasi eksperto rekomendacijomis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(I1)=405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,8+38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,2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=3900 L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Kai ekspertas nekviečia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(I2)=3800 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alutinis atsakymas yra tok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inaudoti eksperto paslaugomis, nes gauna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lnas yra didesnis: 3900 Lt vietoj 3800 L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e to, matome, kad ekspertui galima mokėti ne daugiau kaip 200 Lt (40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800), nes mokant daugiau pelnas bus mažesnis už 3800 L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i eksperto rekomendacija yra teigiama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ikia pasirinkti pirmą strategiją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.y. išnuomoti žemės sklypą privačiam savininkui, jei ta rekomendacija yra neigiama - išnuomoti sklypą žemės ūkio bendrij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67E5-3178-4E1C-A77F-407743BDC3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2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ždavinių sprendimas Excel aplinkoj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Įjungiame Excel program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rdelėse C2, D2, E2,... surenkame hipotezių tikimy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rdelėse C3, D3, E3,...surenkame atitinkamai sąlygines įvyki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ikimy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rdelėje C4 – =c2*c3, D4 – =d2*d3, E4 –=e2*e4,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rdelėje B2 –=c4+d4+e4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ardelėse – C5 – = c4/b2, D5 – =d4/b2, E5 – =e4/b2,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ai ieškomos tikimybė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1441-08E4-443C-B574-F76A3DC846F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cialistų atrankos atvejis pagal anglų kalbos  žinių lygmen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roblemos sprendimo planas. Reik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agrinėti tik tuos pretendentus, kurių išsilavinimas, patirtis, karjera, asmeninės savybės atitinka šioms pareigoms keliamus reikalavim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Nustatyti pretendentų anglų kalbos žinių lygmenį kaip papildomą 1 punkto reikalavim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psispręsti, kaip tas lygmuo bus vertinam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Sudaryti pretendentų atrankos sprendimų med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Apskaičiuoti įvairių sprendimų variantų pasek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grįsti papildomos informacijos paieškos poreik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koreguoti sprendimų priėmimo med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00000"/>
                </a:solidFill>
                <a:latin typeface="Times New Roman"/>
              </a:rPr>
              <a:t>Padaryti išvadas ir pateikti rekomendacij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437F-911D-4DD1-AD46-5E9A8171D9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ikiamas anglų kalbos lygmu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klauso nuo pareigybinių funkcijų, kurias turi vykdyti pretendent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šskiriami 3 lygmeny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rmas – žemiausi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tras – vidutin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r trečias – aukščiausias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7DFB-C3A7-4B51-B2E2-CF832FEA8FF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tendentų grup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tudijavę anglų kalbą mokykloje ir tobulinęsi savarankiškai (Strategija 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ankę specialius kursus (Strategija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urintys aukštąjį anglų kalbos specialybės išsilavinimą (Strategija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irbę (dirbantys) užsienyje (Strategija 4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D095-22E1-4D5B-878B-FD3DF87E8AC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rankos etap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Kai pasitikima turimais apie pretendentus duomenim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Kai pretendentai atrankos metu laiko vieną test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Kai sėkmingai įveikę pirmąjį testą pretendentai laiko antrą testą ir t.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FA65-DBBB-45E2-BC87-CF8A64ECDB2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ndimų medžio diagrama be testav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urimi duomen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2195640" y="2708280"/>
                <a:ext cx="495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2" name=""/>
          <p:cNvSpPr/>
          <p:nvPr/>
        </p:nvSpPr>
        <p:spPr>
          <a:xfrm>
            <a:off x="1619280" y="3516480"/>
            <a:ext cx="749160" cy="531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24600" y="3444840"/>
            <a:ext cx="750960" cy="531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033720" y="3527280"/>
            <a:ext cx="7509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29240" y="3527280"/>
            <a:ext cx="749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239920" y="2727360"/>
            <a:ext cx="2013120" cy="8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3516480" y="2727360"/>
            <a:ext cx="736560" cy="8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53040" y="2727360"/>
            <a:ext cx="647640" cy="7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253040" y="2727360"/>
            <a:ext cx="1807920" cy="83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920960" y="3019320"/>
            <a:ext cx="34920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127320" y="3127320"/>
            <a:ext cx="37476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056120" y="3119400"/>
            <a:ext cx="36036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134040" y="3054240"/>
            <a:ext cx="37296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2945880" y="4086360"/>
            <a:ext cx="43668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19640" y="4092480"/>
            <a:ext cx="2196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62480" y="4086360"/>
            <a:ext cx="40320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679840" y="4886280"/>
            <a:ext cx="73980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149640" y="4886280"/>
            <a:ext cx="63036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97200" y="4886280"/>
            <a:ext cx="58752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4541400" y="4073400"/>
            <a:ext cx="43812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016600" y="4078440"/>
            <a:ext cx="21960" cy="69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057640" y="4073400"/>
            <a:ext cx="403200" cy="72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76800" y="4873680"/>
            <a:ext cx="58248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745160" y="4873680"/>
            <a:ext cx="54756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92720" y="4873680"/>
            <a:ext cx="64764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5916240" y="3971880"/>
            <a:ext cx="43812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391440" y="3978360"/>
            <a:ext cx="2196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34280" y="3971880"/>
            <a:ext cx="40140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580000" y="4653000"/>
            <a:ext cx="64764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05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084720" y="4869000"/>
            <a:ext cx="648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486080" y="4064040"/>
            <a:ext cx="43632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959120" y="4068720"/>
            <a:ext cx="2052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000160" y="4064040"/>
            <a:ext cx="40320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209600" y="4857840"/>
            <a:ext cx="84132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92360" y="5157720"/>
            <a:ext cx="86652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050920" y="4869000"/>
            <a:ext cx="72072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728880" y="2160720"/>
            <a:ext cx="1130400" cy="56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tran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test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04000" y="4724280"/>
            <a:ext cx="50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927840" y="244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0" name=""/>
              <p:cNvSpPr txBox="1"/>
              <p:nvPr/>
            </p:nvSpPr>
            <p:spPr>
              <a:xfrm>
                <a:off x="5772240" y="2894040"/>
                <a:ext cx="415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189240" y="2997360"/>
                <a:ext cx="41580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4197240" y="3127320"/>
                <a:ext cx="416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FCA8-8A3D-4683-A928-D86809FCEDFA}" type="slidenum">
              <a:t>26</a:t>
            </a:fld>
          </a:p>
        </p:txBody>
      </p:sp>
    </p:spTree>
  </p:cSld>
  <p:transition>
    <p:cover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ndimų medžio diagrama 1 te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ienas te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2195640" y="2708280"/>
                <a:ext cx="495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6" name=""/>
          <p:cNvSpPr/>
          <p:nvPr/>
        </p:nvSpPr>
        <p:spPr>
          <a:xfrm>
            <a:off x="1619280" y="3516480"/>
            <a:ext cx="749160" cy="531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24600" y="3444840"/>
            <a:ext cx="750960" cy="531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033720" y="3527280"/>
            <a:ext cx="7509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29240" y="3527280"/>
            <a:ext cx="749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2239920" y="2727360"/>
            <a:ext cx="2013120" cy="8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516480" y="2727360"/>
            <a:ext cx="736560" cy="8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253040" y="2727360"/>
            <a:ext cx="647640" cy="7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253040" y="2727360"/>
            <a:ext cx="1807920" cy="83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920960" y="3019320"/>
            <a:ext cx="34920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127320" y="3127320"/>
            <a:ext cx="37476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056120" y="3119400"/>
            <a:ext cx="36036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134040" y="3054240"/>
            <a:ext cx="37296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2945880" y="4086360"/>
            <a:ext cx="43668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19640" y="4092480"/>
            <a:ext cx="2196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462480" y="4086360"/>
            <a:ext cx="40320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627280" y="4581360"/>
            <a:ext cx="73980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149640" y="4886280"/>
            <a:ext cx="63036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97200" y="4886280"/>
            <a:ext cx="58752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4541400" y="4073400"/>
            <a:ext cx="43812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016600" y="4078440"/>
            <a:ext cx="21960" cy="69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057640" y="4073400"/>
            <a:ext cx="403200" cy="72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40360" y="4724280"/>
            <a:ext cx="64764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43280" y="5084640"/>
            <a:ext cx="64800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292720" y="4873680"/>
            <a:ext cx="64764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5916240" y="3971880"/>
            <a:ext cx="43812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391440" y="3978360"/>
            <a:ext cx="2196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434280" y="3971880"/>
            <a:ext cx="40140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580000" y="4653000"/>
            <a:ext cx="64764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03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084720" y="4869000"/>
            <a:ext cx="648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1486080" y="4064040"/>
            <a:ext cx="43632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959120" y="4068720"/>
            <a:ext cx="2052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000160" y="4064040"/>
            <a:ext cx="40320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209600" y="4857840"/>
            <a:ext cx="84132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692360" y="5157720"/>
            <a:ext cx="86652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124000" y="4941720"/>
            <a:ext cx="72072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708360" y="1989000"/>
            <a:ext cx="11304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e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04000" y="4724280"/>
            <a:ext cx="72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8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927840" y="244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5772240" y="2894040"/>
                <a:ext cx="415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3189240" y="2997360"/>
                <a:ext cx="41580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4197240" y="3127320"/>
                <a:ext cx="416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9746-9120-41BC-832A-241AFFC04EF7}" type="slidenum">
              <a:t>27</a:t>
            </a:fld>
          </a:p>
        </p:txBody>
      </p:sp>
    </p:spTree>
  </p:cSld>
  <p:transition>
    <p:cover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endimų medžio diagrama 2 test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u tes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2195640" y="2708280"/>
                <a:ext cx="495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1619280" y="3516480"/>
            <a:ext cx="749160" cy="531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024600" y="3444840"/>
            <a:ext cx="750960" cy="531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033720" y="3527280"/>
            <a:ext cx="7509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629240" y="3527280"/>
            <a:ext cx="749160" cy="5335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H="1">
            <a:off x="2239920" y="2727360"/>
            <a:ext cx="2013120" cy="812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3516480" y="2727360"/>
            <a:ext cx="736560" cy="8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253040" y="2727360"/>
            <a:ext cx="647640" cy="79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53040" y="2727360"/>
            <a:ext cx="1807920" cy="83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20960" y="3019320"/>
            <a:ext cx="34920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127320" y="3127320"/>
            <a:ext cx="37476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056120" y="3119400"/>
            <a:ext cx="36036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34040" y="3054240"/>
            <a:ext cx="372960" cy="30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2945880" y="4086360"/>
            <a:ext cx="43668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419640" y="4092480"/>
            <a:ext cx="2196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462480" y="4086360"/>
            <a:ext cx="40320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627280" y="4581360"/>
            <a:ext cx="73980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49640" y="4886280"/>
            <a:ext cx="63036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697200" y="4886280"/>
            <a:ext cx="6588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541400" y="4073400"/>
            <a:ext cx="43812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016600" y="4078440"/>
            <a:ext cx="21960" cy="69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057640" y="4073400"/>
            <a:ext cx="403200" cy="72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140360" y="4653000"/>
            <a:ext cx="64764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43280" y="5084640"/>
            <a:ext cx="64800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292720" y="4873680"/>
            <a:ext cx="647640" cy="32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5916240" y="3971880"/>
            <a:ext cx="43812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391440" y="3978360"/>
            <a:ext cx="2196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434280" y="3971880"/>
            <a:ext cx="40140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580000" y="4653000"/>
            <a:ext cx="64764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02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84720" y="4869000"/>
            <a:ext cx="648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1486080" y="4064040"/>
            <a:ext cx="436320" cy="64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959120" y="4068720"/>
            <a:ext cx="20520" cy="696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00160" y="4064040"/>
            <a:ext cx="403200" cy="72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09600" y="4857840"/>
            <a:ext cx="841320" cy="32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92360" y="5157720"/>
            <a:ext cx="86652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124000" y="4941720"/>
            <a:ext cx="72072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708360" y="1989000"/>
            <a:ext cx="11304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st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804000" y="4724280"/>
            <a:ext cx="720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,8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927840" y="244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5772240" y="2894040"/>
                <a:ext cx="4158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9" name=""/>
              <p:cNvSpPr txBox="1"/>
              <p:nvPr/>
            </p:nvSpPr>
            <p:spPr>
              <a:xfrm>
                <a:off x="3189240" y="2997360"/>
                <a:ext cx="41580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0" name=""/>
              <p:cNvSpPr txBox="1"/>
              <p:nvPr/>
            </p:nvSpPr>
            <p:spPr>
              <a:xfrm>
                <a:off x="4197240" y="3127320"/>
                <a:ext cx="4161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FA33-E35C-4FD1-9E33-98E71AA55288}" type="slidenum">
              <a:t>28</a:t>
            </a:fld>
          </a:p>
        </p:txBody>
      </p:sp>
    </p:spTree>
  </p:cSld>
  <p:transition>
    <p:cover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šv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 Matome, kad situacija pateikus vieną testą ženkliai pasikeitė. Net prasčiausios pirmos grupės pirmo žinių lygmens pretendentai bus pripažinti tinkamais pusantro karto rečiau nei netestuoja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Geriausias sprendimas yra pasirinkti pretendentą iš ketvirtos grupės, nes tuo atveju net 84 proc. atrinktų tikrai atitiks norimą lygmenį. Nedaug skiriasi ir pretendentai iš trečios grupės – 77 proc. iš jų yra tinka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Jei norima dar daugiau patikimų rezultatų, galima pateikti dar vieną testą tiems, kurie išlaikė pirmąj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Matome, kad tikimybės jau nebesikeičia taip, kaip tikėtasi. Tai reiškia, kad testavimo procedūra turi savo taikymo riba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0FDD-F0AE-4142-ABB8-916B721FCB0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7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8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500" fill="hold"/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9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5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6" dur="500" fill="hold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1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ksl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grindinis sprendimų medžio tikslas – pavaizduoti visus sprendimus ir situacija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usijusias tarpusavyje įvairiais būdai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ad būtų galima pastebėti visus sprendimų variantus ir svarbiausius veiksnius bei pasirinkti atitinkamus analizės metod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ks vaizdas yra vadinam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prendimų medžio dia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3C03-59E3-4762-B8C7-C894851DD5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riežastys, dėl kurių šis metodas retai taiko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žnas specialistas nėra susipažinęs su šio metodo galimybėmi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igendama literatūros šiuo klausimu ir sėkmingų šios diagramos taikytų pavyzdžių praktinėje valdymo veikloje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ažnai manoma, kad tai tik abstraktūs samprotavimai, neturintys apčiuopiamos praktinės naud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pakankamai suvokiami kiekybiniai priimamų sprendimų vertinimo metodai, būtinybė juos itin kruopščiai atrinkti, siejant juos su konkrečia situacija ir priimamų sprendimų pasekmėm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D574-CD2F-41FE-A92B-8504BB127A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prendimų medžio diagramos elementa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šaka – vienintelė galima linija, sujungianti arba du mazgus, arba mazgą ir sprendimo rezultatą.</a:t>
            </a: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sprendimų mazgas – priimamų sprendimų taškas. Žymimas stačiakampi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įvykių mazgas– taškas, žymintis galimų situacijų aibę. Žymimas apskritimu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ir sprendimų rezultatas – kiekybinis konkrečių sprendimų ir situacijų įvertis, einant vieninteliu keliu nuo pradžios iki ga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lt-LT" sz="3200" spc="-1" strike="noStrike">
                <a:solidFill>
                  <a:srgbClr val="000000"/>
                </a:solidFill>
                <a:latin typeface="Times New Roman"/>
              </a:rPr>
              <a:t>Sprendimų medžio diagrama– įvairių sprendimų, situacijų ir jų pasekmių vaizd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109D-4249-4288-B0C0-4FC483719B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ždavin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484280"/>
            <a:ext cx="91440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Žemės sklypo savininkas sprendžia klausimą, kam jį nuomo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ra du variantai: išnuomoti privačiam savininkui ir gauti 5000 Lt pelno (strategija S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ba išnuomoti žemės ūkio bendrijai ir gauti 4000 Lt pel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strategija S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omojant žemę kiekvienu atveju galimi du variantai: nuomininkai gali sumokėti nuom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ba nesumokėti jos (bankrutuoti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Įvertintos tokių įvykių tikimybės: privatus savininkas sumokės nuomą su tikimybe P(A1)=0,75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nkrutuos (ir, vadinasi, nesumokės nuomos) su tikimybe P(A2)=0,2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žemės ūkio bendrija sumokės nuomą su tikimybe P(A3)=0,95, nesumokės jos - P(A4)=0,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D271-7886-440F-8CD5-D3417A05AF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klypo nuomos dia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prendimų med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5440" y="164772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1700280"/>
            <a:ext cx="914400" cy="771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63640" y="3500280"/>
            <a:ext cx="1008000" cy="843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32720" y="35002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2606400" y="2484360"/>
            <a:ext cx="1965240" cy="11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572000" y="2468520"/>
            <a:ext cx="2255760" cy="12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92360" y="2276640"/>
            <a:ext cx="158436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j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12000" y="2205000"/>
            <a:ext cx="1584360" cy="914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tegija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417320" y="4343400"/>
            <a:ext cx="762120" cy="124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92200" y="4313160"/>
            <a:ext cx="81144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21000"/>
            <a:ext cx="576360" cy="50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771640" y="4221000"/>
            <a:ext cx="576360" cy="50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4797360"/>
            <a:ext cx="108108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(A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,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2000" y="4797360"/>
            <a:ext cx="129564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(A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,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6141960" y="4373640"/>
            <a:ext cx="852480" cy="12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31040" y="4419720"/>
            <a:ext cx="770040" cy="11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12000" y="4221000"/>
            <a:ext cx="576000" cy="50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667640" y="4221000"/>
            <a:ext cx="576360" cy="50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03640" y="4797360"/>
            <a:ext cx="108108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,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812000" y="4797360"/>
            <a:ext cx="108108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P(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lt-LT" sz="1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0,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71640" y="5734080"/>
            <a:ext cx="720720" cy="43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34160" y="5661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580000" y="5734080"/>
            <a:ext cx="863640" cy="43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082360" y="5681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671A-75BB-4718-95ED-F695EBA812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klypo nuomos dia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ikomos formulė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(S1)=50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75+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25=3750 L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(S2)=400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95+0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0,05=3800 L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šv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lyginę šio kriterijaus reikšmes, matome, kad tikslinga nuomoti žemę žemės ūkio bendrija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Šis sprendimas daugiausia priklauso nuo bankroto tikimybių. Jei jos būtų žinomos, būtų gali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asirinkti geresnę strategiją ir gauti daugiau pel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L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ABD5-1B3E-43DD-9287-C2493F6516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apildomos informacijos paskirt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okios situacijos neapibrėžtumą reikia mažin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okių veiksnių įtaką reikia tikslin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okie informacijos šaltiniai gali būti panaudo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ek tam gali prireikti laik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ek tai gali kainuo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iek tam prireiks personalo ir kitų resursų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aip pasikeistų veiklos rezultatai, jei papildoma informacija būtų panaudo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6AA63-087B-4F16-A612-F2D481CAFD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30T12:55:19Z</dcterms:created>
  <dc:creator>-</dc:creator>
  <dc:description/>
  <dc:language>en-US</dc:language>
  <cp:lastModifiedBy>user</cp:lastModifiedBy>
  <dcterms:modified xsi:type="dcterms:W3CDTF">2009-01-19T08:41:12Z</dcterms:modified>
  <cp:revision>75</cp:revision>
  <dc:subject/>
  <dc:title>6 tema. Sprendimų medžiai</dc:title>
</cp:coreProperties>
</file>